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6B50D-E1E3-494B-8081-7B286B1B9E3A}" type="slidenum">
              <a:rPr b="0" lang="ar-EG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riting my nam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3BCA-54DB-401F-8275-7ED8C79FC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218D-3709-462C-B9B3-01E3F40D3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20D5-8CA6-4E25-8B77-0DBB8C391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5CB7-87FA-4063-ABE8-FEA8D4643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197E8-BCD3-41E0-BABA-29E4F2AFD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483DA-1C90-4AA3-AA5A-8224ACF3F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79809-4DEA-4B5C-8A84-6E551598C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2E171-0AFE-4D1B-AC8A-B36473A8E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BE987-5E7B-423A-8350-633046958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4A2E3-987A-45B5-96DF-2B0F7C844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E1BD1-42CB-4824-B7FD-BF9E5FE42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7076-BFC2-4BF6-A453-96DCA5ED2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A3B63-9CE0-4638-9541-AB2486117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1005E-063C-4D3C-B479-704B8617C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D5041-07B2-45B1-99E5-3C2973EFA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BE065-87C1-4CD2-93B4-208C83BC4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35A4D-40C2-4BF8-B190-40FFA9428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F975-DCAF-4D7C-AC3A-01C2207E0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A49D-6DDC-4A6E-86ED-94B96AB6A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AE7A-4456-4FCF-B4A2-6EC648DF3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0A0B-438B-4B57-9EC5-8C55E481D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4222-F3DC-4BA2-BB0A-B5C3D4102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8962-AEE3-412A-A08F-91641A31F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3209-0079-4577-A6A9-1E9D0FCEC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E6D2F-486E-48BA-ACBB-8C662C281F49}" type="slidenum">
              <a:rPr b="0" lang="ar-EG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551D0-935D-4D95-A94A-6CC633013790}" type="slidenum">
              <a:rPr b="0" lang="ar-EG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971640" y="3284640"/>
            <a:ext cx="6781680" cy="35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sen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66"/>
                </a:solidFill>
                <a:latin typeface="Tahoma"/>
              </a:rPr>
              <a:t>Alaa Sebeh, MD Ph.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Tahoma"/>
              </a:rPr>
              <a:t>Regional  Advocacy &amp; Social Protection  Advis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VE THE CHILDREN U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Middle East and North Afric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.sebeh@scuk-mena.com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447920" y="620640"/>
            <a:ext cx="693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Tahoma"/>
              </a:rPr>
              <a:t>Disabled Children Righ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26920" y="1916280"/>
            <a:ext cx="7086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Experiences from the Field Supporting the Proposed Draft Article 16 Suggested by the ‘International Disability Caucus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2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"/>
          <p:cNvSpPr/>
          <p:nvPr/>
        </p:nvSpPr>
        <p:spPr>
          <a:xfrm>
            <a:off x="1332000" y="189000"/>
            <a:ext cx="5545080" cy="1439640"/>
          </a:xfrm>
          <a:prstGeom prst="wedgeEllipseCallout">
            <a:avLst>
              <a:gd name="adj1" fmla="val -42527"/>
              <a:gd name="adj2" fmla="val 4603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124000" y="333360"/>
            <a:ext cx="431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Rights of CwDs to access and utilise fully adapted mainstream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4000" y="3429000"/>
            <a:ext cx="1871640" cy="2016000"/>
          </a:xfrm>
          <a:prstGeom prst="horizontalScroll">
            <a:avLst>
              <a:gd name="adj" fmla="val 12500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4360" y="3645000"/>
            <a:ext cx="1511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ased on SC UK experiences in MENA reg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3492360" y="3499920"/>
            <a:ext cx="107964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3635280" y="3860640"/>
            <a:ext cx="107964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64000" y="4724280"/>
            <a:ext cx="93492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419640" y="5013360"/>
            <a:ext cx="86508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635280" y="436572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859280" y="1844640"/>
            <a:ext cx="4284720" cy="5013360"/>
          </a:xfrm>
          <a:prstGeom prst="irregularSeal2">
            <a:avLst/>
          </a:prstGeom>
          <a:solidFill>
            <a:srgbClr val="f7a73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867280" y="2421000"/>
            <a:ext cx="223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219640" y="2781360"/>
            <a:ext cx="3311640" cy="44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-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- NO access to Public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Libraries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- 2% accessing Youth Clubs (</a:t>
            </a: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SC UK mapping research in Egyp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- Less than 2% accessing KGs / Primary Schools/ Informal Education or any forms of edu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68360" y="3213000"/>
            <a:ext cx="1511640" cy="208764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700360" y="3500280"/>
            <a:ext cx="64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68360" y="3645000"/>
            <a:ext cx="15829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Evidences   demonstrating the denial of these rights in Egyp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87280" y="40428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Rights of CwDs to express their views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&amp; recognition of their evolving capacities to exercise their rights.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122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179280" y="3068640"/>
            <a:ext cx="3456000" cy="3166920"/>
          </a:xfrm>
          <a:prstGeom prst="star5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00000" y="4005360"/>
            <a:ext cx="201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Adult Controlled Enviro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356000" y="3429000"/>
            <a:ext cx="4680000" cy="30243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3348000" y="4365720"/>
            <a:ext cx="86508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419640" y="4941720"/>
            <a:ext cx="86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348000" y="5373720"/>
            <a:ext cx="100800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76720" y="3716280"/>
            <a:ext cx="3672000" cy="28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Domination of facilitators (e.g. the Egyptian National Network of disabled Youths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Domination of Par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Domination of adults with disabil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Media personne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763640" y="2060640"/>
            <a:ext cx="6912000" cy="10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835280" y="1916280"/>
            <a:ext cx="662436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Challenges facing SC UK Mena in our attempts to promote the capacities of disabled children to voice their needs, demand their rights and decide for themselv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87280" y="40428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Rights for Birth Registr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5640" y="1844280"/>
            <a:ext cx="81993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3284640"/>
            <a:ext cx="3419640" cy="3024000"/>
          </a:xfrm>
          <a:prstGeom prst="star5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55640" y="4365720"/>
            <a:ext cx="1944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Causes of non-regist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995640" y="3357720"/>
            <a:ext cx="4969080" cy="33843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3348000" y="4365720"/>
            <a:ext cx="86508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419640" y="4941720"/>
            <a:ext cx="86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48000" y="5373720"/>
            <a:ext cx="100800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076720" y="3357720"/>
            <a:ext cx="3816360" cy="32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Registration offices are                 centralised in urban area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Parent registering a birth are required to be registered themselves. (Often the case in rural south Morocco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Costs of birth registration ( Morocco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tigmatisation of illegitimate children and discrimination of their mothers lead to non-registration (due to unwillingness to be identified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Denial of the existence of a Cw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(prevent daughter marriage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187280" y="2276640"/>
            <a:ext cx="763272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332000" y="2276640"/>
            <a:ext cx="7416720" cy="106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Children with disabilities are particularly vulnerable to non-registration, and their existence sometimes denied by their families (in Yemen and Morocco the rate is very low at 50% and 70 to 90% respectively).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87280" y="40428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Rights of CwDs not to be separated from families.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3492360" y="3284640"/>
            <a:ext cx="5651640" cy="35733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3203640" y="4149360"/>
            <a:ext cx="86508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203640" y="486900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03640" y="5445000"/>
            <a:ext cx="100800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067280" y="3789360"/>
            <a:ext cx="4968720" cy="28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Tahoma"/>
              </a:rPr>
              <a:t>Government records seldom monitor the numbers and causes of admission of children.</a:t>
            </a:r>
            <a:r>
              <a:rPr b="1" lang="en-IE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Tahoma"/>
              </a:rPr>
              <a:t>There are almost 30,000 in Morocco and 25,000 in Lebanon.</a:t>
            </a:r>
            <a:r>
              <a:rPr b="1" lang="en-IE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Tahoma"/>
              </a:rPr>
              <a:t>Over 85% of children in Lebanon, Egypt and Morocco have two parents aliv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Tahoma"/>
              </a:rPr>
              <a:t>In country X, government spends almost 70%    of its social affairs budget on direct               </a:t>
            </a:r>
            <a:r>
              <a:rPr b="1" lang="en-IE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Tahoma"/>
              </a:rPr>
              <a:t>payments to institutions.</a:t>
            </a:r>
            <a:r>
              <a:rPr b="0" lang="en-IE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547640" y="1844640"/>
            <a:ext cx="6983640" cy="144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35280" y="1916280"/>
            <a:ext cx="6624360" cy="131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66"/>
                </a:solidFill>
                <a:latin typeface="Tahoma"/>
              </a:rPr>
              <a:t>Institutionalisation of CwDs is a major challenge, SC UK research in 2001 revealed: </a:t>
            </a:r>
            <a:r>
              <a:rPr b="1" lang="en-IE" sz="1600" spc="-1" strike="noStrike">
                <a:solidFill>
                  <a:srgbClr val="000000"/>
                </a:solidFill>
                <a:latin typeface="Tahoma"/>
              </a:rPr>
              <a:t>inappropriate admissions, isolation and low self-esteem among children, low levels of educational attainment and high unemployment among care leavers, lack of protection measures, and weak quality standards.</a:t>
            </a:r>
            <a:r>
              <a:rPr b="1" lang="en-US" sz="1600" spc="-1" strike="noStrike">
                <a:solidFill>
                  <a:srgbClr val="ff0066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332000" y="3645000"/>
            <a:ext cx="1584360" cy="23050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403280" y="3716280"/>
            <a:ext cx="1440000" cy="20142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Case studies and evidences from SC UK works in ME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87280" y="40428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Rights of CwDs to be protected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348000" y="4365720"/>
            <a:ext cx="86508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419640" y="4941720"/>
            <a:ext cx="86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348000" y="5373720"/>
            <a:ext cx="100800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2060640"/>
            <a:ext cx="6624360" cy="447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Abuse can often go unrecognised and unreported due to people's attitudes</a:t>
            </a:r>
            <a:r>
              <a:rPr b="1" lang="ar-SA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and assumptions about disability (e.g. assuming that physical injury or </a:t>
            </a:r>
            <a:r>
              <a:rPr b="1" lang="ar-SA" sz="1600" spc="-1" strike="noStrike">
                <a:solidFill>
                  <a:srgbClr val="000000"/>
                </a:solidFill>
                <a:latin typeface="Tahoma"/>
              </a:rPr>
              <a:t>'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hallenging' behaviour is a result of a child's disability not</a:t>
            </a:r>
            <a:r>
              <a:rPr b="1" lang="ar-SA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indicative of abuse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abled children who've been abused rarely get justice as they are</a:t>
            </a:r>
            <a:r>
              <a:rPr b="1" lang="ar-SA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ften considered 'un-credible witnesses</a:t>
            </a:r>
            <a:r>
              <a:rPr b="1" lang="ar-SA" sz="1600" spc="-1" strike="noStrike">
                <a:solidFill>
                  <a:srgbClr val="000000"/>
                </a:solidFill>
                <a:latin typeface="Tahoma"/>
              </a:rPr>
              <a:t>'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ahoma"/>
              </a:rPr>
              <a:t>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abled children often lack the necessary language to communicate that</a:t>
            </a:r>
            <a:r>
              <a:rPr b="1" lang="ar-SA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hey are being abused</a:t>
            </a:r>
            <a:r>
              <a:rPr b="1" lang="ar-SA" sz="16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ahoma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here is a common failure to consult with disabled children about their</a:t>
            </a:r>
            <a:r>
              <a:rPr b="1" lang="ar-SA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xperiences, wishes and feelings, leaving them with little control over</a:t>
            </a:r>
            <a:r>
              <a:rPr b="1" lang="ar-SA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heir lives</a:t>
            </a:r>
            <a:r>
              <a:rPr b="1" lang="ar-SA" sz="16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urrent child protection systems and practices do not take account of</a:t>
            </a:r>
            <a:r>
              <a:rPr b="1" lang="ar-SA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he particular circumstances and needs of disabled children who are</a:t>
            </a:r>
            <a:r>
              <a:rPr b="1" lang="ar-SA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abused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5T11:38:49Z</dcterms:created>
  <dc:creator>Alaa Sebeh</dc:creator>
  <dc:description/>
  <dc:language>en-US</dc:language>
  <cp:lastModifiedBy> </cp:lastModifiedBy>
  <dcterms:modified xsi:type="dcterms:W3CDTF">2005-08-20T14:03:59Z</dcterms:modified>
  <cp:revision>83</cp:revision>
  <dc:subject/>
  <dc:title>PowerPoint Presentation</dc:title>
</cp:coreProperties>
</file>