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A91-2B60-4A33-9233-7C1EC497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E04-83FC-40C7-9AEB-BF668DEF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509-88C6-4719-B1FA-3AB5A4F3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0DA-B5C3-4B39-A9C3-931FC6B9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1141-88FC-4FDA-B590-CB0F72F4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9B6-4BDA-4FC2-BA39-734591E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77E9-344E-4997-A7FF-FFBFA1B2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4020-3F23-4BF6-8E74-A60D795C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609D-E476-4BF5-BABC-B2A82652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7AC-BDFC-4C51-9267-D87F00F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AD10-DE61-4E69-BA34-C697387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8EE-654E-46CE-B4A5-81F8D79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8107-CE70-4007-B961-A15E11A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7BB-EA9B-4872-914D-59B1C13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C441-B93A-4F97-ABA8-9C5D17B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56B6-3832-4D0F-8116-479556A0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A1C2-2CED-4550-BB3B-B59EC3C1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555-8C41-4971-817C-DAC08852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347-F4BD-4163-9D1E-E1B783F8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868-4AE2-40ED-BB8F-4485F8EE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7BB-5C13-480A-B624-8915BC01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3B7-59AB-4429-BD87-C41E718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A49-5B8B-43A0-B01D-819907FD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8E9-40EA-4F53-A785-482DE33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5889-C4F3-434F-A18D-9B3ACF64A7DF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AC8F-9B2C-4293-8854-89F24864D63A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200" spc="-1" strike="noStrike">
                <a:solidFill>
                  <a:srgbClr val="666699"/>
                </a:solidFill>
                <a:latin typeface="Comic Sans MS"/>
              </a:rPr>
              <a:t>Convention for Persons with Disabilities</a:t>
            </a:r>
            <a:endParaRPr b="0" lang="en-US" sz="5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900" spc="-1" strike="noStrike">
                <a:solidFill>
                  <a:srgbClr val="000000"/>
                </a:solidFill>
                <a:latin typeface="Comic Sans MS"/>
              </a:rPr>
              <a:t>Why the Convention is so important to u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6699"/>
                </a:solidFill>
                <a:latin typeface="Comic Sans MS"/>
              </a:rPr>
              <a:t>Inspiration</a:t>
            </a:r>
            <a:r>
              <a:rPr b="0" lang="en-NZ" sz="4400" spc="-1" strike="noStrike">
                <a:solidFill>
                  <a:srgbClr val="666699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successful Convention wil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spire us to achieve our drea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elp us to see greater possibilities in our daily li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 us feel more positive as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elp us to become the best person we can b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Comic Sans MS"/>
              </a:rPr>
              <a:t>Our lives as children</a:t>
            </a:r>
            <a:r>
              <a:rPr b="0" lang="en-US" sz="4400" spc="-1" strike="noStrike">
                <a:solidFill>
                  <a:srgbClr val="666699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vention must ensure that every child has the opportunit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w up in a family and be loved. This is more than just a right, it is essential part of growing u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w up with friends and know that they bel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ome a “child of their community” to be valued and wanted for who they are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Comic Sans MS"/>
              </a:rPr>
              <a:t>Our lives as adult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ccessful Convention will ensure that as adu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able to live in the community and be part of community li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control of our own lives and no-one else can make our decisions for 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recognised as the unique human being who we are – others do not try to change us so we fit 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6699"/>
                </a:solidFill>
                <a:latin typeface="Comic Sans MS"/>
              </a:rPr>
              <a:t>The Things we don’t want</a:t>
            </a:r>
            <a:r>
              <a:rPr b="0" lang="en-NZ" sz="4400" spc="-1" strike="noStrike">
                <a:solidFill>
                  <a:srgbClr val="666699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e don’t want anything in the convention that continues the negative labels we have had to live wi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e don’t want anything in the Convention that suggests that we are not capable, lack capacity or any other such nonse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e don’t want anything in the Convention that grants control of our lives to others because of the nature of our disabilit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6699"/>
                </a:solidFill>
                <a:latin typeface="Comic Sans MS"/>
              </a:rPr>
              <a:t>Will the Convention Succeed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think the jury is still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 of us with an intellectual disability have been inv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guage and concepts are difficult to both communicate and underst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been consulted but I am not sure we have  always been listened to.  Institutionalization is a good example of this-self advocacy wants Institutions closed but are people really liste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6699"/>
                </a:solidFill>
                <a:latin typeface="Comic Sans MS"/>
              </a:rPr>
              <a:t>A last word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ositive things have happe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influenced some deci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received tremendous support to be here from Inclusion International and DE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most of all we must feel that this Convention on Disability is ours, it belongs to us – it is part of who we a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6:25:27Z</dcterms:created>
  <dc:creator>National Office</dc:creator>
  <dc:description/>
  <dc:language>en-US</dc:language>
  <cp:lastModifiedBy>National Office</cp:lastModifiedBy>
  <dcterms:modified xsi:type="dcterms:W3CDTF">2006-01-20T20:50:02Z</dcterms:modified>
  <cp:revision>3</cp:revision>
  <dc:subject/>
  <dc:title>Convention for Persons with Disabilities</dc:title>
</cp:coreProperties>
</file>