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9A65-54D2-4B8F-AD52-6538D590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33AB-5C2C-4A00-84E1-3B00D688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18B5-DA29-4BE8-864B-3CB8B34D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C04D-F159-4B38-B043-252CCF6D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9B25-930A-4B62-BFE3-47656F6C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C96B-D7AE-4979-AFE2-42371B8F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8628-513E-4594-91F3-791F36CD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CB4D-9666-42C3-A19E-57DDC230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7736-63A4-40AA-9D30-5B5CB0A7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4B84-863A-4F3D-82F5-F65CE073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6195-07B0-45E7-8E31-62040B3B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C31-8699-49FF-B603-7F87F94A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50D6-1DD4-455E-A943-C4566522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E48E-C748-4DE2-A1D3-4E8B4603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2936-CD02-40B3-8F15-2584BE70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0168-3F99-460A-85A0-DF55FC9C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B83B-E612-4E5F-B132-B45E3708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852A-980A-4B46-A1C8-D599EE60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9BA-A4B0-4454-8515-83E2EAF6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A90A-15C8-460F-97F9-0BDF8138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6190-E8E1-485B-8841-39BB417C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4DF2-1AC7-4519-804B-4342088F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E42-BBEC-48A6-9C0D-8781693C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7FF0-3EB4-436A-A855-23E0F3BF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5BA4-FF53-4A34-9EEA-44F02AE0745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C4A1-5C3E-4A89-A71F-70559936A6A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99"/>
                </a:solidFill>
                <a:latin typeface="Tahoma"/>
              </a:rPr>
              <a:t>My Journey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2731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NZ" sz="3200" spc="-1" strike="noStrike">
                <a:solidFill>
                  <a:srgbClr val="ffffff"/>
                </a:solidFill>
                <a:latin typeface="Tahoma"/>
              </a:rPr>
              <a:t>From Zambia to the United 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Tahoma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Tahoma"/>
              </a:rPr>
              <a:t>Living with Pove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097A-1EF4-43EF-9D28-7324A1F038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920B-2E6C-4620-964E-99A021BB81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6D9D-0F56-4FF7-ABD2-0D312344AC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C405-9D20-4D7C-9D50-B34753DE04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99"/>
                </a:solidFill>
                <a:latin typeface="Tahoma"/>
              </a:rPr>
              <a:t>Who am I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My name is Quincy Mwiya and I am 29 years 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I come from Africa and live in Zamb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I am a person with an Intellectual Disability.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EB92-4016-4479-AB21-8C4831C6A3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99"/>
                </a:solidFill>
                <a:latin typeface="Tahoma"/>
              </a:rPr>
              <a:t>My Schooling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I left school because the other students thought that I could not lear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I felt very offended because I new how important education was for 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E32B-080C-44EB-B0F7-C58D5606DF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99"/>
                </a:solidFill>
                <a:latin typeface="Tahoma"/>
              </a:rPr>
              <a:t>After Leaving School</a:t>
            </a:r>
            <a:r>
              <a:rPr b="0" lang="en-AU" sz="44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After leaving school I continued to live with my fami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I was fortunate to go to a skills training sch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I trained in home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58D7-AF77-4CF2-906C-2C4460957D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99"/>
                </a:solidFill>
                <a:latin typeface="Tahoma"/>
              </a:rPr>
              <a:t>MY first Job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I got a contract job for one year with a large hotel in Zambia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I then got another job with an NGO as a Restaurant Manager.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This meant that I had to leave home and live in another tow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0C88-5673-4BB2-90A9-A3C481062D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99"/>
                </a:solidFill>
                <a:latin typeface="Tahoma"/>
              </a:rPr>
              <a:t>Living in the Community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Having a disability does not prevent us from living in the commun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We all need support from our family to learn the skills we ne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We need the opportunity to live in the community with whom we wish to li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CCA-66AA-450E-B5F5-048C8C9831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99"/>
                </a:solidFill>
                <a:latin typeface="Tahoma"/>
              </a:rPr>
              <a:t>Poverty and Disability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Tahoma"/>
              </a:rPr>
              <a:t>When we have a disability we seldom have an income like oth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Tahoma"/>
              </a:rPr>
              <a:t>We may have to get help from Charities and others who give out a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Tahoma"/>
              </a:rPr>
              <a:t>Many of us are totally reliant on our families, even we are adul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368A-FAE2-4265-B466-9AA0B5F60F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99"/>
                </a:solidFill>
                <a:latin typeface="Tahoma"/>
              </a:rPr>
              <a:t>Poverty can cause disability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Tahoma"/>
              </a:rPr>
              <a:t>Poverty is a major cause of intellectual disability, especially in developing countr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Tahoma"/>
              </a:rPr>
              <a:t>Our parents poor diet and lack of health care can lead to us being born with a dis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Tahoma"/>
              </a:rPr>
              <a:t>The environment can also cause us to be born with a dis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1016-8C3D-47D5-860D-E3BC4E5CDE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99"/>
                </a:solidFill>
                <a:latin typeface="Tahoma"/>
              </a:rPr>
              <a:t>Being Controlled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Tahoma"/>
              </a:rPr>
              <a:t>When we live in poverty others control our lives.  They decide how we will live.  They may decide what food and clothes we cab buy or we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Tahoma"/>
              </a:rPr>
              <a:t>This leads to segregation as we are no longer part of the mainstream of li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Tahoma"/>
              </a:rPr>
              <a:t>It affects all the people around us as they all have to share our poverty with 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100-7B19-4D79-94AC-CE52AEE0DD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04:13:09Z</dcterms:created>
  <dc:creator>National Office</dc:creator>
  <dc:description/>
  <dc:language>en-US</dc:language>
  <cp:lastModifiedBy>National Office</cp:lastModifiedBy>
  <dcterms:modified xsi:type="dcterms:W3CDTF">2006-01-20T20:48:37Z</dcterms:modified>
  <cp:revision>6</cp:revision>
  <dc:subject/>
  <dc:title>My Journey</dc:title>
</cp:coreProperties>
</file>