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11.wmf" ContentType="image/x-wmf"/>
  <Override PartName="/ppt/media/image9.jpeg" ContentType="image/jpeg"/>
  <Override PartName="/ppt/media/image18.gif" ContentType="image/gif"/>
  <Override PartName="/ppt/media/image17.wmf" ContentType="image/x-wmf"/>
  <Override PartName="/ppt/media/image3.wmf" ContentType="image/x-wmf"/>
  <Override PartName="/ppt/media/image15.jpeg" ContentType="image/jpeg"/>
  <Override PartName="/ppt/media/image16.wmf" ContentType="image/x-wmf"/>
  <Override PartName="/ppt/media/image14.png" ContentType="image/png"/>
  <Override PartName="/ppt/media/image1.png" ContentType="image/png"/>
  <Override PartName="/ppt/media/image2.wmf" ContentType="image/x-wmf"/>
  <Override PartName="/ppt/media/image4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49D2-A373-44A5-BEE0-99A6DB70F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5238-F407-42B0-8E04-A4375772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5423-D8ED-4B33-807C-2BAB1B891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3864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1516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3864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1516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539D-1038-44E8-9D2A-C74AD0BD4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9633-0A0D-42AF-8F71-28475E9AF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5A98-C30A-4E15-9C2B-EE5924C2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8EC3-CB51-4503-8DB3-C9964AED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CF98-9BAB-4BBC-B1E9-A9370A96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0256-CE69-47F2-BD2E-65C54A91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3342-22F3-47DC-90B5-817D98EF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1017-8852-496A-B3D9-FFC848E6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D39E-6EEE-424C-88BE-9899CA45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1AFB-5074-4373-BC2F-DAA471B8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68AD-D938-4528-B465-42ACDA97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AFAD-9E53-4F42-8D8A-853B4CF5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31FC-7803-428F-9FC9-858714F2F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3864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1516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3864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1516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81F0-C2F2-4678-BC27-629C08626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5A0601-5DCD-499A-8885-0EC9EED17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D2D81F-17AD-4BD3-B81D-62EE0B6A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B85B7D-EC28-4389-8591-25512906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4C4FAF-E8DC-4D1F-B1B6-DD42FF44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EAFC32-BE38-476D-A83D-FC251AAB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6650-31B9-41A8-A56A-2D118141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A78F4F-C0E2-4451-8118-58B960E5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A97C05-1028-433B-91A9-5C66B34F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5324AB-C581-4843-86C8-1F5D1C90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A4842D-E033-4A9B-8056-1E191280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F52497-502E-4BF6-B40E-35BF4B97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FD1D01-9B39-4EFF-89FB-28ABA8C01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3864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91516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3864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91516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D7BBA8-E02A-4793-9B48-D131D55F0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C057E-17DF-472E-BA10-948AA2669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E30BD-AA7D-4AD5-A85B-8DD52EA5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75AD7-6127-46DC-A0C4-5FB590EB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C9AB-7AD7-4314-90F2-ADCF0E77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436E7-882F-427C-A0AE-936FF54C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466AB-73C2-4F64-AAA6-DFCB6CA8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6802A-A9D8-4D8D-8D2B-4B1548F7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1ED22-B4E9-47C6-BCDA-576E6AB5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2A367-5CB9-4EA6-83E5-610605CB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CD4B5-F409-4D47-8FFB-7B3FFE49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DF391-C0EE-426D-9975-7DAE552F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EFEB3-1A6E-46D5-BE1F-8EB45291B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33864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91516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33864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591516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A2ABC-3A93-4557-BEF9-EABFF1100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2A0786-258A-46EF-BEBB-3C81D642E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4432-7149-45F5-B5E0-260F8AD3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72191E-5A35-41BB-AC2D-3DB06FAF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812409-4C74-4398-8B98-930F0D97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F97FDA-BCD3-4671-BB20-DAED13AF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CB7003-2455-4854-8BF9-C1F2D25B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6BA46E-5234-4AE7-AA29-716AF07C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0876AB-AFCC-4F2E-BFE7-17D20AEA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2E1345-4CE7-46DF-9B9C-5F31E97D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415C20-F2B5-4542-85AD-83319332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91DA9F-1874-452B-9172-70A331F7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F9AD71-6A0F-412A-ADDA-CEDD58E5E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6B4B-8554-454F-BF27-D1DA9EB7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3864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91516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3864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91516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32C0FE-174C-4C70-A79C-2EF6EF405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92A15-1DFC-4941-AC68-4D2387225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129D2-5305-45EE-8E63-61E0AEC6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59565-26F5-41B2-B314-1580AD9D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5FB09-4B7A-41F0-875D-AA38ED23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17159-0419-47F6-9FBE-BA4DDC18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4D04A-DFE1-4A87-A9BF-F79D69BA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9FCC2-2F5B-4D83-A8B1-849AEADE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B9FA7-59E5-46FF-8DD1-BD1E9826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A2A4C-7D8D-456A-9DA9-BE615ED9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76C5-9D41-48C1-9D73-0442ECDE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94D78-0C84-4B9B-ABF0-AB20CDD3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C485F-2573-4B56-B0E6-013B96880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3864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1516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3864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1516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941A7-ABE7-4B2F-8294-ECDCE93FA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0CB29B-3BD4-4884-94CC-88036E7CC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F85804-2241-446E-B9ED-B5E26624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957718-4132-498E-95A9-4D256D94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D8D8C9-3BA3-4694-BED9-9B2EEB73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C1BE39-4C9D-49B4-8C5F-0C482170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B2B338-1331-4020-BCB5-B52B43C4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607011-9701-48D8-AC92-EC67A755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B6F3-AA85-41BB-B971-CF3C7F92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AD5625-F4DE-4D09-87B5-D58BA9FC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383B3B-7122-468F-8B4A-8589FB88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0B9F43-0C26-453C-A5DC-38BD15F4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001BB6-F302-4B12-B227-C5002EFEC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3864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1516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3864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1516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081EC5-93B6-4141-8970-DB8D9184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E3595-A38F-4DB3-82E9-F4E43E4B2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23B02-2F4A-45CC-B526-8EEEC373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A09B1-A02B-411E-86B8-4B2EEF3E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1580F-EB94-4991-B129-034CF716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46C51-4615-46C9-9EFC-6560A2D6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91E4-E786-4848-ACB7-FD31A15A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52968-A829-4444-9AD2-236C1FE1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9DC6D-6F8E-4175-8CFD-2A6F8BDE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0D809-6DC1-4AB7-BDAB-5B602375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7657A-243B-4B0F-BD86-B844111F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3216C-B88A-45F1-9164-3E38F8CC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B785E-9CDE-4465-A0B7-5363BF83B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33864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91516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33864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591516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C4762-EBBE-4D32-A64A-B62DFFE0E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320" y="1066680"/>
            <a:ext cx="8991360" cy="5562720"/>
            <a:chOff x="76320" y="1066680"/>
            <a:chExt cx="8991360" cy="5562720"/>
          </a:xfrm>
        </p:grpSpPr>
        <p:grpSp>
          <p:nvGrpSpPr>
            <p:cNvPr id="1" name=""/>
            <p:cNvGrpSpPr/>
            <p:nvPr/>
          </p:nvGrpSpPr>
          <p:grpSpPr>
            <a:xfrm>
              <a:off x="152280" y="1218960"/>
              <a:ext cx="8839440" cy="5258160"/>
              <a:chOff x="152280" y="1218960"/>
              <a:chExt cx="8839440" cy="5258160"/>
            </a:xfrm>
          </p:grpSpPr>
          <p:sp>
            <p:nvSpPr>
              <p:cNvPr id="2" name=""/>
              <p:cNvSpPr/>
              <p:nvPr/>
            </p:nvSpPr>
            <p:spPr>
              <a:xfrm>
                <a:off x="304920" y="1371600"/>
                <a:ext cx="8534160" cy="4952880"/>
              </a:xfrm>
              <a:custGeom>
                <a:avLst/>
                <a:gdLst>
                  <a:gd name="textAreaLeft" fmla="*/ 267480 w 8534160"/>
                  <a:gd name="textAreaRight" fmla="*/ 8266680 w 8534160"/>
                  <a:gd name="textAreaTop" fmla="*/ 267480 h 4952880"/>
                  <a:gd name="textAreaBottom" fmla="*/ 4685400 h 4952880"/>
                </a:gdLst>
                <a:ahLst/>
                <a:rect l="textAreaLeft" t="textAreaTop" r="textAreaRight" b="textAreaBottom"/>
                <a:pathLst>
                  <a:path w="37217" h="21600">
                    <a:moveTo>
                      <a:pt x="1650" y="0"/>
                    </a:moveTo>
                    <a:arcTo wR="1650" hR="1650" stAng="0" swAng="5400000"/>
                    <a:lnTo>
                      <a:pt x="0" y="19950"/>
                    </a:lnTo>
                    <a:arcTo wR="1650" hR="1650" stAng="16200000" swAng="5400000"/>
                    <a:lnTo>
                      <a:pt x="35567" y="21600"/>
                    </a:lnTo>
                    <a:arcTo wR="1650" hR="1650" stAng="10800000" swAng="5400000"/>
                    <a:lnTo>
                      <a:pt x="37217" y="1650"/>
                    </a:lnTo>
                    <a:arcTo wR="1650" hR="1650" stAng="5400000" swAng="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rot="5400000">
                <a:off x="-1866960" y="3771720"/>
                <a:ext cx="4191120" cy="152640"/>
              </a:xfrm>
              <a:custGeom>
                <a:avLst/>
                <a:gdLst>
                  <a:gd name="textAreaLeft" fmla="*/ 1242360 w 4191120"/>
                  <a:gd name="textAreaRight" fmla="*/ 2948760 w 419112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rot="10800000">
                <a:off x="762120" y="1218600"/>
                <a:ext cx="7619760" cy="152280"/>
              </a:xfrm>
              <a:custGeom>
                <a:avLst/>
                <a:gdLst>
                  <a:gd name="textAreaLeft" fmla="*/ 2259000 w 7619760"/>
                  <a:gd name="textAreaRight" fmla="*/ 5360760 w 7619760"/>
                  <a:gd name="textAreaTop" fmla="*/ 45000 h 152280"/>
                  <a:gd name="textAreaBottom" fmla="*/ 10728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38080" y="6324480"/>
                <a:ext cx="7620120" cy="152640"/>
              </a:xfrm>
              <a:custGeom>
                <a:avLst/>
                <a:gdLst>
                  <a:gd name="textAreaLeft" fmla="*/ 2259000 w 7620120"/>
                  <a:gd name="textAreaRight" fmla="*/ 5361120 w 762012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rot="16200000">
                <a:off x="6858000" y="3733560"/>
                <a:ext cx="4114800" cy="152640"/>
              </a:xfrm>
              <a:custGeom>
                <a:avLst/>
                <a:gdLst>
                  <a:gd name="textAreaLeft" fmla="*/ 1220040 w 4114800"/>
                  <a:gd name="textAreaRight" fmla="*/ 2894760 w 411480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76320" y="1066680"/>
              <a:ext cx="761760" cy="762120"/>
              <a:chOff x="76320" y="1066680"/>
              <a:chExt cx="761760" cy="7621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0666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fc0000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2280" y="1143000"/>
                <a:ext cx="446040" cy="47952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71040" dir="2520846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8305920" y="1066680"/>
              <a:ext cx="761760" cy="762120"/>
              <a:chOff x="8305920" y="1066680"/>
              <a:chExt cx="761760" cy="762120"/>
            </a:xfrm>
          </p:grpSpPr>
          <p:sp>
            <p:nvSpPr>
              <p:cNvPr id="11" name=""/>
              <p:cNvSpPr/>
              <p:nvPr/>
            </p:nvSpPr>
            <p:spPr>
              <a:xfrm>
                <a:off x="8305920" y="10666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c0000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81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545680" y="1143000"/>
                <a:ext cx="446040" cy="47952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15171" dir="577685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76320" y="5867280"/>
              <a:ext cx="761760" cy="762120"/>
              <a:chOff x="76320" y="5867280"/>
              <a:chExt cx="761760" cy="762120"/>
            </a:xfrm>
          </p:grpSpPr>
          <p:sp>
            <p:nvSpPr>
              <p:cNvPr id="14" name=""/>
              <p:cNvSpPr/>
              <p:nvPr/>
            </p:nvSpPr>
            <p:spPr>
              <a:xfrm>
                <a:off x="76320" y="58672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fc0000"/>
                  </a:gs>
                  <a:gs pos="100000">
                    <a:srgbClr val="000000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52280" y="6073920"/>
                <a:ext cx="446040" cy="47916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27703" dir="3397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8305920" y="5867280"/>
              <a:ext cx="761760" cy="762120"/>
              <a:chOff x="8305920" y="5867280"/>
              <a:chExt cx="761760" cy="762120"/>
            </a:xfrm>
          </p:grpSpPr>
          <p:sp>
            <p:nvSpPr>
              <p:cNvPr id="17" name=""/>
              <p:cNvSpPr/>
              <p:nvPr/>
            </p:nvSpPr>
            <p:spPr>
              <a:xfrm>
                <a:off x="8305920" y="58672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c0000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534520" y="6073920"/>
                <a:ext cx="446040" cy="47916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7819" dir="81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914400" y="6477120"/>
            <a:ext cx="1371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2362320" y="6459120"/>
            <a:ext cx="41148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457680"/>
            <a:ext cx="16765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ACA9-F6F8-4643-8DE4-A0ED5B7BB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76320" y="1066680"/>
            <a:ext cx="8991360" cy="4496040"/>
            <a:chOff x="76320" y="1066680"/>
            <a:chExt cx="8991360" cy="4496040"/>
          </a:xfrm>
        </p:grpSpPr>
        <p:grpSp>
          <p:nvGrpSpPr>
            <p:cNvPr id="61" name=""/>
            <p:cNvGrpSpPr/>
            <p:nvPr/>
          </p:nvGrpSpPr>
          <p:grpSpPr>
            <a:xfrm>
              <a:off x="152280" y="1218960"/>
              <a:ext cx="8839440" cy="4115160"/>
              <a:chOff x="152280" y="1218960"/>
              <a:chExt cx="8839440" cy="4115160"/>
            </a:xfrm>
          </p:grpSpPr>
          <p:sp>
            <p:nvSpPr>
              <p:cNvPr id="62" name=""/>
              <p:cNvSpPr/>
              <p:nvPr/>
            </p:nvSpPr>
            <p:spPr>
              <a:xfrm>
                <a:off x="304920" y="1371600"/>
                <a:ext cx="8534160" cy="3809880"/>
              </a:xfrm>
              <a:custGeom>
                <a:avLst/>
                <a:gdLst>
                  <a:gd name="textAreaLeft" fmla="*/ 205560 w 8534160"/>
                  <a:gd name="textAreaRight" fmla="*/ 8328600 w 8534160"/>
                  <a:gd name="textAreaTop" fmla="*/ 205560 h 3809880"/>
                  <a:gd name="textAreaBottom" fmla="*/ 3604320 h 3809880"/>
                </a:gdLst>
                <a:ahLst/>
                <a:rect l="textAreaLeft" t="textAreaTop" r="textAreaRight" b="textAreaBottom"/>
                <a:pathLst>
                  <a:path w="48382" h="21600">
                    <a:moveTo>
                      <a:pt x="1650" y="0"/>
                    </a:moveTo>
                    <a:arcTo wR="1650" hR="1650" stAng="0" swAng="5400000"/>
                    <a:lnTo>
                      <a:pt x="0" y="19950"/>
                    </a:lnTo>
                    <a:arcTo wR="1650" hR="1650" stAng="16200000" swAng="5400000"/>
                    <a:lnTo>
                      <a:pt x="46732" y="21600"/>
                    </a:lnTo>
                    <a:arcTo wR="1650" hR="1650" stAng="10800000" swAng="5400000"/>
                    <a:lnTo>
                      <a:pt x="48382" y="1650"/>
                    </a:lnTo>
                    <a:arcTo wR="1650" hR="1650" stAng="5400000" swAng="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5400000">
                <a:off x="-1333440" y="3238200"/>
                <a:ext cx="3124440" cy="152640"/>
              </a:xfrm>
              <a:custGeom>
                <a:avLst/>
                <a:gdLst>
                  <a:gd name="textAreaLeft" fmla="*/ 926280 w 3124440"/>
                  <a:gd name="textAreaRight" fmla="*/ 2198160 w 312444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10800000">
                <a:off x="762120" y="1218600"/>
                <a:ext cx="7619760" cy="152280"/>
              </a:xfrm>
              <a:custGeom>
                <a:avLst/>
                <a:gdLst>
                  <a:gd name="textAreaLeft" fmla="*/ 2259000 w 7619760"/>
                  <a:gd name="textAreaRight" fmla="*/ 5360760 w 7619760"/>
                  <a:gd name="textAreaTop" fmla="*/ 45000 h 152280"/>
                  <a:gd name="textAreaBottom" fmla="*/ 10728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38080" y="5181480"/>
                <a:ext cx="7620120" cy="152640"/>
              </a:xfrm>
              <a:custGeom>
                <a:avLst/>
                <a:gdLst>
                  <a:gd name="textAreaLeft" fmla="*/ 2259000 w 7620120"/>
                  <a:gd name="textAreaRight" fmla="*/ 5361120 w 762012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7353000" y="3237840"/>
                <a:ext cx="3124440" cy="152640"/>
              </a:xfrm>
              <a:custGeom>
                <a:avLst/>
                <a:gdLst>
                  <a:gd name="textAreaLeft" fmla="*/ 926280 w 3124440"/>
                  <a:gd name="textAreaRight" fmla="*/ 2198160 w 312444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76320" y="1066680"/>
              <a:ext cx="761760" cy="762120"/>
              <a:chOff x="76320" y="1066680"/>
              <a:chExt cx="761760" cy="762120"/>
            </a:xfrm>
          </p:grpSpPr>
          <p:sp>
            <p:nvSpPr>
              <p:cNvPr id="68" name=""/>
              <p:cNvSpPr/>
              <p:nvPr/>
            </p:nvSpPr>
            <p:spPr>
              <a:xfrm>
                <a:off x="76320" y="10666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fc0000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52280" y="1143000"/>
                <a:ext cx="446040" cy="47952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71040" dir="2520846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8305920" y="1066680"/>
              <a:ext cx="761760" cy="762120"/>
              <a:chOff x="8305920" y="1066680"/>
              <a:chExt cx="761760" cy="762120"/>
            </a:xfrm>
          </p:grpSpPr>
          <p:sp>
            <p:nvSpPr>
              <p:cNvPr id="71" name=""/>
              <p:cNvSpPr/>
              <p:nvPr/>
            </p:nvSpPr>
            <p:spPr>
              <a:xfrm>
                <a:off x="8305920" y="10666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c0000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81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545680" y="1143000"/>
                <a:ext cx="446040" cy="47952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15171" dir="577685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76320" y="4800600"/>
              <a:ext cx="761760" cy="762120"/>
              <a:chOff x="76320" y="4800600"/>
              <a:chExt cx="761760" cy="762120"/>
            </a:xfrm>
          </p:grpSpPr>
          <p:sp>
            <p:nvSpPr>
              <p:cNvPr id="74" name=""/>
              <p:cNvSpPr/>
              <p:nvPr/>
            </p:nvSpPr>
            <p:spPr>
              <a:xfrm>
                <a:off x="76320" y="48006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fc0000"/>
                  </a:gs>
                  <a:gs pos="100000">
                    <a:srgbClr val="000000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52280" y="5007240"/>
                <a:ext cx="446040" cy="47916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27703" dir="3397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8229600" y="4800600"/>
              <a:ext cx="761760" cy="762120"/>
              <a:chOff x="8229600" y="4800600"/>
              <a:chExt cx="761760" cy="762120"/>
            </a:xfrm>
          </p:grpSpPr>
          <p:sp>
            <p:nvSpPr>
              <p:cNvPr id="77" name=""/>
              <p:cNvSpPr/>
              <p:nvPr/>
            </p:nvSpPr>
            <p:spPr>
              <a:xfrm>
                <a:off x="8229600" y="48006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c0000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458200" y="5007240"/>
                <a:ext cx="446040" cy="47916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7819" dir="81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1519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2438280" y="6248160"/>
            <a:ext cx="4267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4C6D-CA91-4ED1-BF7C-3E16C3B1B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F4B8-6E7E-4804-97CB-851E06B0F5F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8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68FE-00F8-4CC1-9193-C53DB863548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2166840" y="563400"/>
            <a:ext cx="4800600" cy="6151680"/>
            <a:chOff x="2166840" y="563400"/>
            <a:chExt cx="4800600" cy="6151680"/>
          </a:xfrm>
        </p:grpSpPr>
        <p:sp>
          <p:nvSpPr>
            <p:cNvPr id="246" name=""/>
            <p:cNvSpPr/>
            <p:nvPr/>
          </p:nvSpPr>
          <p:spPr>
            <a:xfrm>
              <a:off x="4500720" y="930240"/>
              <a:ext cx="139680" cy="1779480"/>
            </a:xfrm>
            <a:custGeom>
              <a:avLst/>
              <a:gdLst/>
              <a:ahLst/>
              <a:rect l="l" t="t" r="r" b="b"/>
              <a:pathLst>
                <a:path w="88" h="1121">
                  <a:moveTo>
                    <a:pt x="0" y="1120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085"/>
                  </a:lnTo>
                  <a:lnTo>
                    <a:pt x="0" y="1120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8920" y="3016080"/>
              <a:ext cx="133560" cy="576360"/>
            </a:xfrm>
            <a:custGeom>
              <a:avLst/>
              <a:gdLst/>
              <a:ahLst/>
              <a:rect l="l" t="t" r="r" b="b"/>
              <a:pathLst>
                <a:path w="84" h="363">
                  <a:moveTo>
                    <a:pt x="0" y="29"/>
                  </a:moveTo>
                  <a:lnTo>
                    <a:pt x="83" y="0"/>
                  </a:lnTo>
                  <a:lnTo>
                    <a:pt x="74" y="329"/>
                  </a:lnTo>
                  <a:lnTo>
                    <a:pt x="0" y="362"/>
                  </a:lnTo>
                  <a:lnTo>
                    <a:pt x="0" y="29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84520" y="3957480"/>
              <a:ext cx="133560" cy="395280"/>
            </a:xfrm>
            <a:custGeom>
              <a:avLst/>
              <a:gdLst/>
              <a:ahLst/>
              <a:rect l="l" t="t" r="r" b="b"/>
              <a:pathLst>
                <a:path w="84" h="249">
                  <a:moveTo>
                    <a:pt x="2" y="213"/>
                  </a:moveTo>
                  <a:lnTo>
                    <a:pt x="0" y="28"/>
                  </a:lnTo>
                  <a:lnTo>
                    <a:pt x="83" y="0"/>
                  </a:lnTo>
                  <a:lnTo>
                    <a:pt x="72" y="248"/>
                  </a:lnTo>
                  <a:lnTo>
                    <a:pt x="2" y="213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94240" y="4707000"/>
              <a:ext cx="82440" cy="368280"/>
            </a:xfrm>
            <a:custGeom>
              <a:avLst/>
              <a:gdLst/>
              <a:ahLst/>
              <a:rect l="l" t="t" r="r" b="b"/>
              <a:pathLst>
                <a:path w="52" h="232">
                  <a:moveTo>
                    <a:pt x="13" y="204"/>
                  </a:moveTo>
                  <a:lnTo>
                    <a:pt x="0" y="0"/>
                  </a:lnTo>
                  <a:lnTo>
                    <a:pt x="51" y="26"/>
                  </a:lnTo>
                  <a:lnTo>
                    <a:pt x="47" y="231"/>
                  </a:lnTo>
                  <a:lnTo>
                    <a:pt x="13" y="204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25920" y="5324400"/>
              <a:ext cx="57240" cy="211320"/>
            </a:xfrm>
            <a:custGeom>
              <a:avLst/>
              <a:gdLst/>
              <a:ahLst/>
              <a:rect l="l" t="t" r="r" b="b"/>
              <a:pathLst>
                <a:path w="36" h="133">
                  <a:moveTo>
                    <a:pt x="4" y="101"/>
                  </a:moveTo>
                  <a:lnTo>
                    <a:pt x="0" y="0"/>
                  </a:lnTo>
                  <a:lnTo>
                    <a:pt x="35" y="20"/>
                  </a:lnTo>
                  <a:lnTo>
                    <a:pt x="28" y="132"/>
                  </a:lnTo>
                  <a:lnTo>
                    <a:pt x="4" y="10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25920" y="5778360"/>
              <a:ext cx="47520" cy="936720"/>
            </a:xfrm>
            <a:custGeom>
              <a:avLst/>
              <a:gdLst/>
              <a:ahLst/>
              <a:rect l="l" t="t" r="r" b="b"/>
              <a:pathLst>
                <a:path w="30" h="590">
                  <a:moveTo>
                    <a:pt x="15" y="589"/>
                  </a:moveTo>
                  <a:lnTo>
                    <a:pt x="0" y="0"/>
                  </a:lnTo>
                  <a:lnTo>
                    <a:pt x="29" y="37"/>
                  </a:lnTo>
                  <a:lnTo>
                    <a:pt x="15" y="589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27400" y="5707080"/>
              <a:ext cx="370080" cy="206280"/>
            </a:xfrm>
            <a:custGeom>
              <a:avLst/>
              <a:gdLst/>
              <a:ahLst/>
              <a:rect l="l" t="t" r="r" b="b"/>
              <a:pathLst>
                <a:path w="233" h="130">
                  <a:moveTo>
                    <a:pt x="0" y="117"/>
                  </a:moveTo>
                  <a:lnTo>
                    <a:pt x="48" y="101"/>
                  </a:lnTo>
                  <a:lnTo>
                    <a:pt x="93" y="79"/>
                  </a:lnTo>
                  <a:lnTo>
                    <a:pt x="146" y="39"/>
                  </a:lnTo>
                  <a:lnTo>
                    <a:pt x="182" y="0"/>
                  </a:lnTo>
                  <a:lnTo>
                    <a:pt x="232" y="42"/>
                  </a:lnTo>
                  <a:lnTo>
                    <a:pt x="188" y="74"/>
                  </a:lnTo>
                  <a:lnTo>
                    <a:pt x="134" y="110"/>
                  </a:lnTo>
                  <a:lnTo>
                    <a:pt x="61" y="129"/>
                  </a:lnTo>
                  <a:lnTo>
                    <a:pt x="0" y="117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00400" y="4584600"/>
              <a:ext cx="738360" cy="1025640"/>
            </a:xfrm>
            <a:custGeom>
              <a:avLst/>
              <a:gdLst/>
              <a:ahLst/>
              <a:rect l="l" t="t" r="r" b="b"/>
              <a:pathLst>
                <a:path w="465" h="646">
                  <a:moveTo>
                    <a:pt x="359" y="645"/>
                  </a:moveTo>
                  <a:lnTo>
                    <a:pt x="405" y="616"/>
                  </a:lnTo>
                  <a:lnTo>
                    <a:pt x="447" y="580"/>
                  </a:lnTo>
                  <a:lnTo>
                    <a:pt x="460" y="552"/>
                  </a:lnTo>
                  <a:lnTo>
                    <a:pt x="464" y="515"/>
                  </a:lnTo>
                  <a:lnTo>
                    <a:pt x="451" y="468"/>
                  </a:lnTo>
                  <a:lnTo>
                    <a:pt x="424" y="424"/>
                  </a:lnTo>
                  <a:lnTo>
                    <a:pt x="380" y="385"/>
                  </a:lnTo>
                  <a:lnTo>
                    <a:pt x="168" y="259"/>
                  </a:lnTo>
                  <a:lnTo>
                    <a:pt x="133" y="235"/>
                  </a:lnTo>
                  <a:lnTo>
                    <a:pt x="111" y="208"/>
                  </a:lnTo>
                  <a:lnTo>
                    <a:pt x="104" y="166"/>
                  </a:lnTo>
                  <a:lnTo>
                    <a:pt x="117" y="124"/>
                  </a:lnTo>
                  <a:lnTo>
                    <a:pt x="155" y="95"/>
                  </a:lnTo>
                  <a:lnTo>
                    <a:pt x="222" y="52"/>
                  </a:lnTo>
                  <a:lnTo>
                    <a:pt x="124" y="0"/>
                  </a:lnTo>
                  <a:lnTo>
                    <a:pt x="55" y="41"/>
                  </a:lnTo>
                  <a:lnTo>
                    <a:pt x="27" y="70"/>
                  </a:lnTo>
                  <a:lnTo>
                    <a:pt x="2" y="123"/>
                  </a:lnTo>
                  <a:lnTo>
                    <a:pt x="0" y="189"/>
                  </a:lnTo>
                  <a:lnTo>
                    <a:pt x="29" y="257"/>
                  </a:lnTo>
                  <a:lnTo>
                    <a:pt x="78" y="300"/>
                  </a:lnTo>
                  <a:lnTo>
                    <a:pt x="311" y="442"/>
                  </a:lnTo>
                  <a:lnTo>
                    <a:pt x="358" y="474"/>
                  </a:lnTo>
                  <a:lnTo>
                    <a:pt x="375" y="516"/>
                  </a:lnTo>
                  <a:lnTo>
                    <a:pt x="375" y="550"/>
                  </a:lnTo>
                  <a:lnTo>
                    <a:pt x="308" y="608"/>
                  </a:lnTo>
                  <a:lnTo>
                    <a:pt x="359" y="645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08440" y="3803760"/>
              <a:ext cx="505080" cy="669960"/>
            </a:xfrm>
            <a:custGeom>
              <a:avLst/>
              <a:gdLst/>
              <a:ahLst/>
              <a:rect l="l" t="t" r="r" b="b"/>
              <a:pathLst>
                <a:path w="318" h="422">
                  <a:moveTo>
                    <a:pt x="92" y="421"/>
                  </a:moveTo>
                  <a:lnTo>
                    <a:pt x="163" y="399"/>
                  </a:lnTo>
                  <a:lnTo>
                    <a:pt x="218" y="357"/>
                  </a:lnTo>
                  <a:lnTo>
                    <a:pt x="263" y="316"/>
                  </a:lnTo>
                  <a:lnTo>
                    <a:pt x="300" y="265"/>
                  </a:lnTo>
                  <a:lnTo>
                    <a:pt x="317" y="203"/>
                  </a:lnTo>
                  <a:lnTo>
                    <a:pt x="316" y="139"/>
                  </a:lnTo>
                  <a:lnTo>
                    <a:pt x="299" y="95"/>
                  </a:lnTo>
                  <a:lnTo>
                    <a:pt x="276" y="64"/>
                  </a:lnTo>
                  <a:lnTo>
                    <a:pt x="241" y="36"/>
                  </a:lnTo>
                  <a:lnTo>
                    <a:pt x="218" y="14"/>
                  </a:lnTo>
                  <a:lnTo>
                    <a:pt x="180" y="0"/>
                  </a:lnTo>
                  <a:lnTo>
                    <a:pt x="61" y="52"/>
                  </a:lnTo>
                  <a:lnTo>
                    <a:pt x="106" y="93"/>
                  </a:lnTo>
                  <a:lnTo>
                    <a:pt x="137" y="130"/>
                  </a:lnTo>
                  <a:lnTo>
                    <a:pt x="159" y="159"/>
                  </a:lnTo>
                  <a:lnTo>
                    <a:pt x="176" y="196"/>
                  </a:lnTo>
                  <a:lnTo>
                    <a:pt x="176" y="246"/>
                  </a:lnTo>
                  <a:lnTo>
                    <a:pt x="145" y="279"/>
                  </a:lnTo>
                  <a:lnTo>
                    <a:pt x="105" y="309"/>
                  </a:lnTo>
                  <a:lnTo>
                    <a:pt x="50" y="342"/>
                  </a:lnTo>
                  <a:lnTo>
                    <a:pt x="0" y="369"/>
                  </a:lnTo>
                  <a:lnTo>
                    <a:pt x="92" y="42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64080" y="1889280"/>
              <a:ext cx="2228760" cy="1830240"/>
            </a:xfrm>
            <a:custGeom>
              <a:avLst/>
              <a:gdLst/>
              <a:ahLst/>
              <a:rect l="l" t="t" r="r" b="b"/>
              <a:pathLst>
                <a:path w="1404" h="1153">
                  <a:moveTo>
                    <a:pt x="466" y="1084"/>
                  </a:moveTo>
                  <a:lnTo>
                    <a:pt x="370" y="1066"/>
                  </a:lnTo>
                  <a:lnTo>
                    <a:pt x="299" y="1035"/>
                  </a:lnTo>
                  <a:lnTo>
                    <a:pt x="257" y="1002"/>
                  </a:lnTo>
                  <a:lnTo>
                    <a:pt x="220" y="956"/>
                  </a:lnTo>
                  <a:lnTo>
                    <a:pt x="209" y="914"/>
                  </a:lnTo>
                  <a:lnTo>
                    <a:pt x="215" y="873"/>
                  </a:lnTo>
                  <a:lnTo>
                    <a:pt x="231" y="836"/>
                  </a:lnTo>
                  <a:lnTo>
                    <a:pt x="273" y="798"/>
                  </a:lnTo>
                  <a:lnTo>
                    <a:pt x="330" y="774"/>
                  </a:lnTo>
                  <a:lnTo>
                    <a:pt x="400" y="748"/>
                  </a:lnTo>
                  <a:lnTo>
                    <a:pt x="1110" y="499"/>
                  </a:lnTo>
                  <a:lnTo>
                    <a:pt x="1207" y="451"/>
                  </a:lnTo>
                  <a:lnTo>
                    <a:pt x="1289" y="398"/>
                  </a:lnTo>
                  <a:lnTo>
                    <a:pt x="1344" y="356"/>
                  </a:lnTo>
                  <a:lnTo>
                    <a:pt x="1381" y="310"/>
                  </a:lnTo>
                  <a:lnTo>
                    <a:pt x="1403" y="249"/>
                  </a:lnTo>
                  <a:lnTo>
                    <a:pt x="1401" y="185"/>
                  </a:lnTo>
                  <a:lnTo>
                    <a:pt x="1386" y="136"/>
                  </a:lnTo>
                  <a:lnTo>
                    <a:pt x="1370" y="90"/>
                  </a:lnTo>
                  <a:lnTo>
                    <a:pt x="1335" y="55"/>
                  </a:lnTo>
                  <a:lnTo>
                    <a:pt x="1280" y="18"/>
                  </a:lnTo>
                  <a:lnTo>
                    <a:pt x="1214" y="0"/>
                  </a:lnTo>
                  <a:lnTo>
                    <a:pt x="1172" y="4"/>
                  </a:lnTo>
                  <a:lnTo>
                    <a:pt x="1111" y="7"/>
                  </a:lnTo>
                  <a:lnTo>
                    <a:pt x="1053" y="20"/>
                  </a:lnTo>
                  <a:lnTo>
                    <a:pt x="989" y="46"/>
                  </a:lnTo>
                  <a:lnTo>
                    <a:pt x="939" y="79"/>
                  </a:lnTo>
                  <a:lnTo>
                    <a:pt x="899" y="106"/>
                  </a:lnTo>
                  <a:lnTo>
                    <a:pt x="878" y="149"/>
                  </a:lnTo>
                  <a:lnTo>
                    <a:pt x="897" y="187"/>
                  </a:lnTo>
                  <a:lnTo>
                    <a:pt x="939" y="183"/>
                  </a:lnTo>
                  <a:lnTo>
                    <a:pt x="987" y="171"/>
                  </a:lnTo>
                  <a:lnTo>
                    <a:pt x="1033" y="158"/>
                  </a:lnTo>
                  <a:lnTo>
                    <a:pt x="1069" y="150"/>
                  </a:lnTo>
                  <a:lnTo>
                    <a:pt x="1111" y="150"/>
                  </a:lnTo>
                  <a:lnTo>
                    <a:pt x="1154" y="163"/>
                  </a:lnTo>
                  <a:lnTo>
                    <a:pt x="1183" y="204"/>
                  </a:lnTo>
                  <a:lnTo>
                    <a:pt x="1179" y="248"/>
                  </a:lnTo>
                  <a:lnTo>
                    <a:pt x="1157" y="286"/>
                  </a:lnTo>
                  <a:lnTo>
                    <a:pt x="1121" y="323"/>
                  </a:lnTo>
                  <a:lnTo>
                    <a:pt x="1047" y="361"/>
                  </a:lnTo>
                  <a:lnTo>
                    <a:pt x="908" y="415"/>
                  </a:lnTo>
                  <a:lnTo>
                    <a:pt x="194" y="675"/>
                  </a:lnTo>
                  <a:lnTo>
                    <a:pt x="123" y="715"/>
                  </a:lnTo>
                  <a:lnTo>
                    <a:pt x="68" y="763"/>
                  </a:lnTo>
                  <a:lnTo>
                    <a:pt x="29" y="809"/>
                  </a:lnTo>
                  <a:lnTo>
                    <a:pt x="6" y="858"/>
                  </a:lnTo>
                  <a:lnTo>
                    <a:pt x="0" y="912"/>
                  </a:lnTo>
                  <a:lnTo>
                    <a:pt x="8" y="952"/>
                  </a:lnTo>
                  <a:lnTo>
                    <a:pt x="22" y="992"/>
                  </a:lnTo>
                  <a:lnTo>
                    <a:pt x="59" y="1036"/>
                  </a:lnTo>
                  <a:lnTo>
                    <a:pt x="127" y="1095"/>
                  </a:lnTo>
                  <a:lnTo>
                    <a:pt x="198" y="1135"/>
                  </a:lnTo>
                  <a:lnTo>
                    <a:pt x="273" y="1152"/>
                  </a:lnTo>
                  <a:lnTo>
                    <a:pt x="466" y="1084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03800" y="5207040"/>
              <a:ext cx="584280" cy="669960"/>
            </a:xfrm>
            <a:custGeom>
              <a:avLst/>
              <a:gdLst/>
              <a:ahLst/>
              <a:rect l="l" t="t" r="r" b="b"/>
              <a:pathLst>
                <a:path w="368" h="422">
                  <a:moveTo>
                    <a:pt x="367" y="421"/>
                  </a:moveTo>
                  <a:lnTo>
                    <a:pt x="171" y="340"/>
                  </a:lnTo>
                  <a:lnTo>
                    <a:pt x="117" y="304"/>
                  </a:lnTo>
                  <a:lnTo>
                    <a:pt x="73" y="265"/>
                  </a:lnTo>
                  <a:lnTo>
                    <a:pt x="31" y="219"/>
                  </a:lnTo>
                  <a:lnTo>
                    <a:pt x="9" y="179"/>
                  </a:lnTo>
                  <a:lnTo>
                    <a:pt x="0" y="137"/>
                  </a:lnTo>
                  <a:lnTo>
                    <a:pt x="2" y="95"/>
                  </a:lnTo>
                  <a:lnTo>
                    <a:pt x="19" y="51"/>
                  </a:lnTo>
                  <a:lnTo>
                    <a:pt x="44" y="0"/>
                  </a:lnTo>
                  <a:lnTo>
                    <a:pt x="120" y="52"/>
                  </a:lnTo>
                  <a:lnTo>
                    <a:pt x="95" y="98"/>
                  </a:lnTo>
                  <a:lnTo>
                    <a:pt x="95" y="143"/>
                  </a:lnTo>
                  <a:lnTo>
                    <a:pt x="122" y="191"/>
                  </a:lnTo>
                  <a:lnTo>
                    <a:pt x="162" y="235"/>
                  </a:lnTo>
                  <a:lnTo>
                    <a:pt x="223" y="284"/>
                  </a:lnTo>
                  <a:lnTo>
                    <a:pt x="290" y="317"/>
                  </a:lnTo>
                  <a:lnTo>
                    <a:pt x="332" y="351"/>
                  </a:lnTo>
                  <a:lnTo>
                    <a:pt x="351" y="378"/>
                  </a:lnTo>
                  <a:lnTo>
                    <a:pt x="367" y="42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860640" y="2844720"/>
              <a:ext cx="1570320" cy="2284560"/>
            </a:xfrm>
            <a:custGeom>
              <a:avLst/>
              <a:gdLst/>
              <a:ahLst/>
              <a:rect l="l" t="t" r="r" b="b"/>
              <a:pathLst>
                <a:path w="989" h="1439">
                  <a:moveTo>
                    <a:pt x="525" y="1438"/>
                  </a:moveTo>
                  <a:lnTo>
                    <a:pt x="582" y="1409"/>
                  </a:lnTo>
                  <a:lnTo>
                    <a:pt x="647" y="1355"/>
                  </a:lnTo>
                  <a:lnTo>
                    <a:pt x="670" y="1304"/>
                  </a:lnTo>
                  <a:lnTo>
                    <a:pt x="686" y="1255"/>
                  </a:lnTo>
                  <a:lnTo>
                    <a:pt x="677" y="1198"/>
                  </a:lnTo>
                  <a:lnTo>
                    <a:pt x="637" y="1125"/>
                  </a:lnTo>
                  <a:lnTo>
                    <a:pt x="609" y="1092"/>
                  </a:lnTo>
                  <a:lnTo>
                    <a:pt x="569" y="1063"/>
                  </a:lnTo>
                  <a:lnTo>
                    <a:pt x="259" y="905"/>
                  </a:lnTo>
                  <a:lnTo>
                    <a:pt x="201" y="863"/>
                  </a:lnTo>
                  <a:lnTo>
                    <a:pt x="177" y="843"/>
                  </a:lnTo>
                  <a:lnTo>
                    <a:pt x="160" y="800"/>
                  </a:lnTo>
                  <a:lnTo>
                    <a:pt x="171" y="766"/>
                  </a:lnTo>
                  <a:lnTo>
                    <a:pt x="215" y="738"/>
                  </a:lnTo>
                  <a:lnTo>
                    <a:pt x="294" y="709"/>
                  </a:lnTo>
                  <a:lnTo>
                    <a:pt x="780" y="521"/>
                  </a:lnTo>
                  <a:lnTo>
                    <a:pt x="856" y="471"/>
                  </a:lnTo>
                  <a:lnTo>
                    <a:pt x="918" y="417"/>
                  </a:lnTo>
                  <a:lnTo>
                    <a:pt x="953" y="379"/>
                  </a:lnTo>
                  <a:lnTo>
                    <a:pt x="984" y="334"/>
                  </a:lnTo>
                  <a:lnTo>
                    <a:pt x="988" y="274"/>
                  </a:lnTo>
                  <a:lnTo>
                    <a:pt x="972" y="214"/>
                  </a:lnTo>
                  <a:lnTo>
                    <a:pt x="953" y="167"/>
                  </a:lnTo>
                  <a:lnTo>
                    <a:pt x="920" y="126"/>
                  </a:lnTo>
                  <a:lnTo>
                    <a:pt x="875" y="85"/>
                  </a:lnTo>
                  <a:lnTo>
                    <a:pt x="828" y="50"/>
                  </a:lnTo>
                  <a:lnTo>
                    <a:pt x="803" y="29"/>
                  </a:lnTo>
                  <a:lnTo>
                    <a:pt x="756" y="0"/>
                  </a:lnTo>
                  <a:lnTo>
                    <a:pt x="588" y="61"/>
                  </a:lnTo>
                  <a:lnTo>
                    <a:pt x="649" y="104"/>
                  </a:lnTo>
                  <a:lnTo>
                    <a:pt x="694" y="145"/>
                  </a:lnTo>
                  <a:lnTo>
                    <a:pt x="739" y="182"/>
                  </a:lnTo>
                  <a:lnTo>
                    <a:pt x="780" y="223"/>
                  </a:lnTo>
                  <a:lnTo>
                    <a:pt x="803" y="272"/>
                  </a:lnTo>
                  <a:lnTo>
                    <a:pt x="787" y="323"/>
                  </a:lnTo>
                  <a:lnTo>
                    <a:pt x="729" y="369"/>
                  </a:lnTo>
                  <a:lnTo>
                    <a:pt x="639" y="413"/>
                  </a:lnTo>
                  <a:lnTo>
                    <a:pt x="212" y="589"/>
                  </a:lnTo>
                  <a:lnTo>
                    <a:pt x="160" y="608"/>
                  </a:lnTo>
                  <a:lnTo>
                    <a:pt x="88" y="653"/>
                  </a:lnTo>
                  <a:lnTo>
                    <a:pt x="43" y="698"/>
                  </a:lnTo>
                  <a:lnTo>
                    <a:pt x="9" y="755"/>
                  </a:lnTo>
                  <a:lnTo>
                    <a:pt x="0" y="820"/>
                  </a:lnTo>
                  <a:lnTo>
                    <a:pt x="10" y="872"/>
                  </a:lnTo>
                  <a:lnTo>
                    <a:pt x="40" y="914"/>
                  </a:lnTo>
                  <a:lnTo>
                    <a:pt x="84" y="949"/>
                  </a:lnTo>
                  <a:lnTo>
                    <a:pt x="159" y="999"/>
                  </a:lnTo>
                  <a:lnTo>
                    <a:pt x="487" y="1164"/>
                  </a:lnTo>
                  <a:lnTo>
                    <a:pt x="530" y="1197"/>
                  </a:lnTo>
                  <a:lnTo>
                    <a:pt x="569" y="1236"/>
                  </a:lnTo>
                  <a:lnTo>
                    <a:pt x="557" y="1292"/>
                  </a:lnTo>
                  <a:lnTo>
                    <a:pt x="502" y="1354"/>
                  </a:lnTo>
                  <a:lnTo>
                    <a:pt x="434" y="1394"/>
                  </a:lnTo>
                  <a:lnTo>
                    <a:pt x="525" y="143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33600" y="1844640"/>
              <a:ext cx="1062360" cy="924120"/>
            </a:xfrm>
            <a:custGeom>
              <a:avLst/>
              <a:gdLst/>
              <a:ahLst/>
              <a:rect l="l" t="t" r="r" b="b"/>
              <a:pathLst>
                <a:path w="669" h="582">
                  <a:moveTo>
                    <a:pt x="668" y="553"/>
                  </a:moveTo>
                  <a:lnTo>
                    <a:pt x="668" y="450"/>
                  </a:lnTo>
                  <a:lnTo>
                    <a:pt x="562" y="435"/>
                  </a:lnTo>
                  <a:lnTo>
                    <a:pt x="448" y="420"/>
                  </a:lnTo>
                  <a:lnTo>
                    <a:pt x="367" y="400"/>
                  </a:lnTo>
                  <a:lnTo>
                    <a:pt x="314" y="378"/>
                  </a:lnTo>
                  <a:lnTo>
                    <a:pt x="257" y="349"/>
                  </a:lnTo>
                  <a:lnTo>
                    <a:pt x="220" y="314"/>
                  </a:lnTo>
                  <a:lnTo>
                    <a:pt x="193" y="274"/>
                  </a:lnTo>
                  <a:lnTo>
                    <a:pt x="180" y="231"/>
                  </a:lnTo>
                  <a:lnTo>
                    <a:pt x="180" y="189"/>
                  </a:lnTo>
                  <a:lnTo>
                    <a:pt x="193" y="165"/>
                  </a:lnTo>
                  <a:lnTo>
                    <a:pt x="209" y="143"/>
                  </a:lnTo>
                  <a:lnTo>
                    <a:pt x="255" y="127"/>
                  </a:lnTo>
                  <a:lnTo>
                    <a:pt x="297" y="127"/>
                  </a:lnTo>
                  <a:lnTo>
                    <a:pt x="345" y="141"/>
                  </a:lnTo>
                  <a:lnTo>
                    <a:pt x="396" y="156"/>
                  </a:lnTo>
                  <a:lnTo>
                    <a:pt x="448" y="163"/>
                  </a:lnTo>
                  <a:lnTo>
                    <a:pt x="477" y="125"/>
                  </a:lnTo>
                  <a:lnTo>
                    <a:pt x="464" y="86"/>
                  </a:lnTo>
                  <a:lnTo>
                    <a:pt x="415" y="42"/>
                  </a:lnTo>
                  <a:lnTo>
                    <a:pt x="363" y="18"/>
                  </a:lnTo>
                  <a:lnTo>
                    <a:pt x="319" y="7"/>
                  </a:lnTo>
                  <a:lnTo>
                    <a:pt x="273" y="2"/>
                  </a:lnTo>
                  <a:lnTo>
                    <a:pt x="222" y="0"/>
                  </a:lnTo>
                  <a:lnTo>
                    <a:pt x="176" y="4"/>
                  </a:lnTo>
                  <a:lnTo>
                    <a:pt x="136" y="15"/>
                  </a:lnTo>
                  <a:lnTo>
                    <a:pt x="86" y="33"/>
                  </a:lnTo>
                  <a:lnTo>
                    <a:pt x="50" y="66"/>
                  </a:lnTo>
                  <a:lnTo>
                    <a:pt x="22" y="99"/>
                  </a:lnTo>
                  <a:lnTo>
                    <a:pt x="6" y="145"/>
                  </a:lnTo>
                  <a:lnTo>
                    <a:pt x="0" y="189"/>
                  </a:lnTo>
                  <a:lnTo>
                    <a:pt x="9" y="237"/>
                  </a:lnTo>
                  <a:lnTo>
                    <a:pt x="22" y="285"/>
                  </a:lnTo>
                  <a:lnTo>
                    <a:pt x="50" y="330"/>
                  </a:lnTo>
                  <a:lnTo>
                    <a:pt x="81" y="375"/>
                  </a:lnTo>
                  <a:lnTo>
                    <a:pt x="125" y="419"/>
                  </a:lnTo>
                  <a:lnTo>
                    <a:pt x="169" y="457"/>
                  </a:lnTo>
                  <a:lnTo>
                    <a:pt x="217" y="488"/>
                  </a:lnTo>
                  <a:lnTo>
                    <a:pt x="266" y="514"/>
                  </a:lnTo>
                  <a:lnTo>
                    <a:pt x="310" y="534"/>
                  </a:lnTo>
                  <a:lnTo>
                    <a:pt x="369" y="549"/>
                  </a:lnTo>
                  <a:lnTo>
                    <a:pt x="437" y="568"/>
                  </a:lnTo>
                  <a:lnTo>
                    <a:pt x="516" y="581"/>
                  </a:lnTo>
                  <a:lnTo>
                    <a:pt x="595" y="577"/>
                  </a:lnTo>
                  <a:lnTo>
                    <a:pt x="668" y="553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166840" y="925560"/>
              <a:ext cx="2243160" cy="871560"/>
            </a:xfrm>
            <a:custGeom>
              <a:avLst/>
              <a:gdLst/>
              <a:ahLst/>
              <a:rect l="l" t="t" r="r" b="b"/>
              <a:pathLst>
                <a:path w="1413" h="549">
                  <a:moveTo>
                    <a:pt x="1412" y="548"/>
                  </a:moveTo>
                  <a:lnTo>
                    <a:pt x="1316" y="537"/>
                  </a:lnTo>
                  <a:lnTo>
                    <a:pt x="1237" y="524"/>
                  </a:lnTo>
                  <a:lnTo>
                    <a:pt x="1179" y="511"/>
                  </a:lnTo>
                  <a:lnTo>
                    <a:pt x="1118" y="499"/>
                  </a:lnTo>
                  <a:lnTo>
                    <a:pt x="1060" y="493"/>
                  </a:lnTo>
                  <a:lnTo>
                    <a:pt x="1000" y="495"/>
                  </a:lnTo>
                  <a:lnTo>
                    <a:pt x="939" y="499"/>
                  </a:lnTo>
                  <a:lnTo>
                    <a:pt x="894" y="482"/>
                  </a:lnTo>
                  <a:lnTo>
                    <a:pt x="962" y="440"/>
                  </a:lnTo>
                  <a:lnTo>
                    <a:pt x="1005" y="411"/>
                  </a:lnTo>
                  <a:lnTo>
                    <a:pt x="1043" y="381"/>
                  </a:lnTo>
                  <a:lnTo>
                    <a:pt x="1069" y="348"/>
                  </a:lnTo>
                  <a:lnTo>
                    <a:pt x="962" y="383"/>
                  </a:lnTo>
                  <a:lnTo>
                    <a:pt x="855" y="418"/>
                  </a:lnTo>
                  <a:lnTo>
                    <a:pt x="783" y="436"/>
                  </a:lnTo>
                  <a:lnTo>
                    <a:pt x="670" y="449"/>
                  </a:lnTo>
                  <a:lnTo>
                    <a:pt x="597" y="449"/>
                  </a:lnTo>
                  <a:lnTo>
                    <a:pt x="531" y="444"/>
                  </a:lnTo>
                  <a:lnTo>
                    <a:pt x="486" y="427"/>
                  </a:lnTo>
                  <a:lnTo>
                    <a:pt x="459" y="407"/>
                  </a:lnTo>
                  <a:lnTo>
                    <a:pt x="527" y="389"/>
                  </a:lnTo>
                  <a:lnTo>
                    <a:pt x="572" y="365"/>
                  </a:lnTo>
                  <a:lnTo>
                    <a:pt x="599" y="339"/>
                  </a:lnTo>
                  <a:lnTo>
                    <a:pt x="634" y="308"/>
                  </a:lnTo>
                  <a:lnTo>
                    <a:pt x="544" y="334"/>
                  </a:lnTo>
                  <a:lnTo>
                    <a:pt x="463" y="348"/>
                  </a:lnTo>
                  <a:lnTo>
                    <a:pt x="378" y="356"/>
                  </a:lnTo>
                  <a:lnTo>
                    <a:pt x="303" y="352"/>
                  </a:lnTo>
                  <a:lnTo>
                    <a:pt x="254" y="334"/>
                  </a:lnTo>
                  <a:lnTo>
                    <a:pt x="233" y="312"/>
                  </a:lnTo>
                  <a:lnTo>
                    <a:pt x="281" y="291"/>
                  </a:lnTo>
                  <a:lnTo>
                    <a:pt x="313" y="269"/>
                  </a:lnTo>
                  <a:lnTo>
                    <a:pt x="341" y="244"/>
                  </a:lnTo>
                  <a:lnTo>
                    <a:pt x="339" y="229"/>
                  </a:lnTo>
                  <a:lnTo>
                    <a:pt x="262" y="246"/>
                  </a:lnTo>
                  <a:lnTo>
                    <a:pt x="179" y="255"/>
                  </a:lnTo>
                  <a:lnTo>
                    <a:pt x="109" y="254"/>
                  </a:lnTo>
                  <a:lnTo>
                    <a:pt x="51" y="244"/>
                  </a:lnTo>
                  <a:lnTo>
                    <a:pt x="19" y="229"/>
                  </a:lnTo>
                  <a:lnTo>
                    <a:pt x="0" y="205"/>
                  </a:lnTo>
                  <a:lnTo>
                    <a:pt x="120" y="187"/>
                  </a:lnTo>
                  <a:lnTo>
                    <a:pt x="309" y="156"/>
                  </a:lnTo>
                  <a:lnTo>
                    <a:pt x="544" y="119"/>
                  </a:lnTo>
                  <a:lnTo>
                    <a:pt x="742" y="71"/>
                  </a:lnTo>
                  <a:lnTo>
                    <a:pt x="926" y="26"/>
                  </a:lnTo>
                  <a:lnTo>
                    <a:pt x="1020" y="9"/>
                  </a:lnTo>
                  <a:lnTo>
                    <a:pt x="1098" y="0"/>
                  </a:lnTo>
                  <a:lnTo>
                    <a:pt x="1165" y="2"/>
                  </a:lnTo>
                  <a:lnTo>
                    <a:pt x="1211" y="7"/>
                  </a:lnTo>
                  <a:lnTo>
                    <a:pt x="1254" y="27"/>
                  </a:lnTo>
                  <a:lnTo>
                    <a:pt x="1288" y="71"/>
                  </a:lnTo>
                  <a:lnTo>
                    <a:pt x="1301" y="117"/>
                  </a:lnTo>
                  <a:lnTo>
                    <a:pt x="1316" y="148"/>
                  </a:lnTo>
                  <a:lnTo>
                    <a:pt x="1344" y="159"/>
                  </a:lnTo>
                  <a:lnTo>
                    <a:pt x="1384" y="156"/>
                  </a:lnTo>
                  <a:lnTo>
                    <a:pt x="1412" y="145"/>
                  </a:lnTo>
                  <a:lnTo>
                    <a:pt x="1412" y="54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21160" y="563400"/>
              <a:ext cx="297000" cy="314640"/>
            </a:xfrm>
            <a:prstGeom prst="ellipse">
              <a:avLst/>
            </a:pr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24280" y="925560"/>
              <a:ext cx="2243160" cy="871560"/>
            </a:xfrm>
            <a:custGeom>
              <a:avLst/>
              <a:gdLst/>
              <a:ahLst/>
              <a:rect l="l" t="t" r="r" b="b"/>
              <a:pathLst>
                <a:path w="1413" h="549">
                  <a:moveTo>
                    <a:pt x="0" y="548"/>
                  </a:moveTo>
                  <a:lnTo>
                    <a:pt x="96" y="537"/>
                  </a:lnTo>
                  <a:lnTo>
                    <a:pt x="175" y="524"/>
                  </a:lnTo>
                  <a:lnTo>
                    <a:pt x="233" y="511"/>
                  </a:lnTo>
                  <a:lnTo>
                    <a:pt x="294" y="499"/>
                  </a:lnTo>
                  <a:lnTo>
                    <a:pt x="352" y="493"/>
                  </a:lnTo>
                  <a:lnTo>
                    <a:pt x="412" y="495"/>
                  </a:lnTo>
                  <a:lnTo>
                    <a:pt x="473" y="499"/>
                  </a:lnTo>
                  <a:lnTo>
                    <a:pt x="518" y="482"/>
                  </a:lnTo>
                  <a:lnTo>
                    <a:pt x="450" y="440"/>
                  </a:lnTo>
                  <a:lnTo>
                    <a:pt x="407" y="411"/>
                  </a:lnTo>
                  <a:lnTo>
                    <a:pt x="369" y="381"/>
                  </a:lnTo>
                  <a:lnTo>
                    <a:pt x="343" y="348"/>
                  </a:lnTo>
                  <a:lnTo>
                    <a:pt x="450" y="383"/>
                  </a:lnTo>
                  <a:lnTo>
                    <a:pt x="557" y="418"/>
                  </a:lnTo>
                  <a:lnTo>
                    <a:pt x="629" y="436"/>
                  </a:lnTo>
                  <a:lnTo>
                    <a:pt x="742" y="449"/>
                  </a:lnTo>
                  <a:lnTo>
                    <a:pt x="815" y="449"/>
                  </a:lnTo>
                  <a:lnTo>
                    <a:pt x="881" y="444"/>
                  </a:lnTo>
                  <a:lnTo>
                    <a:pt x="926" y="427"/>
                  </a:lnTo>
                  <a:lnTo>
                    <a:pt x="953" y="407"/>
                  </a:lnTo>
                  <a:lnTo>
                    <a:pt x="885" y="389"/>
                  </a:lnTo>
                  <a:lnTo>
                    <a:pt x="840" y="365"/>
                  </a:lnTo>
                  <a:lnTo>
                    <a:pt x="809" y="339"/>
                  </a:lnTo>
                  <a:lnTo>
                    <a:pt x="778" y="308"/>
                  </a:lnTo>
                  <a:lnTo>
                    <a:pt x="868" y="334"/>
                  </a:lnTo>
                  <a:lnTo>
                    <a:pt x="949" y="348"/>
                  </a:lnTo>
                  <a:lnTo>
                    <a:pt x="1034" y="356"/>
                  </a:lnTo>
                  <a:lnTo>
                    <a:pt x="1109" y="352"/>
                  </a:lnTo>
                  <a:lnTo>
                    <a:pt x="1158" y="334"/>
                  </a:lnTo>
                  <a:lnTo>
                    <a:pt x="1179" y="312"/>
                  </a:lnTo>
                  <a:lnTo>
                    <a:pt x="1131" y="291"/>
                  </a:lnTo>
                  <a:lnTo>
                    <a:pt x="1099" y="269"/>
                  </a:lnTo>
                  <a:lnTo>
                    <a:pt x="1071" y="244"/>
                  </a:lnTo>
                  <a:lnTo>
                    <a:pt x="1073" y="229"/>
                  </a:lnTo>
                  <a:lnTo>
                    <a:pt x="1150" y="246"/>
                  </a:lnTo>
                  <a:lnTo>
                    <a:pt x="1233" y="255"/>
                  </a:lnTo>
                  <a:lnTo>
                    <a:pt x="1311" y="253"/>
                  </a:lnTo>
                  <a:lnTo>
                    <a:pt x="1361" y="244"/>
                  </a:lnTo>
                  <a:lnTo>
                    <a:pt x="1393" y="229"/>
                  </a:lnTo>
                  <a:lnTo>
                    <a:pt x="1412" y="205"/>
                  </a:lnTo>
                  <a:lnTo>
                    <a:pt x="1292" y="187"/>
                  </a:lnTo>
                  <a:lnTo>
                    <a:pt x="1087" y="158"/>
                  </a:lnTo>
                  <a:lnTo>
                    <a:pt x="868" y="119"/>
                  </a:lnTo>
                  <a:lnTo>
                    <a:pt x="670" y="71"/>
                  </a:lnTo>
                  <a:lnTo>
                    <a:pt x="486" y="26"/>
                  </a:lnTo>
                  <a:lnTo>
                    <a:pt x="392" y="9"/>
                  </a:lnTo>
                  <a:lnTo>
                    <a:pt x="314" y="0"/>
                  </a:lnTo>
                  <a:lnTo>
                    <a:pt x="247" y="2"/>
                  </a:lnTo>
                  <a:lnTo>
                    <a:pt x="201" y="7"/>
                  </a:lnTo>
                  <a:lnTo>
                    <a:pt x="158" y="27"/>
                  </a:lnTo>
                  <a:lnTo>
                    <a:pt x="124" y="71"/>
                  </a:lnTo>
                  <a:lnTo>
                    <a:pt x="111" y="117"/>
                  </a:lnTo>
                  <a:lnTo>
                    <a:pt x="96" y="148"/>
                  </a:lnTo>
                  <a:lnTo>
                    <a:pt x="68" y="159"/>
                  </a:lnTo>
                  <a:lnTo>
                    <a:pt x="28" y="156"/>
                  </a:lnTo>
                  <a:lnTo>
                    <a:pt x="0" y="145"/>
                  </a:lnTo>
                  <a:lnTo>
                    <a:pt x="0" y="54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7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9E2B-A750-4588-A52A-477D01B623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2166840" y="563400"/>
            <a:ext cx="4800600" cy="6151680"/>
            <a:chOff x="2166840" y="563400"/>
            <a:chExt cx="4800600" cy="6151680"/>
          </a:xfrm>
        </p:grpSpPr>
        <p:sp>
          <p:nvSpPr>
            <p:cNvPr id="304" name=""/>
            <p:cNvSpPr/>
            <p:nvPr/>
          </p:nvSpPr>
          <p:spPr>
            <a:xfrm>
              <a:off x="4500720" y="930240"/>
              <a:ext cx="139680" cy="1779480"/>
            </a:xfrm>
            <a:custGeom>
              <a:avLst/>
              <a:gdLst/>
              <a:ahLst/>
              <a:rect l="l" t="t" r="r" b="b"/>
              <a:pathLst>
                <a:path w="88" h="1121">
                  <a:moveTo>
                    <a:pt x="0" y="1120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085"/>
                  </a:lnTo>
                  <a:lnTo>
                    <a:pt x="0" y="1120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98920" y="3016080"/>
              <a:ext cx="133560" cy="576360"/>
            </a:xfrm>
            <a:custGeom>
              <a:avLst/>
              <a:gdLst/>
              <a:ahLst/>
              <a:rect l="l" t="t" r="r" b="b"/>
              <a:pathLst>
                <a:path w="84" h="363">
                  <a:moveTo>
                    <a:pt x="0" y="29"/>
                  </a:moveTo>
                  <a:lnTo>
                    <a:pt x="83" y="0"/>
                  </a:lnTo>
                  <a:lnTo>
                    <a:pt x="74" y="329"/>
                  </a:lnTo>
                  <a:lnTo>
                    <a:pt x="0" y="362"/>
                  </a:lnTo>
                  <a:lnTo>
                    <a:pt x="0" y="29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84520" y="3957480"/>
              <a:ext cx="133560" cy="395280"/>
            </a:xfrm>
            <a:custGeom>
              <a:avLst/>
              <a:gdLst/>
              <a:ahLst/>
              <a:rect l="l" t="t" r="r" b="b"/>
              <a:pathLst>
                <a:path w="84" h="249">
                  <a:moveTo>
                    <a:pt x="2" y="213"/>
                  </a:moveTo>
                  <a:lnTo>
                    <a:pt x="0" y="28"/>
                  </a:lnTo>
                  <a:lnTo>
                    <a:pt x="83" y="0"/>
                  </a:lnTo>
                  <a:lnTo>
                    <a:pt x="72" y="248"/>
                  </a:lnTo>
                  <a:lnTo>
                    <a:pt x="2" y="213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494240" y="4707000"/>
              <a:ext cx="82440" cy="368280"/>
            </a:xfrm>
            <a:custGeom>
              <a:avLst/>
              <a:gdLst/>
              <a:ahLst/>
              <a:rect l="l" t="t" r="r" b="b"/>
              <a:pathLst>
                <a:path w="52" h="232">
                  <a:moveTo>
                    <a:pt x="13" y="204"/>
                  </a:moveTo>
                  <a:lnTo>
                    <a:pt x="0" y="0"/>
                  </a:lnTo>
                  <a:lnTo>
                    <a:pt x="51" y="26"/>
                  </a:lnTo>
                  <a:lnTo>
                    <a:pt x="47" y="231"/>
                  </a:lnTo>
                  <a:lnTo>
                    <a:pt x="13" y="204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525920" y="5324400"/>
              <a:ext cx="57240" cy="211320"/>
            </a:xfrm>
            <a:custGeom>
              <a:avLst/>
              <a:gdLst/>
              <a:ahLst/>
              <a:rect l="l" t="t" r="r" b="b"/>
              <a:pathLst>
                <a:path w="36" h="133">
                  <a:moveTo>
                    <a:pt x="4" y="101"/>
                  </a:moveTo>
                  <a:lnTo>
                    <a:pt x="0" y="0"/>
                  </a:lnTo>
                  <a:lnTo>
                    <a:pt x="35" y="20"/>
                  </a:lnTo>
                  <a:lnTo>
                    <a:pt x="28" y="132"/>
                  </a:lnTo>
                  <a:lnTo>
                    <a:pt x="4" y="10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525920" y="5778360"/>
              <a:ext cx="47520" cy="936720"/>
            </a:xfrm>
            <a:custGeom>
              <a:avLst/>
              <a:gdLst/>
              <a:ahLst/>
              <a:rect l="l" t="t" r="r" b="b"/>
              <a:pathLst>
                <a:path w="30" h="590">
                  <a:moveTo>
                    <a:pt x="15" y="589"/>
                  </a:moveTo>
                  <a:lnTo>
                    <a:pt x="0" y="0"/>
                  </a:lnTo>
                  <a:lnTo>
                    <a:pt x="29" y="37"/>
                  </a:lnTo>
                  <a:lnTo>
                    <a:pt x="15" y="589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27400" y="5707080"/>
              <a:ext cx="370080" cy="206280"/>
            </a:xfrm>
            <a:custGeom>
              <a:avLst/>
              <a:gdLst/>
              <a:ahLst/>
              <a:rect l="l" t="t" r="r" b="b"/>
              <a:pathLst>
                <a:path w="233" h="130">
                  <a:moveTo>
                    <a:pt x="0" y="117"/>
                  </a:moveTo>
                  <a:lnTo>
                    <a:pt x="48" y="101"/>
                  </a:lnTo>
                  <a:lnTo>
                    <a:pt x="93" y="79"/>
                  </a:lnTo>
                  <a:lnTo>
                    <a:pt x="146" y="39"/>
                  </a:lnTo>
                  <a:lnTo>
                    <a:pt x="182" y="0"/>
                  </a:lnTo>
                  <a:lnTo>
                    <a:pt x="232" y="42"/>
                  </a:lnTo>
                  <a:lnTo>
                    <a:pt x="188" y="74"/>
                  </a:lnTo>
                  <a:lnTo>
                    <a:pt x="134" y="110"/>
                  </a:lnTo>
                  <a:lnTo>
                    <a:pt x="61" y="129"/>
                  </a:lnTo>
                  <a:lnTo>
                    <a:pt x="0" y="117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100400" y="4584600"/>
              <a:ext cx="738360" cy="1025640"/>
            </a:xfrm>
            <a:custGeom>
              <a:avLst/>
              <a:gdLst/>
              <a:ahLst/>
              <a:rect l="l" t="t" r="r" b="b"/>
              <a:pathLst>
                <a:path w="465" h="646">
                  <a:moveTo>
                    <a:pt x="359" y="645"/>
                  </a:moveTo>
                  <a:lnTo>
                    <a:pt x="405" y="616"/>
                  </a:lnTo>
                  <a:lnTo>
                    <a:pt x="447" y="580"/>
                  </a:lnTo>
                  <a:lnTo>
                    <a:pt x="460" y="552"/>
                  </a:lnTo>
                  <a:lnTo>
                    <a:pt x="464" y="515"/>
                  </a:lnTo>
                  <a:lnTo>
                    <a:pt x="451" y="468"/>
                  </a:lnTo>
                  <a:lnTo>
                    <a:pt x="424" y="424"/>
                  </a:lnTo>
                  <a:lnTo>
                    <a:pt x="380" y="385"/>
                  </a:lnTo>
                  <a:lnTo>
                    <a:pt x="168" y="259"/>
                  </a:lnTo>
                  <a:lnTo>
                    <a:pt x="133" y="235"/>
                  </a:lnTo>
                  <a:lnTo>
                    <a:pt x="111" y="208"/>
                  </a:lnTo>
                  <a:lnTo>
                    <a:pt x="104" y="166"/>
                  </a:lnTo>
                  <a:lnTo>
                    <a:pt x="117" y="124"/>
                  </a:lnTo>
                  <a:lnTo>
                    <a:pt x="155" y="95"/>
                  </a:lnTo>
                  <a:lnTo>
                    <a:pt x="222" y="52"/>
                  </a:lnTo>
                  <a:lnTo>
                    <a:pt x="124" y="0"/>
                  </a:lnTo>
                  <a:lnTo>
                    <a:pt x="55" y="41"/>
                  </a:lnTo>
                  <a:lnTo>
                    <a:pt x="27" y="70"/>
                  </a:lnTo>
                  <a:lnTo>
                    <a:pt x="2" y="123"/>
                  </a:lnTo>
                  <a:lnTo>
                    <a:pt x="0" y="189"/>
                  </a:lnTo>
                  <a:lnTo>
                    <a:pt x="29" y="257"/>
                  </a:lnTo>
                  <a:lnTo>
                    <a:pt x="78" y="300"/>
                  </a:lnTo>
                  <a:lnTo>
                    <a:pt x="311" y="442"/>
                  </a:lnTo>
                  <a:lnTo>
                    <a:pt x="358" y="474"/>
                  </a:lnTo>
                  <a:lnTo>
                    <a:pt x="375" y="516"/>
                  </a:lnTo>
                  <a:lnTo>
                    <a:pt x="375" y="550"/>
                  </a:lnTo>
                  <a:lnTo>
                    <a:pt x="308" y="608"/>
                  </a:lnTo>
                  <a:lnTo>
                    <a:pt x="359" y="645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08440" y="3803760"/>
              <a:ext cx="505080" cy="669960"/>
            </a:xfrm>
            <a:custGeom>
              <a:avLst/>
              <a:gdLst/>
              <a:ahLst/>
              <a:rect l="l" t="t" r="r" b="b"/>
              <a:pathLst>
                <a:path w="318" h="422">
                  <a:moveTo>
                    <a:pt x="92" y="421"/>
                  </a:moveTo>
                  <a:lnTo>
                    <a:pt x="163" y="399"/>
                  </a:lnTo>
                  <a:lnTo>
                    <a:pt x="218" y="357"/>
                  </a:lnTo>
                  <a:lnTo>
                    <a:pt x="263" y="316"/>
                  </a:lnTo>
                  <a:lnTo>
                    <a:pt x="300" y="265"/>
                  </a:lnTo>
                  <a:lnTo>
                    <a:pt x="317" y="203"/>
                  </a:lnTo>
                  <a:lnTo>
                    <a:pt x="316" y="139"/>
                  </a:lnTo>
                  <a:lnTo>
                    <a:pt x="299" y="95"/>
                  </a:lnTo>
                  <a:lnTo>
                    <a:pt x="276" y="64"/>
                  </a:lnTo>
                  <a:lnTo>
                    <a:pt x="241" y="36"/>
                  </a:lnTo>
                  <a:lnTo>
                    <a:pt x="218" y="14"/>
                  </a:lnTo>
                  <a:lnTo>
                    <a:pt x="180" y="0"/>
                  </a:lnTo>
                  <a:lnTo>
                    <a:pt x="61" y="52"/>
                  </a:lnTo>
                  <a:lnTo>
                    <a:pt x="106" y="93"/>
                  </a:lnTo>
                  <a:lnTo>
                    <a:pt x="137" y="130"/>
                  </a:lnTo>
                  <a:lnTo>
                    <a:pt x="159" y="159"/>
                  </a:lnTo>
                  <a:lnTo>
                    <a:pt x="176" y="196"/>
                  </a:lnTo>
                  <a:lnTo>
                    <a:pt x="176" y="246"/>
                  </a:lnTo>
                  <a:lnTo>
                    <a:pt x="145" y="279"/>
                  </a:lnTo>
                  <a:lnTo>
                    <a:pt x="105" y="309"/>
                  </a:lnTo>
                  <a:lnTo>
                    <a:pt x="50" y="342"/>
                  </a:lnTo>
                  <a:lnTo>
                    <a:pt x="0" y="369"/>
                  </a:lnTo>
                  <a:lnTo>
                    <a:pt x="92" y="42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64080" y="1889280"/>
              <a:ext cx="2228760" cy="1830240"/>
            </a:xfrm>
            <a:custGeom>
              <a:avLst/>
              <a:gdLst/>
              <a:ahLst/>
              <a:rect l="l" t="t" r="r" b="b"/>
              <a:pathLst>
                <a:path w="1404" h="1153">
                  <a:moveTo>
                    <a:pt x="466" y="1084"/>
                  </a:moveTo>
                  <a:lnTo>
                    <a:pt x="370" y="1066"/>
                  </a:lnTo>
                  <a:lnTo>
                    <a:pt x="299" y="1035"/>
                  </a:lnTo>
                  <a:lnTo>
                    <a:pt x="257" y="1002"/>
                  </a:lnTo>
                  <a:lnTo>
                    <a:pt x="220" y="956"/>
                  </a:lnTo>
                  <a:lnTo>
                    <a:pt x="209" y="914"/>
                  </a:lnTo>
                  <a:lnTo>
                    <a:pt x="215" y="873"/>
                  </a:lnTo>
                  <a:lnTo>
                    <a:pt x="231" y="836"/>
                  </a:lnTo>
                  <a:lnTo>
                    <a:pt x="273" y="798"/>
                  </a:lnTo>
                  <a:lnTo>
                    <a:pt x="330" y="774"/>
                  </a:lnTo>
                  <a:lnTo>
                    <a:pt x="400" y="748"/>
                  </a:lnTo>
                  <a:lnTo>
                    <a:pt x="1110" y="499"/>
                  </a:lnTo>
                  <a:lnTo>
                    <a:pt x="1207" y="451"/>
                  </a:lnTo>
                  <a:lnTo>
                    <a:pt x="1289" y="398"/>
                  </a:lnTo>
                  <a:lnTo>
                    <a:pt x="1344" y="356"/>
                  </a:lnTo>
                  <a:lnTo>
                    <a:pt x="1381" y="310"/>
                  </a:lnTo>
                  <a:lnTo>
                    <a:pt x="1403" y="249"/>
                  </a:lnTo>
                  <a:lnTo>
                    <a:pt x="1401" y="185"/>
                  </a:lnTo>
                  <a:lnTo>
                    <a:pt x="1386" y="136"/>
                  </a:lnTo>
                  <a:lnTo>
                    <a:pt x="1370" y="90"/>
                  </a:lnTo>
                  <a:lnTo>
                    <a:pt x="1335" y="55"/>
                  </a:lnTo>
                  <a:lnTo>
                    <a:pt x="1280" y="18"/>
                  </a:lnTo>
                  <a:lnTo>
                    <a:pt x="1214" y="0"/>
                  </a:lnTo>
                  <a:lnTo>
                    <a:pt x="1172" y="4"/>
                  </a:lnTo>
                  <a:lnTo>
                    <a:pt x="1111" y="7"/>
                  </a:lnTo>
                  <a:lnTo>
                    <a:pt x="1053" y="20"/>
                  </a:lnTo>
                  <a:lnTo>
                    <a:pt x="989" y="46"/>
                  </a:lnTo>
                  <a:lnTo>
                    <a:pt x="939" y="79"/>
                  </a:lnTo>
                  <a:lnTo>
                    <a:pt x="899" y="106"/>
                  </a:lnTo>
                  <a:lnTo>
                    <a:pt x="878" y="149"/>
                  </a:lnTo>
                  <a:lnTo>
                    <a:pt x="897" y="187"/>
                  </a:lnTo>
                  <a:lnTo>
                    <a:pt x="939" y="183"/>
                  </a:lnTo>
                  <a:lnTo>
                    <a:pt x="987" y="171"/>
                  </a:lnTo>
                  <a:lnTo>
                    <a:pt x="1033" y="158"/>
                  </a:lnTo>
                  <a:lnTo>
                    <a:pt x="1069" y="150"/>
                  </a:lnTo>
                  <a:lnTo>
                    <a:pt x="1111" y="150"/>
                  </a:lnTo>
                  <a:lnTo>
                    <a:pt x="1154" y="163"/>
                  </a:lnTo>
                  <a:lnTo>
                    <a:pt x="1183" y="204"/>
                  </a:lnTo>
                  <a:lnTo>
                    <a:pt x="1179" y="248"/>
                  </a:lnTo>
                  <a:lnTo>
                    <a:pt x="1157" y="286"/>
                  </a:lnTo>
                  <a:lnTo>
                    <a:pt x="1121" y="323"/>
                  </a:lnTo>
                  <a:lnTo>
                    <a:pt x="1047" y="361"/>
                  </a:lnTo>
                  <a:lnTo>
                    <a:pt x="908" y="415"/>
                  </a:lnTo>
                  <a:lnTo>
                    <a:pt x="194" y="675"/>
                  </a:lnTo>
                  <a:lnTo>
                    <a:pt x="123" y="715"/>
                  </a:lnTo>
                  <a:lnTo>
                    <a:pt x="68" y="763"/>
                  </a:lnTo>
                  <a:lnTo>
                    <a:pt x="29" y="809"/>
                  </a:lnTo>
                  <a:lnTo>
                    <a:pt x="6" y="858"/>
                  </a:lnTo>
                  <a:lnTo>
                    <a:pt x="0" y="912"/>
                  </a:lnTo>
                  <a:lnTo>
                    <a:pt x="8" y="952"/>
                  </a:lnTo>
                  <a:lnTo>
                    <a:pt x="22" y="992"/>
                  </a:lnTo>
                  <a:lnTo>
                    <a:pt x="59" y="1036"/>
                  </a:lnTo>
                  <a:lnTo>
                    <a:pt x="127" y="1095"/>
                  </a:lnTo>
                  <a:lnTo>
                    <a:pt x="198" y="1135"/>
                  </a:lnTo>
                  <a:lnTo>
                    <a:pt x="273" y="1152"/>
                  </a:lnTo>
                  <a:lnTo>
                    <a:pt x="466" y="1084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303800" y="5207040"/>
              <a:ext cx="584280" cy="669960"/>
            </a:xfrm>
            <a:custGeom>
              <a:avLst/>
              <a:gdLst/>
              <a:ahLst/>
              <a:rect l="l" t="t" r="r" b="b"/>
              <a:pathLst>
                <a:path w="368" h="422">
                  <a:moveTo>
                    <a:pt x="367" y="421"/>
                  </a:moveTo>
                  <a:lnTo>
                    <a:pt x="171" y="340"/>
                  </a:lnTo>
                  <a:lnTo>
                    <a:pt x="117" y="304"/>
                  </a:lnTo>
                  <a:lnTo>
                    <a:pt x="73" y="265"/>
                  </a:lnTo>
                  <a:lnTo>
                    <a:pt x="31" y="219"/>
                  </a:lnTo>
                  <a:lnTo>
                    <a:pt x="9" y="179"/>
                  </a:lnTo>
                  <a:lnTo>
                    <a:pt x="0" y="137"/>
                  </a:lnTo>
                  <a:lnTo>
                    <a:pt x="2" y="95"/>
                  </a:lnTo>
                  <a:lnTo>
                    <a:pt x="19" y="51"/>
                  </a:lnTo>
                  <a:lnTo>
                    <a:pt x="44" y="0"/>
                  </a:lnTo>
                  <a:lnTo>
                    <a:pt x="120" y="52"/>
                  </a:lnTo>
                  <a:lnTo>
                    <a:pt x="95" y="98"/>
                  </a:lnTo>
                  <a:lnTo>
                    <a:pt x="95" y="143"/>
                  </a:lnTo>
                  <a:lnTo>
                    <a:pt x="122" y="191"/>
                  </a:lnTo>
                  <a:lnTo>
                    <a:pt x="162" y="235"/>
                  </a:lnTo>
                  <a:lnTo>
                    <a:pt x="223" y="284"/>
                  </a:lnTo>
                  <a:lnTo>
                    <a:pt x="290" y="317"/>
                  </a:lnTo>
                  <a:lnTo>
                    <a:pt x="332" y="351"/>
                  </a:lnTo>
                  <a:lnTo>
                    <a:pt x="351" y="378"/>
                  </a:lnTo>
                  <a:lnTo>
                    <a:pt x="367" y="42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860640" y="2844720"/>
              <a:ext cx="1570320" cy="2284560"/>
            </a:xfrm>
            <a:custGeom>
              <a:avLst/>
              <a:gdLst/>
              <a:ahLst/>
              <a:rect l="l" t="t" r="r" b="b"/>
              <a:pathLst>
                <a:path w="989" h="1439">
                  <a:moveTo>
                    <a:pt x="525" y="1438"/>
                  </a:moveTo>
                  <a:lnTo>
                    <a:pt x="582" y="1409"/>
                  </a:lnTo>
                  <a:lnTo>
                    <a:pt x="647" y="1355"/>
                  </a:lnTo>
                  <a:lnTo>
                    <a:pt x="670" y="1304"/>
                  </a:lnTo>
                  <a:lnTo>
                    <a:pt x="686" y="1255"/>
                  </a:lnTo>
                  <a:lnTo>
                    <a:pt x="677" y="1198"/>
                  </a:lnTo>
                  <a:lnTo>
                    <a:pt x="637" y="1125"/>
                  </a:lnTo>
                  <a:lnTo>
                    <a:pt x="609" y="1092"/>
                  </a:lnTo>
                  <a:lnTo>
                    <a:pt x="569" y="1063"/>
                  </a:lnTo>
                  <a:lnTo>
                    <a:pt x="259" y="905"/>
                  </a:lnTo>
                  <a:lnTo>
                    <a:pt x="201" y="863"/>
                  </a:lnTo>
                  <a:lnTo>
                    <a:pt x="177" y="843"/>
                  </a:lnTo>
                  <a:lnTo>
                    <a:pt x="160" y="800"/>
                  </a:lnTo>
                  <a:lnTo>
                    <a:pt x="171" y="766"/>
                  </a:lnTo>
                  <a:lnTo>
                    <a:pt x="215" y="738"/>
                  </a:lnTo>
                  <a:lnTo>
                    <a:pt x="294" y="709"/>
                  </a:lnTo>
                  <a:lnTo>
                    <a:pt x="780" y="521"/>
                  </a:lnTo>
                  <a:lnTo>
                    <a:pt x="856" y="471"/>
                  </a:lnTo>
                  <a:lnTo>
                    <a:pt x="918" y="417"/>
                  </a:lnTo>
                  <a:lnTo>
                    <a:pt x="953" y="379"/>
                  </a:lnTo>
                  <a:lnTo>
                    <a:pt x="984" y="334"/>
                  </a:lnTo>
                  <a:lnTo>
                    <a:pt x="988" y="274"/>
                  </a:lnTo>
                  <a:lnTo>
                    <a:pt x="972" y="214"/>
                  </a:lnTo>
                  <a:lnTo>
                    <a:pt x="953" y="167"/>
                  </a:lnTo>
                  <a:lnTo>
                    <a:pt x="920" y="126"/>
                  </a:lnTo>
                  <a:lnTo>
                    <a:pt x="875" y="85"/>
                  </a:lnTo>
                  <a:lnTo>
                    <a:pt x="828" y="50"/>
                  </a:lnTo>
                  <a:lnTo>
                    <a:pt x="803" y="29"/>
                  </a:lnTo>
                  <a:lnTo>
                    <a:pt x="756" y="0"/>
                  </a:lnTo>
                  <a:lnTo>
                    <a:pt x="588" y="61"/>
                  </a:lnTo>
                  <a:lnTo>
                    <a:pt x="649" y="104"/>
                  </a:lnTo>
                  <a:lnTo>
                    <a:pt x="694" y="145"/>
                  </a:lnTo>
                  <a:lnTo>
                    <a:pt x="739" y="182"/>
                  </a:lnTo>
                  <a:lnTo>
                    <a:pt x="780" y="223"/>
                  </a:lnTo>
                  <a:lnTo>
                    <a:pt x="803" y="272"/>
                  </a:lnTo>
                  <a:lnTo>
                    <a:pt x="787" y="323"/>
                  </a:lnTo>
                  <a:lnTo>
                    <a:pt x="729" y="369"/>
                  </a:lnTo>
                  <a:lnTo>
                    <a:pt x="639" y="413"/>
                  </a:lnTo>
                  <a:lnTo>
                    <a:pt x="212" y="589"/>
                  </a:lnTo>
                  <a:lnTo>
                    <a:pt x="160" y="608"/>
                  </a:lnTo>
                  <a:lnTo>
                    <a:pt x="88" y="653"/>
                  </a:lnTo>
                  <a:lnTo>
                    <a:pt x="43" y="698"/>
                  </a:lnTo>
                  <a:lnTo>
                    <a:pt x="9" y="755"/>
                  </a:lnTo>
                  <a:lnTo>
                    <a:pt x="0" y="820"/>
                  </a:lnTo>
                  <a:lnTo>
                    <a:pt x="10" y="872"/>
                  </a:lnTo>
                  <a:lnTo>
                    <a:pt x="40" y="914"/>
                  </a:lnTo>
                  <a:lnTo>
                    <a:pt x="84" y="949"/>
                  </a:lnTo>
                  <a:lnTo>
                    <a:pt x="159" y="999"/>
                  </a:lnTo>
                  <a:lnTo>
                    <a:pt x="487" y="1164"/>
                  </a:lnTo>
                  <a:lnTo>
                    <a:pt x="530" y="1197"/>
                  </a:lnTo>
                  <a:lnTo>
                    <a:pt x="569" y="1236"/>
                  </a:lnTo>
                  <a:lnTo>
                    <a:pt x="557" y="1292"/>
                  </a:lnTo>
                  <a:lnTo>
                    <a:pt x="502" y="1354"/>
                  </a:lnTo>
                  <a:lnTo>
                    <a:pt x="434" y="1394"/>
                  </a:lnTo>
                  <a:lnTo>
                    <a:pt x="525" y="143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33600" y="1844640"/>
              <a:ext cx="1062360" cy="924120"/>
            </a:xfrm>
            <a:custGeom>
              <a:avLst/>
              <a:gdLst/>
              <a:ahLst/>
              <a:rect l="l" t="t" r="r" b="b"/>
              <a:pathLst>
                <a:path w="669" h="582">
                  <a:moveTo>
                    <a:pt x="668" y="553"/>
                  </a:moveTo>
                  <a:lnTo>
                    <a:pt x="668" y="450"/>
                  </a:lnTo>
                  <a:lnTo>
                    <a:pt x="562" y="435"/>
                  </a:lnTo>
                  <a:lnTo>
                    <a:pt x="448" y="420"/>
                  </a:lnTo>
                  <a:lnTo>
                    <a:pt x="367" y="400"/>
                  </a:lnTo>
                  <a:lnTo>
                    <a:pt x="314" y="378"/>
                  </a:lnTo>
                  <a:lnTo>
                    <a:pt x="257" y="349"/>
                  </a:lnTo>
                  <a:lnTo>
                    <a:pt x="220" y="314"/>
                  </a:lnTo>
                  <a:lnTo>
                    <a:pt x="193" y="274"/>
                  </a:lnTo>
                  <a:lnTo>
                    <a:pt x="180" y="231"/>
                  </a:lnTo>
                  <a:lnTo>
                    <a:pt x="180" y="189"/>
                  </a:lnTo>
                  <a:lnTo>
                    <a:pt x="193" y="165"/>
                  </a:lnTo>
                  <a:lnTo>
                    <a:pt x="209" y="143"/>
                  </a:lnTo>
                  <a:lnTo>
                    <a:pt x="255" y="127"/>
                  </a:lnTo>
                  <a:lnTo>
                    <a:pt x="297" y="127"/>
                  </a:lnTo>
                  <a:lnTo>
                    <a:pt x="345" y="141"/>
                  </a:lnTo>
                  <a:lnTo>
                    <a:pt x="396" y="156"/>
                  </a:lnTo>
                  <a:lnTo>
                    <a:pt x="448" y="163"/>
                  </a:lnTo>
                  <a:lnTo>
                    <a:pt x="477" y="125"/>
                  </a:lnTo>
                  <a:lnTo>
                    <a:pt x="464" y="86"/>
                  </a:lnTo>
                  <a:lnTo>
                    <a:pt x="415" y="42"/>
                  </a:lnTo>
                  <a:lnTo>
                    <a:pt x="363" y="18"/>
                  </a:lnTo>
                  <a:lnTo>
                    <a:pt x="319" y="7"/>
                  </a:lnTo>
                  <a:lnTo>
                    <a:pt x="273" y="2"/>
                  </a:lnTo>
                  <a:lnTo>
                    <a:pt x="222" y="0"/>
                  </a:lnTo>
                  <a:lnTo>
                    <a:pt x="176" y="4"/>
                  </a:lnTo>
                  <a:lnTo>
                    <a:pt x="136" y="15"/>
                  </a:lnTo>
                  <a:lnTo>
                    <a:pt x="86" y="33"/>
                  </a:lnTo>
                  <a:lnTo>
                    <a:pt x="50" y="66"/>
                  </a:lnTo>
                  <a:lnTo>
                    <a:pt x="22" y="99"/>
                  </a:lnTo>
                  <a:lnTo>
                    <a:pt x="6" y="145"/>
                  </a:lnTo>
                  <a:lnTo>
                    <a:pt x="0" y="189"/>
                  </a:lnTo>
                  <a:lnTo>
                    <a:pt x="9" y="237"/>
                  </a:lnTo>
                  <a:lnTo>
                    <a:pt x="22" y="285"/>
                  </a:lnTo>
                  <a:lnTo>
                    <a:pt x="50" y="330"/>
                  </a:lnTo>
                  <a:lnTo>
                    <a:pt x="81" y="375"/>
                  </a:lnTo>
                  <a:lnTo>
                    <a:pt x="125" y="419"/>
                  </a:lnTo>
                  <a:lnTo>
                    <a:pt x="169" y="457"/>
                  </a:lnTo>
                  <a:lnTo>
                    <a:pt x="217" y="488"/>
                  </a:lnTo>
                  <a:lnTo>
                    <a:pt x="266" y="514"/>
                  </a:lnTo>
                  <a:lnTo>
                    <a:pt x="310" y="534"/>
                  </a:lnTo>
                  <a:lnTo>
                    <a:pt x="369" y="549"/>
                  </a:lnTo>
                  <a:lnTo>
                    <a:pt x="437" y="568"/>
                  </a:lnTo>
                  <a:lnTo>
                    <a:pt x="516" y="581"/>
                  </a:lnTo>
                  <a:lnTo>
                    <a:pt x="595" y="577"/>
                  </a:lnTo>
                  <a:lnTo>
                    <a:pt x="668" y="553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166840" y="925560"/>
              <a:ext cx="2243160" cy="871560"/>
            </a:xfrm>
            <a:custGeom>
              <a:avLst/>
              <a:gdLst/>
              <a:ahLst/>
              <a:rect l="l" t="t" r="r" b="b"/>
              <a:pathLst>
                <a:path w="1413" h="549">
                  <a:moveTo>
                    <a:pt x="1412" y="548"/>
                  </a:moveTo>
                  <a:lnTo>
                    <a:pt x="1316" y="537"/>
                  </a:lnTo>
                  <a:lnTo>
                    <a:pt x="1237" y="524"/>
                  </a:lnTo>
                  <a:lnTo>
                    <a:pt x="1179" y="511"/>
                  </a:lnTo>
                  <a:lnTo>
                    <a:pt x="1118" y="499"/>
                  </a:lnTo>
                  <a:lnTo>
                    <a:pt x="1060" y="493"/>
                  </a:lnTo>
                  <a:lnTo>
                    <a:pt x="1000" y="495"/>
                  </a:lnTo>
                  <a:lnTo>
                    <a:pt x="939" y="499"/>
                  </a:lnTo>
                  <a:lnTo>
                    <a:pt x="894" y="482"/>
                  </a:lnTo>
                  <a:lnTo>
                    <a:pt x="962" y="440"/>
                  </a:lnTo>
                  <a:lnTo>
                    <a:pt x="1005" y="411"/>
                  </a:lnTo>
                  <a:lnTo>
                    <a:pt x="1043" y="381"/>
                  </a:lnTo>
                  <a:lnTo>
                    <a:pt x="1069" y="348"/>
                  </a:lnTo>
                  <a:lnTo>
                    <a:pt x="962" y="383"/>
                  </a:lnTo>
                  <a:lnTo>
                    <a:pt x="855" y="418"/>
                  </a:lnTo>
                  <a:lnTo>
                    <a:pt x="783" y="436"/>
                  </a:lnTo>
                  <a:lnTo>
                    <a:pt x="670" y="449"/>
                  </a:lnTo>
                  <a:lnTo>
                    <a:pt x="597" y="449"/>
                  </a:lnTo>
                  <a:lnTo>
                    <a:pt x="531" y="444"/>
                  </a:lnTo>
                  <a:lnTo>
                    <a:pt x="486" y="427"/>
                  </a:lnTo>
                  <a:lnTo>
                    <a:pt x="459" y="407"/>
                  </a:lnTo>
                  <a:lnTo>
                    <a:pt x="527" y="389"/>
                  </a:lnTo>
                  <a:lnTo>
                    <a:pt x="572" y="365"/>
                  </a:lnTo>
                  <a:lnTo>
                    <a:pt x="599" y="339"/>
                  </a:lnTo>
                  <a:lnTo>
                    <a:pt x="634" y="308"/>
                  </a:lnTo>
                  <a:lnTo>
                    <a:pt x="544" y="334"/>
                  </a:lnTo>
                  <a:lnTo>
                    <a:pt x="463" y="348"/>
                  </a:lnTo>
                  <a:lnTo>
                    <a:pt x="378" y="356"/>
                  </a:lnTo>
                  <a:lnTo>
                    <a:pt x="303" y="352"/>
                  </a:lnTo>
                  <a:lnTo>
                    <a:pt x="254" y="334"/>
                  </a:lnTo>
                  <a:lnTo>
                    <a:pt x="233" y="312"/>
                  </a:lnTo>
                  <a:lnTo>
                    <a:pt x="281" y="291"/>
                  </a:lnTo>
                  <a:lnTo>
                    <a:pt x="313" y="269"/>
                  </a:lnTo>
                  <a:lnTo>
                    <a:pt x="341" y="244"/>
                  </a:lnTo>
                  <a:lnTo>
                    <a:pt x="339" y="229"/>
                  </a:lnTo>
                  <a:lnTo>
                    <a:pt x="262" y="246"/>
                  </a:lnTo>
                  <a:lnTo>
                    <a:pt x="179" y="255"/>
                  </a:lnTo>
                  <a:lnTo>
                    <a:pt x="109" y="254"/>
                  </a:lnTo>
                  <a:lnTo>
                    <a:pt x="51" y="244"/>
                  </a:lnTo>
                  <a:lnTo>
                    <a:pt x="19" y="229"/>
                  </a:lnTo>
                  <a:lnTo>
                    <a:pt x="0" y="205"/>
                  </a:lnTo>
                  <a:lnTo>
                    <a:pt x="120" y="187"/>
                  </a:lnTo>
                  <a:lnTo>
                    <a:pt x="309" y="156"/>
                  </a:lnTo>
                  <a:lnTo>
                    <a:pt x="544" y="119"/>
                  </a:lnTo>
                  <a:lnTo>
                    <a:pt x="742" y="71"/>
                  </a:lnTo>
                  <a:lnTo>
                    <a:pt x="926" y="26"/>
                  </a:lnTo>
                  <a:lnTo>
                    <a:pt x="1020" y="9"/>
                  </a:lnTo>
                  <a:lnTo>
                    <a:pt x="1098" y="0"/>
                  </a:lnTo>
                  <a:lnTo>
                    <a:pt x="1165" y="2"/>
                  </a:lnTo>
                  <a:lnTo>
                    <a:pt x="1211" y="7"/>
                  </a:lnTo>
                  <a:lnTo>
                    <a:pt x="1254" y="27"/>
                  </a:lnTo>
                  <a:lnTo>
                    <a:pt x="1288" y="71"/>
                  </a:lnTo>
                  <a:lnTo>
                    <a:pt x="1301" y="117"/>
                  </a:lnTo>
                  <a:lnTo>
                    <a:pt x="1316" y="148"/>
                  </a:lnTo>
                  <a:lnTo>
                    <a:pt x="1344" y="159"/>
                  </a:lnTo>
                  <a:lnTo>
                    <a:pt x="1384" y="156"/>
                  </a:lnTo>
                  <a:lnTo>
                    <a:pt x="1412" y="145"/>
                  </a:lnTo>
                  <a:lnTo>
                    <a:pt x="1412" y="54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21160" y="563400"/>
              <a:ext cx="297000" cy="314640"/>
            </a:xfrm>
            <a:prstGeom prst="ellipse">
              <a:avLst/>
            </a:pr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724280" y="925560"/>
              <a:ext cx="2243160" cy="871560"/>
            </a:xfrm>
            <a:custGeom>
              <a:avLst/>
              <a:gdLst/>
              <a:ahLst/>
              <a:rect l="l" t="t" r="r" b="b"/>
              <a:pathLst>
                <a:path w="1413" h="549">
                  <a:moveTo>
                    <a:pt x="0" y="548"/>
                  </a:moveTo>
                  <a:lnTo>
                    <a:pt x="96" y="537"/>
                  </a:lnTo>
                  <a:lnTo>
                    <a:pt x="175" y="524"/>
                  </a:lnTo>
                  <a:lnTo>
                    <a:pt x="233" y="511"/>
                  </a:lnTo>
                  <a:lnTo>
                    <a:pt x="294" y="499"/>
                  </a:lnTo>
                  <a:lnTo>
                    <a:pt x="352" y="493"/>
                  </a:lnTo>
                  <a:lnTo>
                    <a:pt x="412" y="495"/>
                  </a:lnTo>
                  <a:lnTo>
                    <a:pt x="473" y="499"/>
                  </a:lnTo>
                  <a:lnTo>
                    <a:pt x="518" y="482"/>
                  </a:lnTo>
                  <a:lnTo>
                    <a:pt x="450" y="440"/>
                  </a:lnTo>
                  <a:lnTo>
                    <a:pt x="407" y="411"/>
                  </a:lnTo>
                  <a:lnTo>
                    <a:pt x="369" y="381"/>
                  </a:lnTo>
                  <a:lnTo>
                    <a:pt x="343" y="348"/>
                  </a:lnTo>
                  <a:lnTo>
                    <a:pt x="450" y="383"/>
                  </a:lnTo>
                  <a:lnTo>
                    <a:pt x="557" y="418"/>
                  </a:lnTo>
                  <a:lnTo>
                    <a:pt x="629" y="436"/>
                  </a:lnTo>
                  <a:lnTo>
                    <a:pt x="742" y="449"/>
                  </a:lnTo>
                  <a:lnTo>
                    <a:pt x="815" y="449"/>
                  </a:lnTo>
                  <a:lnTo>
                    <a:pt x="881" y="444"/>
                  </a:lnTo>
                  <a:lnTo>
                    <a:pt x="926" y="427"/>
                  </a:lnTo>
                  <a:lnTo>
                    <a:pt x="953" y="407"/>
                  </a:lnTo>
                  <a:lnTo>
                    <a:pt x="885" y="389"/>
                  </a:lnTo>
                  <a:lnTo>
                    <a:pt x="840" y="365"/>
                  </a:lnTo>
                  <a:lnTo>
                    <a:pt x="809" y="339"/>
                  </a:lnTo>
                  <a:lnTo>
                    <a:pt x="778" y="308"/>
                  </a:lnTo>
                  <a:lnTo>
                    <a:pt x="868" y="334"/>
                  </a:lnTo>
                  <a:lnTo>
                    <a:pt x="949" y="348"/>
                  </a:lnTo>
                  <a:lnTo>
                    <a:pt x="1034" y="356"/>
                  </a:lnTo>
                  <a:lnTo>
                    <a:pt x="1109" y="352"/>
                  </a:lnTo>
                  <a:lnTo>
                    <a:pt x="1158" y="334"/>
                  </a:lnTo>
                  <a:lnTo>
                    <a:pt x="1179" y="312"/>
                  </a:lnTo>
                  <a:lnTo>
                    <a:pt x="1131" y="291"/>
                  </a:lnTo>
                  <a:lnTo>
                    <a:pt x="1099" y="269"/>
                  </a:lnTo>
                  <a:lnTo>
                    <a:pt x="1071" y="244"/>
                  </a:lnTo>
                  <a:lnTo>
                    <a:pt x="1073" y="229"/>
                  </a:lnTo>
                  <a:lnTo>
                    <a:pt x="1150" y="246"/>
                  </a:lnTo>
                  <a:lnTo>
                    <a:pt x="1233" y="255"/>
                  </a:lnTo>
                  <a:lnTo>
                    <a:pt x="1311" y="253"/>
                  </a:lnTo>
                  <a:lnTo>
                    <a:pt x="1361" y="244"/>
                  </a:lnTo>
                  <a:lnTo>
                    <a:pt x="1393" y="229"/>
                  </a:lnTo>
                  <a:lnTo>
                    <a:pt x="1412" y="205"/>
                  </a:lnTo>
                  <a:lnTo>
                    <a:pt x="1292" y="187"/>
                  </a:lnTo>
                  <a:lnTo>
                    <a:pt x="1087" y="158"/>
                  </a:lnTo>
                  <a:lnTo>
                    <a:pt x="868" y="119"/>
                  </a:lnTo>
                  <a:lnTo>
                    <a:pt x="670" y="71"/>
                  </a:lnTo>
                  <a:lnTo>
                    <a:pt x="486" y="26"/>
                  </a:lnTo>
                  <a:lnTo>
                    <a:pt x="392" y="9"/>
                  </a:lnTo>
                  <a:lnTo>
                    <a:pt x="314" y="0"/>
                  </a:lnTo>
                  <a:lnTo>
                    <a:pt x="247" y="2"/>
                  </a:lnTo>
                  <a:lnTo>
                    <a:pt x="201" y="7"/>
                  </a:lnTo>
                  <a:lnTo>
                    <a:pt x="158" y="27"/>
                  </a:lnTo>
                  <a:lnTo>
                    <a:pt x="124" y="71"/>
                  </a:lnTo>
                  <a:lnTo>
                    <a:pt x="111" y="117"/>
                  </a:lnTo>
                  <a:lnTo>
                    <a:pt x="96" y="148"/>
                  </a:lnTo>
                  <a:lnTo>
                    <a:pt x="68" y="159"/>
                  </a:lnTo>
                  <a:lnTo>
                    <a:pt x="28" y="156"/>
                  </a:lnTo>
                  <a:lnTo>
                    <a:pt x="0" y="145"/>
                  </a:lnTo>
                  <a:lnTo>
                    <a:pt x="0" y="54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7F07-25F3-41B3-94F1-D9DF34392C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F195-F293-4EF9-9ED6-08D4FDA088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372" name="PlaceHolder 3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1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1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5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EA39-8064-4723-B802-08A841C8B5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8f6f8"/>
                </a:solidFill>
                <a:latin typeface="Arial"/>
              </a:rPr>
              <a:t>NOTHING ABOUT ME WITHOUT ME</a:t>
            </a:r>
            <a:endParaRPr b="1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D BY MIA FAR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 Black"/>
              </a:rPr>
              <a:t>Respect our difference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6840" y="2072880"/>
            <a:ext cx="4033800" cy="33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Times New Roman"/>
              </a:rPr>
              <a:t>Do not call us bad names, this hurts u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80"/>
                </a:solidFill>
                <a:latin typeface="Times New Roman"/>
              </a:rPr>
              <a:t>If you want to talk about us you may say that we are slow learners, bu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WE CA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LEA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Times New Roman"/>
              </a:rPr>
              <a:t>Being slow means that we need more time and help to learn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4653000" y="2179800"/>
            <a:ext cx="4033800" cy="3120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 Black"/>
              </a:rPr>
              <a:t>Respect our difference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I went to schoo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457200" y="2427120"/>
            <a:ext cx="4038480" cy="2994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 Black"/>
              </a:rPr>
              <a:t>Respect our difference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I worked as a teacher’s aid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457200" y="2149560"/>
            <a:ext cx="4038480" cy="3549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 Black"/>
              </a:rPr>
              <a:t>Respect our difference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518148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Now, I am a painter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5257800" y="1905120"/>
            <a:ext cx="3348000" cy="457200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4038480" cy="2970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 Black"/>
              </a:rPr>
              <a:t>Respect our difference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And I am learning how to make films for cinema and televis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457200" y="2411280"/>
            <a:ext cx="403848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Second , we want choice.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599840" y="4724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Like the choice of living in our commun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 Black"/>
              </a:rPr>
              <a:t>Cho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652640" y="1980720"/>
            <a:ext cx="403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We have the right to be treated like everyone el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We have the right to go to the same school as our brothers or sist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506520" y="1981080"/>
            <a:ext cx="393372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 Black"/>
              </a:rPr>
              <a:t>CHO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We love 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Lear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Have frien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Choose where to g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Choose with whom we want to spend our tim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871560" y="1981080"/>
            <a:ext cx="320832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Third, we want Participation.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1828440" y="51055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We have the right to be part of socie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 Black"/>
              </a:rPr>
              <a:t>Particip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723920" y="2209320"/>
            <a:ext cx="41101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We have a lot of things to say,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We want to say th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We would like you to listen to u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72400" y="756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4033800" cy="2376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MIA FARAH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62120" y="4648320"/>
            <a:ext cx="761976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Hi, my name is Mia Farah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 am from Lebanon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3871800" y="1523880"/>
            <a:ext cx="1886040" cy="28195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 Black"/>
              </a:rPr>
              <a:t>PARTICIP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We know that we have rights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We want to learn about those rights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They guarantee us a better quality of lif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4038480" cy="261432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2895480" y="2438280"/>
            <a:ext cx="1729080" cy="1508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Fourth, we want support.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We know that we make mistakes but like you we can learn from our mistak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 Black"/>
              </a:rPr>
              <a:t>SUPPORT</a:t>
            </a:r>
            <a:br>
              <a:rPr sz="3600"/>
            </a:br>
            <a:r>
              <a:rPr b="0" lang="en-US" sz="3200" spc="-1" strike="noStrike">
                <a:solidFill>
                  <a:srgbClr val="000080"/>
                </a:solidFill>
                <a:latin typeface="Arial Black"/>
              </a:rPr>
              <a:t>We are slow and we need your suppor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652640" y="1980720"/>
            <a:ext cx="403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To impro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To love ourselv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457200" y="2373480"/>
            <a:ext cx="4038480" cy="31017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 Black"/>
              </a:rPr>
              <a:t>SUPPORT</a:t>
            </a:r>
            <a:br>
              <a:rPr sz="3600"/>
            </a:br>
            <a:r>
              <a:rPr b="0" lang="en-US" sz="3200" spc="-1" strike="noStrike">
                <a:solidFill>
                  <a:srgbClr val="000080"/>
                </a:solidFill>
                <a:latin typeface="Arial Black"/>
              </a:rPr>
              <a:t>Our parents need your support to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They need to learn about our condi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They need to learn how to help us bett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663480" y="1981080"/>
            <a:ext cx="362448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Thank you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62120" y="3938760"/>
            <a:ext cx="761976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ank you for listening to me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3564000" y="1600200"/>
            <a:ext cx="2016000" cy="2185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Thank you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 would like to say thank you to the UN for giving me the chance to come here.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 went you to know who we are and what we can do for our communitie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We are very slow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9152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But we can do a lot of things…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955960" y="1905120"/>
            <a:ext cx="3230640" cy="3046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With support.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3733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We can learn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We can have jobs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We can be active in society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836640" y="1944720"/>
            <a:ext cx="3660840" cy="38066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Around the world a lot of things are changing.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We want to be part of this ch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We have four basic requests.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1- We want resp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2 - We want cho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3 - We want particip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4 - We want supp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First, We want respect.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752120" y="46479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Learn to know us as the persons we a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8T15:38:05Z</dcterms:created>
  <dc:creator>Fadia Farah</dc:creator>
  <dc:description/>
  <dc:language>en-US</dc:language>
  <cp:lastModifiedBy>National Office</cp:lastModifiedBy>
  <dcterms:modified xsi:type="dcterms:W3CDTF">2006-01-20T20:47:07Z</dcterms:modified>
  <cp:revision>206</cp:revision>
  <dc:subject/>
  <dc:title>WE ARE PEOPLE FIRST</dc:title>
</cp:coreProperties>
</file>