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24B-941B-49FB-8668-A0B6EC32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FF9-3A2B-42EC-930B-8E217DD8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00F-5133-45B3-ABBF-AA3A5DF0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DC1-87DA-41A2-934F-D6D83A52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C140-68CF-4DD8-A9D2-3105770F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194E-CEEF-4E0E-A63A-0304AAC5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5776-2961-42CD-A004-C04D7D31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77D8-4D9B-4780-AD1C-ED81FDCB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FCE1-9E08-4676-BBD6-AFCD9261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C723-BACC-4BE7-9A32-75904F16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6CEE-611B-4C1D-ADCD-9CD5FAC7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BC1-DD8A-4233-B0FE-F0958D62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D841-8840-4DFF-B9BB-DC012D3D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21C3-71A6-44FE-984D-D7FA1E87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AE09-4B4A-4F77-9F88-D25EF9E0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251E-8628-48C1-A007-741E54F6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832F-B51B-4B23-A05B-FF10909E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BC7-5589-44EB-81A0-D45499D7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952-CDD0-44E8-81E2-D2146D87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5EC-C6A4-47C4-AC0A-FBA4712C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87A-D5FA-4FC6-8674-EF53B9C9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0DB-352A-4667-B095-080456B7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CB2-D6A1-42CA-8293-D7D76690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52D-1847-4E2C-9A06-ADC3E4B4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60D4-F5B0-4669-931E-3BF9D897EEEB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6BD3-0B2C-4307-82B1-58FF65CCB65D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400800" cy="1676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mily - Famili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ydee Beck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na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1825920" cy="1828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477120" y="457200"/>
            <a:ext cx="2133360" cy="186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Familia -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851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a familia es un rompecabezas: todas las piezas deben encaj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6920" y="1295280"/>
            <a:ext cx="3774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Family is like a puzz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Each part needs to be assemb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00080" y="3144240"/>
            <a:ext cx="4837320" cy="3524760"/>
            <a:chOff x="1000080" y="3144240"/>
            <a:chExt cx="4837320" cy="3524760"/>
          </a:xfrm>
        </p:grpSpPr>
        <p:sp>
          <p:nvSpPr>
            <p:cNvPr id="159" name="Puzzle3"/>
            <p:cNvSpPr/>
            <p:nvPr/>
          </p:nvSpPr>
          <p:spPr>
            <a:xfrm rot="20794800">
              <a:off x="3173760" y="3328560"/>
              <a:ext cx="1766880" cy="14983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Puzzle2"/>
            <p:cNvSpPr/>
            <p:nvPr/>
          </p:nvSpPr>
          <p:spPr>
            <a:xfrm rot="20794800">
              <a:off x="2896920" y="4389120"/>
              <a:ext cx="2820240" cy="13644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Puzzle4"/>
            <p:cNvSpPr/>
            <p:nvPr/>
          </p:nvSpPr>
          <p:spPr>
            <a:xfrm rot="20794800">
              <a:off x="1890720" y="4750560"/>
              <a:ext cx="1700280" cy="17445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Puzzle1"/>
            <p:cNvSpPr/>
            <p:nvPr/>
          </p:nvSpPr>
          <p:spPr>
            <a:xfrm rot="20794800">
              <a:off x="1081440" y="4157640"/>
              <a:ext cx="2855520" cy="104004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223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380880"/>
            <a:ext cx="3962520" cy="68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Mi relacion con mi familia siempre ha sido buena:mi mama sabia que yo no podia terminar rapido lo que ella me pedier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ocinar. Limpiar la casa, ir de comp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1640" y="21333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y relationship with my family was always good.  My mother always knew that I could not finish quickly all the things that she gave me to do like cooking, cleaning the house or going shopp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1981080" cy="1779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20908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My Papa -My Father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74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i papa fue un maestro y siempre me enseno que yo podia llegar hasta donde yo quisiera: mi discapacidad no era un impedi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06920" y="1218960"/>
            <a:ext cx="3774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y father was a teacher and he always taught me that I can do whatever I want to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y disability did not have to be an impair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 rot="16200000">
            <a:off x="5719680" y="4262400"/>
            <a:ext cx="1285920" cy="2971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174780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Me Enseno –He Taught 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495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Me ensen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A reir y no a llor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Que podia hacer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Que yo valia y era igual a los de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06920" y="1295280"/>
            <a:ext cx="3774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He taught 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To laugh and not to c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I can do th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That I have value and I am equal to oth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33720" y="4343400"/>
            <a:ext cx="228600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Papa - Fat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06920" y="1218960"/>
            <a:ext cx="4232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I know my father is dead, he is not with me but I am not alone because all the things he taught me belongs to 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1066680"/>
            <a:ext cx="4156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Ahora mi papa ha muerto ,no esta conmigo pero yo no estoy sola  lo que el me enseno sig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onmig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922320" cy="924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3581280" y="419112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6019920" y="472428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7238880" y="44956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7924680" y="49528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0"/>
          <a:stretch/>
        </p:blipFill>
        <p:spPr>
          <a:xfrm>
            <a:off x="7848720" y="4267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1"/>
          <a:stretch/>
        </p:blipFill>
        <p:spPr>
          <a:xfrm>
            <a:off x="2590920" y="4191120"/>
            <a:ext cx="2286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Yo soy - To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74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Yo soy hoy el resultado de lo que me mi familia me dio y me sigue dan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06920" y="1447920"/>
            <a:ext cx="3774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Today I am all that my family gave to me and they still give to 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25624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2:18:49Z</dcterms:created>
  <dc:creator>United Nations</dc:creator>
  <dc:description/>
  <dc:language>en-US</dc:language>
  <cp:lastModifiedBy>National Office</cp:lastModifiedBy>
  <dcterms:modified xsi:type="dcterms:W3CDTF">2006-01-20T20:46:11Z</dcterms:modified>
  <cp:revision>6</cp:revision>
  <dc:subject/>
  <dc:title>Family Familia</dc:title>
</cp:coreProperties>
</file>