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4DA-1489-44CF-9E47-19FF0D77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308-464B-4DCD-9FBD-59B36E6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1FD-B75D-4FB5-9961-116A0772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108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108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FA6-A38E-42A3-BAFB-255B8C76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29C-152E-4159-A9DA-923EFF4F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542-2D04-4234-B4F7-5F24A34E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1EC-6C4B-486B-8582-A042C27F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5DD-1B64-4114-B5D9-43858DC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528120"/>
            <a:ext cx="815184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077-47CC-4BEE-B339-FAF88B43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C8A-50BC-4D22-864D-D74429BD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705-1C9F-4CFA-9430-029F77EE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4A0-8460-46A0-B339-17333D6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Univers"/>
              </a:rPr>
              <a:t>Click to edit the title text format</a:t>
            </a: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1" marL="80028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2" marL="11430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3" marL="16002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4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5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6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50a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2B2-FC77-4586-B7A7-23CF9E41B170}" type="slidenum">
              <a:rPr b="0" lang="en-US" sz="1400" spc="-1" strike="noStrike">
                <a:solidFill>
                  <a:srgbClr val="0a50a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United Nations Reform III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Operational activities for development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New York, 19 November 2010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Univers"/>
              </a:rPr>
              <a:t>UNITAR Training Course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 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70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ontinued expansion in UN operational activities for develop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Post of Director-General for Development and International Cooperation established in 1977 to address growing coordination deficit in UN development system. This function was abolished in 1992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5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80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 system faces funding crisis as some donors withhold contributions at height of Cold War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Funding for operational activities for development becomes increasingly earmarked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System of execution by UN agencies comes under pressure as programme countries opt for national execution of UN technical assist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55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90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entralized approach to funding through UNDP is gradually abandoned in early 1990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95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DP transforms itself from a central fund to being primarily a substantive organizat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Specialized agencies start mobilizing resources directly from donors, which contributes to rapid growth in non-core funding and fragmentation of UN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7391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95-2000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Step change towards Member States promoting enhanced programmatic coordination and coherence within UN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97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Major reorganization of UN system aimed at strengthening programmatic cooperation and common approaches among UN entit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97 (cont.)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reation of UNDG, chaired by UNDP Administrator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Merging of three departments into DESA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stablishment of common UN hous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Introduction of UNDAF and Common Country Assess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reation of post of Deputy Secretary-General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stablishment of Joint Meeting of Boards of funds and programm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2000s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fforts to strengthen UN development system generally consistent with thrust of 1997 reform with focus on improving field-level coordination and inter-agency cooperation and better measurement of field-level results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2010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Adoption of GA resolution 64/289 on system-wide cohere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0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05880" indent="-45324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General Assembly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631440" indent="-242640">
              <a:spcBef>
                <a:spcPts val="1199"/>
              </a:spcBef>
              <a:buClr>
                <a:srgbClr val="0a50a1"/>
              </a:buClr>
              <a:buFont typeface="Univer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Provides overarching normative frameworks for UN development activities, e.g. MDGs, Monterrey Consensus etc.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631440" indent="-242640">
              <a:spcBef>
                <a:spcPts val="18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stablishes key system-wide policy orientations for UN operational activities for development through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quadrennial comprehensive policy review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(QCPR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0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0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0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0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3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4320" indent="-4744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Quadrennial comprehensive policy review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43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Main purpose of QCPR is to evaluate effectiveness and efficiency of UN operational activities for development based on extensive analytical preparations and consultations with stakeholder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6343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On basis of QCPR process, GA establishes key system-wide policy orientations for development cooperation and country-level modalities of UN system for four-year period  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63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61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2720" indent="-45864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COSOC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86240" indent="-393120">
              <a:spcBef>
                <a:spcPts val="55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Coordinates implementation of global development agenda 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113840" indent="-32724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High-level Seg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3840" indent="-32724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oordination Seg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3840" indent="-32724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Subsidiary bodies (e.g. functional commissions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3840" indent="-32724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Annual Ministerial Review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3840" indent="-32724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Development Cooperation Forum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27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57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77080" indent="-43200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COSOC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0520" indent="-370080">
              <a:spcBef>
                <a:spcPts val="550"/>
              </a:spcBef>
              <a:buClr>
                <a:srgbClr val="0a50a1"/>
              </a:buClr>
              <a:buFont typeface="Univers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Coordinates and monitors implementation of policy guidance established by GA in QCPR 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1" marL="740520" indent="-370080">
              <a:spcBef>
                <a:spcPts val="1100"/>
              </a:spcBef>
              <a:buClr>
                <a:srgbClr val="0a50a1"/>
              </a:buClr>
              <a:buFont typeface="Univers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0a1"/>
                </a:solidFill>
                <a:latin typeface="Univers"/>
              </a:rPr>
              <a:t>Reviews and evaluates reports on work of funds and programme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049040" indent="-308160"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These functions mainly discharged through annual session of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Operational Activities Segment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of ECOSOC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77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7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7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7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3000" spc="-1" strike="noStrike">
                <a:solidFill>
                  <a:srgbClr val="f8f8f8"/>
                </a:solidFill>
                <a:latin typeface="Univers"/>
              </a:rPr>
              <a:t> </a:t>
            </a: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467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 algn="ctr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a50a1"/>
                </a:solidFill>
                <a:latin typeface="Univers"/>
              </a:rPr>
              <a:t>UN Operational activities for development</a:t>
            </a:r>
            <a:endParaRPr b="0" lang="en-US" sz="2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  <a:p>
            <a:pPr lvl="2" marL="1295280" indent="-380880">
              <a:buClr>
                <a:srgbClr val="0a50a1"/>
              </a:buClr>
              <a:buFont typeface="Univer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Overview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295280" indent="-380880">
              <a:spcBef>
                <a:spcPts val="2401"/>
              </a:spcBef>
              <a:buClr>
                <a:srgbClr val="0a50a1"/>
              </a:buClr>
              <a:buFont typeface="Univer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Historical mileston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295280" indent="-380880">
              <a:spcBef>
                <a:spcPts val="2401"/>
              </a:spcBef>
              <a:buClr>
                <a:srgbClr val="0a50a1"/>
              </a:buClr>
              <a:buFont typeface="Univer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overnance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Presentation outline 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-52812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xecutive Boards of funds and programm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050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Responsible, inter alia, for providing intergovernmental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oversight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of respective entities in accordance with policy guidance established by GA and ECOSOC and for ensuring that respective entities are responsive to needs and priorities of recipient countr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-5014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xecutive Boards of funds and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programmes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8593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Bs report to ECOSOC and are expected to bring to Council issues that require its attent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xecutive heads of F/Ps appointed by SG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following consultations with EBs and confirmed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by GA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41520" indent="-4798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overning bodies of specialized agenc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82296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SAs are separate, legally autonomous organizations with own policy-making and executive organs, secretariats and budget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82296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xecutive heads of SAs elected by membership of respective entity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82296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64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4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4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ntergovernmental 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-44280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overning bodies of specialized agencies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588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Relationship of SAs with UN defined in special agreement with ECOSOC and approved by GA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588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ECOSOC can coordinate activities of SAs through consultations with and recommendations to such agenc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5888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90360" y="16765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xecutive direction and manage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56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lobal-level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27920" indent="-28008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hief Executives Board for Coordinat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9960" indent="-223920">
              <a:spcBef>
                <a:spcPts val="1049"/>
              </a:spcBef>
              <a:buClr>
                <a:srgbClr val="0a50a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High-level Committee on Programm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9960" indent="-223920">
              <a:spcBef>
                <a:spcPts val="1049"/>
              </a:spcBef>
              <a:buClr>
                <a:srgbClr val="0a50a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High-level Committee on Management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119960" indent="-223920">
              <a:spcBef>
                <a:spcPts val="1049"/>
              </a:spcBef>
              <a:buClr>
                <a:srgbClr val="0a50a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 Development Group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5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2640" y="1676520"/>
            <a:ext cx="6248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xecutive direction and manage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Regional-level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3040" indent="-28584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DG Regional Team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3040" indent="-28584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Regional Coordination Mechanism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2640" y="1676520"/>
            <a:ext cx="6248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xecutive direction and management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>
              <a:spcBef>
                <a:spcPts val="1199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  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National-level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3040" indent="-28584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 Resident Coordinator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3040" indent="-28584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DAF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743040" indent="-28584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Common country programmes (One-UN pilots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Governance system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a50a1"/>
                </a:solidFill>
                <a:latin typeface="Univers"/>
              </a:rPr>
              <a:t>UN system-wide activities</a:t>
            </a:r>
            <a:endParaRPr b="0" lang="en-US" sz="2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(Based on average contributions 2006-2008)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Overview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57400" y="2438280"/>
            <a:ext cx="5757480" cy="3642120"/>
            <a:chOff x="2057400" y="2438280"/>
            <a:chExt cx="5757480" cy="3642120"/>
          </a:xfrm>
        </p:grpSpPr>
        <p:sp>
          <p:nvSpPr>
            <p:cNvPr id="51" name=""/>
            <p:cNvSpPr/>
            <p:nvPr/>
          </p:nvSpPr>
          <p:spPr>
            <a:xfrm>
              <a:off x="2057400" y="2438280"/>
              <a:ext cx="5697360" cy="364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20160" y="3371760"/>
              <a:ext cx="1501560" cy="1231920"/>
            </a:xfrm>
            <a:custGeom>
              <a:avLst/>
              <a:gdLst/>
              <a:ahLst/>
              <a:rect l="l" t="t" r="r" b="b"/>
              <a:pathLst>
                <a:path w="1272" h="1044">
                  <a:moveTo>
                    <a:pt x="0" y="65"/>
                  </a:moveTo>
                  <a:lnTo>
                    <a:pt x="18" y="56"/>
                  </a:lnTo>
                  <a:lnTo>
                    <a:pt x="47" y="46"/>
                  </a:lnTo>
                  <a:lnTo>
                    <a:pt x="65" y="37"/>
                  </a:lnTo>
                  <a:lnTo>
                    <a:pt x="84" y="37"/>
                  </a:lnTo>
                  <a:lnTo>
                    <a:pt x="121" y="28"/>
                  </a:lnTo>
                  <a:lnTo>
                    <a:pt x="140" y="19"/>
                  </a:lnTo>
                  <a:lnTo>
                    <a:pt x="159" y="19"/>
                  </a:lnTo>
                  <a:lnTo>
                    <a:pt x="196" y="9"/>
                  </a:lnTo>
                  <a:lnTo>
                    <a:pt x="215" y="9"/>
                  </a:lnTo>
                  <a:lnTo>
                    <a:pt x="234" y="9"/>
                  </a:lnTo>
                  <a:lnTo>
                    <a:pt x="262" y="0"/>
                  </a:lnTo>
                  <a:lnTo>
                    <a:pt x="280" y="0"/>
                  </a:lnTo>
                  <a:lnTo>
                    <a:pt x="299" y="0"/>
                  </a:lnTo>
                  <a:lnTo>
                    <a:pt x="337" y="0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411" y="0"/>
                  </a:lnTo>
                  <a:lnTo>
                    <a:pt x="430" y="0"/>
                  </a:lnTo>
                  <a:lnTo>
                    <a:pt x="449" y="0"/>
                  </a:lnTo>
                  <a:lnTo>
                    <a:pt x="486" y="9"/>
                  </a:lnTo>
                  <a:lnTo>
                    <a:pt x="505" y="9"/>
                  </a:lnTo>
                  <a:lnTo>
                    <a:pt x="524" y="9"/>
                  </a:lnTo>
                  <a:lnTo>
                    <a:pt x="561" y="19"/>
                  </a:lnTo>
                  <a:lnTo>
                    <a:pt x="580" y="19"/>
                  </a:lnTo>
                  <a:lnTo>
                    <a:pt x="598" y="28"/>
                  </a:lnTo>
                  <a:lnTo>
                    <a:pt x="626" y="37"/>
                  </a:lnTo>
                  <a:lnTo>
                    <a:pt x="645" y="37"/>
                  </a:lnTo>
                  <a:lnTo>
                    <a:pt x="664" y="46"/>
                  </a:lnTo>
                  <a:lnTo>
                    <a:pt x="701" y="56"/>
                  </a:lnTo>
                  <a:lnTo>
                    <a:pt x="720" y="65"/>
                  </a:lnTo>
                  <a:lnTo>
                    <a:pt x="739" y="65"/>
                  </a:lnTo>
                  <a:lnTo>
                    <a:pt x="767" y="84"/>
                  </a:lnTo>
                  <a:lnTo>
                    <a:pt x="785" y="84"/>
                  </a:lnTo>
                  <a:lnTo>
                    <a:pt x="804" y="93"/>
                  </a:lnTo>
                  <a:lnTo>
                    <a:pt x="832" y="112"/>
                  </a:lnTo>
                  <a:lnTo>
                    <a:pt x="851" y="121"/>
                  </a:lnTo>
                  <a:lnTo>
                    <a:pt x="870" y="130"/>
                  </a:lnTo>
                  <a:lnTo>
                    <a:pt x="898" y="149"/>
                  </a:lnTo>
                  <a:lnTo>
                    <a:pt x="916" y="158"/>
                  </a:lnTo>
                  <a:lnTo>
                    <a:pt x="935" y="168"/>
                  </a:lnTo>
                  <a:lnTo>
                    <a:pt x="963" y="186"/>
                  </a:lnTo>
                  <a:lnTo>
                    <a:pt x="973" y="196"/>
                  </a:lnTo>
                  <a:lnTo>
                    <a:pt x="991" y="205"/>
                  </a:lnTo>
                  <a:lnTo>
                    <a:pt x="1019" y="233"/>
                  </a:lnTo>
                  <a:lnTo>
                    <a:pt x="1038" y="242"/>
                  </a:lnTo>
                  <a:lnTo>
                    <a:pt x="1047" y="252"/>
                  </a:lnTo>
                  <a:lnTo>
                    <a:pt x="1075" y="280"/>
                  </a:lnTo>
                  <a:lnTo>
                    <a:pt x="1085" y="289"/>
                  </a:lnTo>
                  <a:lnTo>
                    <a:pt x="1103" y="308"/>
                  </a:lnTo>
                  <a:lnTo>
                    <a:pt x="1132" y="336"/>
                  </a:lnTo>
                  <a:lnTo>
                    <a:pt x="1141" y="345"/>
                  </a:lnTo>
                  <a:lnTo>
                    <a:pt x="1150" y="354"/>
                  </a:lnTo>
                  <a:lnTo>
                    <a:pt x="1178" y="382"/>
                  </a:lnTo>
                  <a:lnTo>
                    <a:pt x="1188" y="401"/>
                  </a:lnTo>
                  <a:lnTo>
                    <a:pt x="1197" y="419"/>
                  </a:lnTo>
                  <a:lnTo>
                    <a:pt x="1216" y="447"/>
                  </a:lnTo>
                  <a:lnTo>
                    <a:pt x="1234" y="457"/>
                  </a:lnTo>
                  <a:lnTo>
                    <a:pt x="1244" y="475"/>
                  </a:lnTo>
                  <a:lnTo>
                    <a:pt x="1262" y="503"/>
                  </a:lnTo>
                  <a:lnTo>
                    <a:pt x="1272" y="522"/>
                  </a:lnTo>
                  <a:lnTo>
                    <a:pt x="355" y="104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20160" y="3371760"/>
              <a:ext cx="1501560" cy="1231920"/>
            </a:xfrm>
            <a:custGeom>
              <a:avLst/>
              <a:gdLst/>
              <a:ahLst/>
              <a:rect l="l" t="t" r="r" b="b"/>
              <a:pathLst>
                <a:path w="1272" h="1044">
                  <a:moveTo>
                    <a:pt x="0" y="65"/>
                  </a:moveTo>
                  <a:lnTo>
                    <a:pt x="18" y="56"/>
                  </a:lnTo>
                  <a:lnTo>
                    <a:pt x="47" y="46"/>
                  </a:lnTo>
                  <a:lnTo>
                    <a:pt x="65" y="37"/>
                  </a:lnTo>
                  <a:lnTo>
                    <a:pt x="84" y="37"/>
                  </a:lnTo>
                  <a:lnTo>
                    <a:pt x="121" y="28"/>
                  </a:lnTo>
                  <a:lnTo>
                    <a:pt x="140" y="19"/>
                  </a:lnTo>
                  <a:lnTo>
                    <a:pt x="159" y="19"/>
                  </a:lnTo>
                  <a:lnTo>
                    <a:pt x="196" y="9"/>
                  </a:lnTo>
                  <a:lnTo>
                    <a:pt x="215" y="9"/>
                  </a:lnTo>
                  <a:lnTo>
                    <a:pt x="234" y="9"/>
                  </a:lnTo>
                  <a:lnTo>
                    <a:pt x="262" y="0"/>
                  </a:lnTo>
                  <a:lnTo>
                    <a:pt x="280" y="0"/>
                  </a:lnTo>
                  <a:lnTo>
                    <a:pt x="299" y="0"/>
                  </a:lnTo>
                  <a:lnTo>
                    <a:pt x="337" y="0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411" y="0"/>
                  </a:lnTo>
                  <a:lnTo>
                    <a:pt x="430" y="0"/>
                  </a:lnTo>
                  <a:lnTo>
                    <a:pt x="449" y="0"/>
                  </a:lnTo>
                  <a:lnTo>
                    <a:pt x="486" y="9"/>
                  </a:lnTo>
                  <a:lnTo>
                    <a:pt x="505" y="9"/>
                  </a:lnTo>
                  <a:lnTo>
                    <a:pt x="524" y="9"/>
                  </a:lnTo>
                  <a:lnTo>
                    <a:pt x="561" y="19"/>
                  </a:lnTo>
                  <a:lnTo>
                    <a:pt x="580" y="19"/>
                  </a:lnTo>
                  <a:lnTo>
                    <a:pt x="598" y="28"/>
                  </a:lnTo>
                  <a:lnTo>
                    <a:pt x="626" y="37"/>
                  </a:lnTo>
                  <a:lnTo>
                    <a:pt x="645" y="37"/>
                  </a:lnTo>
                  <a:lnTo>
                    <a:pt x="664" y="46"/>
                  </a:lnTo>
                  <a:lnTo>
                    <a:pt x="701" y="56"/>
                  </a:lnTo>
                  <a:lnTo>
                    <a:pt x="720" y="65"/>
                  </a:lnTo>
                  <a:lnTo>
                    <a:pt x="739" y="65"/>
                  </a:lnTo>
                  <a:lnTo>
                    <a:pt x="767" y="84"/>
                  </a:lnTo>
                  <a:lnTo>
                    <a:pt x="785" y="84"/>
                  </a:lnTo>
                  <a:lnTo>
                    <a:pt x="804" y="93"/>
                  </a:lnTo>
                  <a:lnTo>
                    <a:pt x="832" y="112"/>
                  </a:lnTo>
                  <a:lnTo>
                    <a:pt x="851" y="121"/>
                  </a:lnTo>
                  <a:lnTo>
                    <a:pt x="870" y="130"/>
                  </a:lnTo>
                  <a:lnTo>
                    <a:pt x="898" y="149"/>
                  </a:lnTo>
                  <a:lnTo>
                    <a:pt x="916" y="158"/>
                  </a:lnTo>
                  <a:lnTo>
                    <a:pt x="935" y="168"/>
                  </a:lnTo>
                  <a:lnTo>
                    <a:pt x="963" y="186"/>
                  </a:lnTo>
                  <a:lnTo>
                    <a:pt x="973" y="196"/>
                  </a:lnTo>
                  <a:lnTo>
                    <a:pt x="991" y="205"/>
                  </a:lnTo>
                  <a:lnTo>
                    <a:pt x="1019" y="233"/>
                  </a:lnTo>
                  <a:lnTo>
                    <a:pt x="1038" y="242"/>
                  </a:lnTo>
                  <a:lnTo>
                    <a:pt x="1047" y="252"/>
                  </a:lnTo>
                  <a:lnTo>
                    <a:pt x="1075" y="280"/>
                  </a:lnTo>
                  <a:lnTo>
                    <a:pt x="1085" y="289"/>
                  </a:lnTo>
                  <a:lnTo>
                    <a:pt x="1103" y="308"/>
                  </a:lnTo>
                  <a:lnTo>
                    <a:pt x="1132" y="336"/>
                  </a:lnTo>
                  <a:lnTo>
                    <a:pt x="1141" y="345"/>
                  </a:lnTo>
                  <a:lnTo>
                    <a:pt x="1150" y="354"/>
                  </a:lnTo>
                  <a:lnTo>
                    <a:pt x="1178" y="382"/>
                  </a:lnTo>
                  <a:lnTo>
                    <a:pt x="1188" y="401"/>
                  </a:lnTo>
                  <a:lnTo>
                    <a:pt x="1197" y="419"/>
                  </a:lnTo>
                  <a:lnTo>
                    <a:pt x="1216" y="447"/>
                  </a:lnTo>
                  <a:lnTo>
                    <a:pt x="1234" y="457"/>
                  </a:lnTo>
                  <a:lnTo>
                    <a:pt x="1244" y="475"/>
                  </a:lnTo>
                  <a:lnTo>
                    <a:pt x="1262" y="503"/>
                  </a:lnTo>
                  <a:lnTo>
                    <a:pt x="1272" y="522"/>
                  </a:lnTo>
                  <a:lnTo>
                    <a:pt x="355" y="1044"/>
                  </a:lnTo>
                  <a:lnTo>
                    <a:pt x="0" y="65"/>
                  </a:lnTo>
                  <a:close/>
                </a:path>
              </a:pathLst>
            </a:custGeom>
            <a:noFill/>
            <a:ln w="5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6360" y="3987720"/>
              <a:ext cx="1920600" cy="1859760"/>
            </a:xfrm>
            <a:custGeom>
              <a:avLst/>
              <a:gdLst/>
              <a:ahLst/>
              <a:rect l="l" t="t" r="r" b="b"/>
              <a:pathLst>
                <a:path w="1627" h="1576">
                  <a:moveTo>
                    <a:pt x="1487" y="0"/>
                  </a:moveTo>
                  <a:lnTo>
                    <a:pt x="1496" y="19"/>
                  </a:lnTo>
                  <a:lnTo>
                    <a:pt x="1506" y="47"/>
                  </a:lnTo>
                  <a:lnTo>
                    <a:pt x="1515" y="65"/>
                  </a:lnTo>
                  <a:lnTo>
                    <a:pt x="1524" y="84"/>
                  </a:lnTo>
                  <a:lnTo>
                    <a:pt x="1543" y="112"/>
                  </a:lnTo>
                  <a:lnTo>
                    <a:pt x="1552" y="131"/>
                  </a:lnTo>
                  <a:lnTo>
                    <a:pt x="1552" y="149"/>
                  </a:lnTo>
                  <a:lnTo>
                    <a:pt x="1562" y="168"/>
                  </a:lnTo>
                  <a:lnTo>
                    <a:pt x="1571" y="196"/>
                  </a:lnTo>
                  <a:lnTo>
                    <a:pt x="1580" y="214"/>
                  </a:lnTo>
                  <a:lnTo>
                    <a:pt x="1580" y="233"/>
                  </a:lnTo>
                  <a:lnTo>
                    <a:pt x="1590" y="270"/>
                  </a:lnTo>
                  <a:lnTo>
                    <a:pt x="1599" y="289"/>
                  </a:lnTo>
                  <a:lnTo>
                    <a:pt x="1599" y="308"/>
                  </a:lnTo>
                  <a:lnTo>
                    <a:pt x="1608" y="345"/>
                  </a:lnTo>
                  <a:lnTo>
                    <a:pt x="1608" y="364"/>
                  </a:lnTo>
                  <a:lnTo>
                    <a:pt x="1618" y="382"/>
                  </a:lnTo>
                  <a:lnTo>
                    <a:pt x="1618" y="410"/>
                  </a:lnTo>
                  <a:lnTo>
                    <a:pt x="1618" y="429"/>
                  </a:lnTo>
                  <a:lnTo>
                    <a:pt x="1618" y="448"/>
                  </a:lnTo>
                  <a:lnTo>
                    <a:pt x="1627" y="466"/>
                  </a:lnTo>
                  <a:lnTo>
                    <a:pt x="1627" y="503"/>
                  </a:lnTo>
                  <a:lnTo>
                    <a:pt x="1627" y="522"/>
                  </a:lnTo>
                  <a:lnTo>
                    <a:pt x="1627" y="541"/>
                  </a:lnTo>
                  <a:lnTo>
                    <a:pt x="1627" y="578"/>
                  </a:lnTo>
                  <a:lnTo>
                    <a:pt x="1618" y="597"/>
                  </a:lnTo>
                  <a:lnTo>
                    <a:pt x="1618" y="615"/>
                  </a:lnTo>
                  <a:lnTo>
                    <a:pt x="1618" y="653"/>
                  </a:lnTo>
                  <a:lnTo>
                    <a:pt x="1618" y="671"/>
                  </a:lnTo>
                  <a:lnTo>
                    <a:pt x="1608" y="690"/>
                  </a:lnTo>
                  <a:lnTo>
                    <a:pt x="1608" y="727"/>
                  </a:lnTo>
                  <a:lnTo>
                    <a:pt x="1599" y="746"/>
                  </a:lnTo>
                  <a:lnTo>
                    <a:pt x="1599" y="765"/>
                  </a:lnTo>
                  <a:lnTo>
                    <a:pt x="1590" y="774"/>
                  </a:lnTo>
                  <a:lnTo>
                    <a:pt x="1580" y="811"/>
                  </a:lnTo>
                  <a:lnTo>
                    <a:pt x="1580" y="830"/>
                  </a:lnTo>
                  <a:lnTo>
                    <a:pt x="1571" y="848"/>
                  </a:lnTo>
                  <a:lnTo>
                    <a:pt x="1562" y="886"/>
                  </a:lnTo>
                  <a:lnTo>
                    <a:pt x="1552" y="904"/>
                  </a:lnTo>
                  <a:lnTo>
                    <a:pt x="1552" y="914"/>
                  </a:lnTo>
                  <a:lnTo>
                    <a:pt x="1534" y="951"/>
                  </a:lnTo>
                  <a:lnTo>
                    <a:pt x="1524" y="970"/>
                  </a:lnTo>
                  <a:lnTo>
                    <a:pt x="1515" y="988"/>
                  </a:lnTo>
                  <a:lnTo>
                    <a:pt x="1506" y="1016"/>
                  </a:lnTo>
                  <a:lnTo>
                    <a:pt x="1496" y="1035"/>
                  </a:lnTo>
                  <a:lnTo>
                    <a:pt x="1487" y="1054"/>
                  </a:lnTo>
                  <a:lnTo>
                    <a:pt x="1477" y="1063"/>
                  </a:lnTo>
                  <a:lnTo>
                    <a:pt x="1459" y="1100"/>
                  </a:lnTo>
                  <a:lnTo>
                    <a:pt x="1449" y="1109"/>
                  </a:lnTo>
                  <a:lnTo>
                    <a:pt x="1431" y="1128"/>
                  </a:lnTo>
                  <a:lnTo>
                    <a:pt x="1412" y="1156"/>
                  </a:lnTo>
                  <a:lnTo>
                    <a:pt x="1403" y="1175"/>
                  </a:lnTo>
                  <a:lnTo>
                    <a:pt x="1393" y="1184"/>
                  </a:lnTo>
                  <a:lnTo>
                    <a:pt x="1365" y="1212"/>
                  </a:lnTo>
                  <a:lnTo>
                    <a:pt x="1356" y="1231"/>
                  </a:lnTo>
                  <a:lnTo>
                    <a:pt x="1347" y="1240"/>
                  </a:lnTo>
                  <a:lnTo>
                    <a:pt x="1318" y="1268"/>
                  </a:lnTo>
                  <a:lnTo>
                    <a:pt x="1300" y="1277"/>
                  </a:lnTo>
                  <a:lnTo>
                    <a:pt x="1290" y="1296"/>
                  </a:lnTo>
                  <a:lnTo>
                    <a:pt x="1281" y="1305"/>
                  </a:lnTo>
                  <a:lnTo>
                    <a:pt x="1253" y="1324"/>
                  </a:lnTo>
                  <a:lnTo>
                    <a:pt x="1234" y="1343"/>
                  </a:lnTo>
                  <a:lnTo>
                    <a:pt x="1225" y="1352"/>
                  </a:lnTo>
                  <a:lnTo>
                    <a:pt x="1188" y="1371"/>
                  </a:lnTo>
                  <a:lnTo>
                    <a:pt x="1178" y="1380"/>
                  </a:lnTo>
                  <a:lnTo>
                    <a:pt x="1159" y="1399"/>
                  </a:lnTo>
                  <a:lnTo>
                    <a:pt x="1131" y="1417"/>
                  </a:lnTo>
                  <a:lnTo>
                    <a:pt x="1113" y="1426"/>
                  </a:lnTo>
                  <a:lnTo>
                    <a:pt x="1103" y="1436"/>
                  </a:lnTo>
                  <a:lnTo>
                    <a:pt x="1066" y="1454"/>
                  </a:lnTo>
                  <a:lnTo>
                    <a:pt x="1047" y="1454"/>
                  </a:lnTo>
                  <a:lnTo>
                    <a:pt x="1038" y="1464"/>
                  </a:lnTo>
                  <a:lnTo>
                    <a:pt x="1019" y="1473"/>
                  </a:lnTo>
                  <a:lnTo>
                    <a:pt x="982" y="1492"/>
                  </a:lnTo>
                  <a:lnTo>
                    <a:pt x="963" y="1501"/>
                  </a:lnTo>
                  <a:lnTo>
                    <a:pt x="954" y="1501"/>
                  </a:lnTo>
                  <a:lnTo>
                    <a:pt x="916" y="1520"/>
                  </a:lnTo>
                  <a:lnTo>
                    <a:pt x="898" y="1520"/>
                  </a:lnTo>
                  <a:lnTo>
                    <a:pt x="879" y="1529"/>
                  </a:lnTo>
                  <a:lnTo>
                    <a:pt x="841" y="1538"/>
                  </a:lnTo>
                  <a:lnTo>
                    <a:pt x="823" y="1538"/>
                  </a:lnTo>
                  <a:lnTo>
                    <a:pt x="813" y="1548"/>
                  </a:lnTo>
                  <a:lnTo>
                    <a:pt x="776" y="1557"/>
                  </a:lnTo>
                  <a:lnTo>
                    <a:pt x="757" y="1557"/>
                  </a:lnTo>
                  <a:lnTo>
                    <a:pt x="739" y="1557"/>
                  </a:lnTo>
                  <a:lnTo>
                    <a:pt x="720" y="1566"/>
                  </a:lnTo>
                  <a:lnTo>
                    <a:pt x="682" y="1566"/>
                  </a:lnTo>
                  <a:lnTo>
                    <a:pt x="664" y="1566"/>
                  </a:lnTo>
                  <a:lnTo>
                    <a:pt x="645" y="1566"/>
                  </a:lnTo>
                  <a:lnTo>
                    <a:pt x="608" y="1576"/>
                  </a:lnTo>
                  <a:lnTo>
                    <a:pt x="589" y="1576"/>
                  </a:lnTo>
                  <a:lnTo>
                    <a:pt x="570" y="1576"/>
                  </a:lnTo>
                  <a:lnTo>
                    <a:pt x="533" y="1576"/>
                  </a:lnTo>
                  <a:lnTo>
                    <a:pt x="514" y="1576"/>
                  </a:lnTo>
                  <a:lnTo>
                    <a:pt x="495" y="1566"/>
                  </a:lnTo>
                  <a:lnTo>
                    <a:pt x="458" y="1566"/>
                  </a:lnTo>
                  <a:lnTo>
                    <a:pt x="449" y="1566"/>
                  </a:lnTo>
                  <a:lnTo>
                    <a:pt x="430" y="1566"/>
                  </a:lnTo>
                  <a:lnTo>
                    <a:pt x="411" y="1557"/>
                  </a:lnTo>
                  <a:lnTo>
                    <a:pt x="374" y="1557"/>
                  </a:lnTo>
                  <a:lnTo>
                    <a:pt x="355" y="1548"/>
                  </a:lnTo>
                  <a:lnTo>
                    <a:pt x="336" y="1548"/>
                  </a:lnTo>
                  <a:lnTo>
                    <a:pt x="299" y="1538"/>
                  </a:lnTo>
                  <a:lnTo>
                    <a:pt x="280" y="1529"/>
                  </a:lnTo>
                  <a:lnTo>
                    <a:pt x="262" y="1529"/>
                  </a:lnTo>
                  <a:lnTo>
                    <a:pt x="233" y="1520"/>
                  </a:lnTo>
                  <a:lnTo>
                    <a:pt x="215" y="1510"/>
                  </a:lnTo>
                  <a:lnTo>
                    <a:pt x="196" y="1501"/>
                  </a:lnTo>
                  <a:lnTo>
                    <a:pt x="159" y="1492"/>
                  </a:lnTo>
                  <a:lnTo>
                    <a:pt x="140" y="1482"/>
                  </a:lnTo>
                  <a:lnTo>
                    <a:pt x="131" y="1473"/>
                  </a:lnTo>
                  <a:lnTo>
                    <a:pt x="112" y="1464"/>
                  </a:lnTo>
                  <a:lnTo>
                    <a:pt x="74" y="1454"/>
                  </a:lnTo>
                  <a:lnTo>
                    <a:pt x="65" y="1445"/>
                  </a:lnTo>
                  <a:lnTo>
                    <a:pt x="46" y="1436"/>
                  </a:lnTo>
                  <a:lnTo>
                    <a:pt x="18" y="1417"/>
                  </a:lnTo>
                  <a:lnTo>
                    <a:pt x="0" y="1408"/>
                  </a:lnTo>
                  <a:lnTo>
                    <a:pt x="570" y="522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99ccff"/>
            </a:solidFill>
            <a:ln w="5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2960" y="4163760"/>
              <a:ext cx="1235880" cy="1485720"/>
            </a:xfrm>
            <a:custGeom>
              <a:avLst/>
              <a:gdLst/>
              <a:ahLst/>
              <a:rect l="l" t="t" r="r" b="b"/>
              <a:pathLst>
                <a:path w="1047" h="1259">
                  <a:moveTo>
                    <a:pt x="477" y="1259"/>
                  </a:moveTo>
                  <a:lnTo>
                    <a:pt x="458" y="1250"/>
                  </a:lnTo>
                  <a:lnTo>
                    <a:pt x="430" y="1222"/>
                  </a:lnTo>
                  <a:lnTo>
                    <a:pt x="421" y="1212"/>
                  </a:lnTo>
                  <a:lnTo>
                    <a:pt x="402" y="1203"/>
                  </a:lnTo>
                  <a:lnTo>
                    <a:pt x="374" y="1175"/>
                  </a:lnTo>
                  <a:lnTo>
                    <a:pt x="355" y="1166"/>
                  </a:lnTo>
                  <a:lnTo>
                    <a:pt x="346" y="1156"/>
                  </a:lnTo>
                  <a:lnTo>
                    <a:pt x="336" y="1147"/>
                  </a:lnTo>
                  <a:lnTo>
                    <a:pt x="308" y="1119"/>
                  </a:lnTo>
                  <a:lnTo>
                    <a:pt x="290" y="1100"/>
                  </a:lnTo>
                  <a:lnTo>
                    <a:pt x="280" y="1091"/>
                  </a:lnTo>
                  <a:lnTo>
                    <a:pt x="252" y="1063"/>
                  </a:lnTo>
                  <a:lnTo>
                    <a:pt x="243" y="1054"/>
                  </a:lnTo>
                  <a:lnTo>
                    <a:pt x="233" y="1035"/>
                  </a:lnTo>
                  <a:lnTo>
                    <a:pt x="205" y="1007"/>
                  </a:lnTo>
                  <a:lnTo>
                    <a:pt x="196" y="988"/>
                  </a:lnTo>
                  <a:lnTo>
                    <a:pt x="187" y="979"/>
                  </a:lnTo>
                  <a:lnTo>
                    <a:pt x="177" y="960"/>
                  </a:lnTo>
                  <a:lnTo>
                    <a:pt x="159" y="933"/>
                  </a:lnTo>
                  <a:lnTo>
                    <a:pt x="149" y="914"/>
                  </a:lnTo>
                  <a:lnTo>
                    <a:pt x="140" y="905"/>
                  </a:lnTo>
                  <a:lnTo>
                    <a:pt x="121" y="867"/>
                  </a:lnTo>
                  <a:lnTo>
                    <a:pt x="112" y="849"/>
                  </a:lnTo>
                  <a:lnTo>
                    <a:pt x="103" y="839"/>
                  </a:lnTo>
                  <a:lnTo>
                    <a:pt x="84" y="802"/>
                  </a:lnTo>
                  <a:lnTo>
                    <a:pt x="84" y="783"/>
                  </a:lnTo>
                  <a:lnTo>
                    <a:pt x="74" y="765"/>
                  </a:lnTo>
                  <a:lnTo>
                    <a:pt x="65" y="755"/>
                  </a:lnTo>
                  <a:lnTo>
                    <a:pt x="56" y="718"/>
                  </a:lnTo>
                  <a:lnTo>
                    <a:pt x="46" y="699"/>
                  </a:lnTo>
                  <a:lnTo>
                    <a:pt x="46" y="681"/>
                  </a:lnTo>
                  <a:lnTo>
                    <a:pt x="37" y="643"/>
                  </a:lnTo>
                  <a:lnTo>
                    <a:pt x="28" y="625"/>
                  </a:lnTo>
                  <a:lnTo>
                    <a:pt x="28" y="616"/>
                  </a:lnTo>
                  <a:lnTo>
                    <a:pt x="18" y="578"/>
                  </a:lnTo>
                  <a:lnTo>
                    <a:pt x="9" y="560"/>
                  </a:lnTo>
                  <a:lnTo>
                    <a:pt x="9" y="541"/>
                  </a:lnTo>
                  <a:lnTo>
                    <a:pt x="9" y="522"/>
                  </a:lnTo>
                  <a:lnTo>
                    <a:pt x="0" y="485"/>
                  </a:lnTo>
                  <a:lnTo>
                    <a:pt x="0" y="466"/>
                  </a:lnTo>
                  <a:lnTo>
                    <a:pt x="0" y="448"/>
                  </a:lnTo>
                  <a:lnTo>
                    <a:pt x="0" y="410"/>
                  </a:lnTo>
                  <a:lnTo>
                    <a:pt x="0" y="392"/>
                  </a:lnTo>
                  <a:lnTo>
                    <a:pt x="0" y="373"/>
                  </a:lnTo>
                  <a:lnTo>
                    <a:pt x="0" y="336"/>
                  </a:lnTo>
                  <a:lnTo>
                    <a:pt x="0" y="317"/>
                  </a:lnTo>
                  <a:lnTo>
                    <a:pt x="0" y="299"/>
                  </a:lnTo>
                  <a:lnTo>
                    <a:pt x="0" y="280"/>
                  </a:lnTo>
                  <a:lnTo>
                    <a:pt x="9" y="252"/>
                  </a:lnTo>
                  <a:lnTo>
                    <a:pt x="9" y="233"/>
                  </a:lnTo>
                  <a:lnTo>
                    <a:pt x="9" y="215"/>
                  </a:lnTo>
                  <a:lnTo>
                    <a:pt x="18" y="177"/>
                  </a:lnTo>
                  <a:lnTo>
                    <a:pt x="18" y="159"/>
                  </a:lnTo>
                  <a:lnTo>
                    <a:pt x="28" y="140"/>
                  </a:lnTo>
                  <a:lnTo>
                    <a:pt x="37" y="103"/>
                  </a:lnTo>
                  <a:lnTo>
                    <a:pt x="37" y="84"/>
                  </a:lnTo>
                  <a:lnTo>
                    <a:pt x="46" y="65"/>
                  </a:lnTo>
                  <a:lnTo>
                    <a:pt x="46" y="47"/>
                  </a:lnTo>
                  <a:lnTo>
                    <a:pt x="65" y="19"/>
                  </a:lnTo>
                  <a:lnTo>
                    <a:pt x="65" y="0"/>
                  </a:lnTo>
                  <a:lnTo>
                    <a:pt x="1047" y="373"/>
                  </a:lnTo>
                  <a:lnTo>
                    <a:pt x="477" y="1259"/>
                  </a:lnTo>
                  <a:close/>
                </a:path>
              </a:pathLst>
            </a:custGeom>
            <a:solidFill>
              <a:srgbClr val="99ccff"/>
            </a:solidFill>
            <a:ln w="5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79640" y="3448080"/>
              <a:ext cx="1159200" cy="1155240"/>
            </a:xfrm>
            <a:custGeom>
              <a:avLst/>
              <a:gdLst/>
              <a:ahLst/>
              <a:rect l="l" t="t" r="r" b="b"/>
              <a:pathLst>
                <a:path w="982" h="979">
                  <a:moveTo>
                    <a:pt x="0" y="606"/>
                  </a:moveTo>
                  <a:lnTo>
                    <a:pt x="9" y="588"/>
                  </a:lnTo>
                  <a:lnTo>
                    <a:pt x="19" y="550"/>
                  </a:lnTo>
                  <a:lnTo>
                    <a:pt x="28" y="541"/>
                  </a:lnTo>
                  <a:lnTo>
                    <a:pt x="38" y="522"/>
                  </a:lnTo>
                  <a:lnTo>
                    <a:pt x="47" y="504"/>
                  </a:lnTo>
                  <a:lnTo>
                    <a:pt x="66" y="476"/>
                  </a:lnTo>
                  <a:lnTo>
                    <a:pt x="75" y="457"/>
                  </a:lnTo>
                  <a:lnTo>
                    <a:pt x="84" y="438"/>
                  </a:lnTo>
                  <a:lnTo>
                    <a:pt x="94" y="429"/>
                  </a:lnTo>
                  <a:lnTo>
                    <a:pt x="112" y="392"/>
                  </a:lnTo>
                  <a:lnTo>
                    <a:pt x="122" y="382"/>
                  </a:lnTo>
                  <a:lnTo>
                    <a:pt x="131" y="364"/>
                  </a:lnTo>
                  <a:lnTo>
                    <a:pt x="140" y="354"/>
                  </a:lnTo>
                  <a:lnTo>
                    <a:pt x="168" y="317"/>
                  </a:lnTo>
                  <a:lnTo>
                    <a:pt x="178" y="308"/>
                  </a:lnTo>
                  <a:lnTo>
                    <a:pt x="187" y="289"/>
                  </a:lnTo>
                  <a:lnTo>
                    <a:pt x="206" y="280"/>
                  </a:lnTo>
                  <a:lnTo>
                    <a:pt x="225" y="252"/>
                  </a:lnTo>
                  <a:lnTo>
                    <a:pt x="243" y="243"/>
                  </a:lnTo>
                  <a:lnTo>
                    <a:pt x="253" y="224"/>
                  </a:lnTo>
                  <a:lnTo>
                    <a:pt x="271" y="215"/>
                  </a:lnTo>
                  <a:lnTo>
                    <a:pt x="290" y="187"/>
                  </a:lnTo>
                  <a:lnTo>
                    <a:pt x="309" y="177"/>
                  </a:lnTo>
                  <a:lnTo>
                    <a:pt x="318" y="168"/>
                  </a:lnTo>
                  <a:lnTo>
                    <a:pt x="337" y="159"/>
                  </a:lnTo>
                  <a:lnTo>
                    <a:pt x="365" y="131"/>
                  </a:lnTo>
                  <a:lnTo>
                    <a:pt x="384" y="121"/>
                  </a:lnTo>
                  <a:lnTo>
                    <a:pt x="393" y="112"/>
                  </a:lnTo>
                  <a:lnTo>
                    <a:pt x="412" y="103"/>
                  </a:lnTo>
                  <a:lnTo>
                    <a:pt x="440" y="84"/>
                  </a:lnTo>
                  <a:lnTo>
                    <a:pt x="458" y="75"/>
                  </a:lnTo>
                  <a:lnTo>
                    <a:pt x="477" y="65"/>
                  </a:lnTo>
                  <a:lnTo>
                    <a:pt x="486" y="56"/>
                  </a:lnTo>
                  <a:lnTo>
                    <a:pt x="524" y="37"/>
                  </a:lnTo>
                  <a:lnTo>
                    <a:pt x="543" y="28"/>
                  </a:lnTo>
                  <a:lnTo>
                    <a:pt x="552" y="19"/>
                  </a:lnTo>
                  <a:lnTo>
                    <a:pt x="571" y="19"/>
                  </a:lnTo>
                  <a:lnTo>
                    <a:pt x="608" y="0"/>
                  </a:lnTo>
                  <a:lnTo>
                    <a:pt x="627" y="0"/>
                  </a:lnTo>
                  <a:lnTo>
                    <a:pt x="982" y="979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79640" y="3448080"/>
              <a:ext cx="1159200" cy="1155240"/>
            </a:xfrm>
            <a:custGeom>
              <a:avLst/>
              <a:gdLst/>
              <a:ahLst/>
              <a:rect l="l" t="t" r="r" b="b"/>
              <a:pathLst>
                <a:path w="982" h="979">
                  <a:moveTo>
                    <a:pt x="0" y="606"/>
                  </a:moveTo>
                  <a:lnTo>
                    <a:pt x="9" y="588"/>
                  </a:lnTo>
                  <a:lnTo>
                    <a:pt x="19" y="550"/>
                  </a:lnTo>
                  <a:lnTo>
                    <a:pt x="28" y="541"/>
                  </a:lnTo>
                  <a:lnTo>
                    <a:pt x="38" y="522"/>
                  </a:lnTo>
                  <a:lnTo>
                    <a:pt x="47" y="504"/>
                  </a:lnTo>
                  <a:lnTo>
                    <a:pt x="66" y="476"/>
                  </a:lnTo>
                  <a:lnTo>
                    <a:pt x="75" y="457"/>
                  </a:lnTo>
                  <a:lnTo>
                    <a:pt x="84" y="438"/>
                  </a:lnTo>
                  <a:lnTo>
                    <a:pt x="94" y="429"/>
                  </a:lnTo>
                  <a:lnTo>
                    <a:pt x="112" y="392"/>
                  </a:lnTo>
                  <a:lnTo>
                    <a:pt x="122" y="382"/>
                  </a:lnTo>
                  <a:lnTo>
                    <a:pt x="131" y="364"/>
                  </a:lnTo>
                  <a:lnTo>
                    <a:pt x="140" y="354"/>
                  </a:lnTo>
                  <a:lnTo>
                    <a:pt x="168" y="317"/>
                  </a:lnTo>
                  <a:lnTo>
                    <a:pt x="178" y="308"/>
                  </a:lnTo>
                  <a:lnTo>
                    <a:pt x="187" y="289"/>
                  </a:lnTo>
                  <a:lnTo>
                    <a:pt x="206" y="280"/>
                  </a:lnTo>
                  <a:lnTo>
                    <a:pt x="225" y="252"/>
                  </a:lnTo>
                  <a:lnTo>
                    <a:pt x="243" y="243"/>
                  </a:lnTo>
                  <a:lnTo>
                    <a:pt x="253" y="224"/>
                  </a:lnTo>
                  <a:lnTo>
                    <a:pt x="271" y="215"/>
                  </a:lnTo>
                  <a:lnTo>
                    <a:pt x="290" y="187"/>
                  </a:lnTo>
                  <a:lnTo>
                    <a:pt x="309" y="177"/>
                  </a:lnTo>
                  <a:lnTo>
                    <a:pt x="318" y="168"/>
                  </a:lnTo>
                  <a:lnTo>
                    <a:pt x="337" y="159"/>
                  </a:lnTo>
                  <a:lnTo>
                    <a:pt x="365" y="131"/>
                  </a:lnTo>
                  <a:lnTo>
                    <a:pt x="384" y="121"/>
                  </a:lnTo>
                  <a:lnTo>
                    <a:pt x="393" y="112"/>
                  </a:lnTo>
                  <a:lnTo>
                    <a:pt x="412" y="103"/>
                  </a:lnTo>
                  <a:lnTo>
                    <a:pt x="440" y="84"/>
                  </a:lnTo>
                  <a:lnTo>
                    <a:pt x="458" y="75"/>
                  </a:lnTo>
                  <a:lnTo>
                    <a:pt x="477" y="65"/>
                  </a:lnTo>
                  <a:lnTo>
                    <a:pt x="486" y="56"/>
                  </a:lnTo>
                  <a:lnTo>
                    <a:pt x="524" y="37"/>
                  </a:lnTo>
                  <a:lnTo>
                    <a:pt x="543" y="28"/>
                  </a:lnTo>
                  <a:lnTo>
                    <a:pt x="552" y="19"/>
                  </a:lnTo>
                  <a:lnTo>
                    <a:pt x="571" y="19"/>
                  </a:lnTo>
                  <a:lnTo>
                    <a:pt x="608" y="0"/>
                  </a:lnTo>
                  <a:lnTo>
                    <a:pt x="627" y="0"/>
                  </a:lnTo>
                  <a:lnTo>
                    <a:pt x="982" y="979"/>
                  </a:lnTo>
                  <a:lnTo>
                    <a:pt x="0" y="606"/>
                  </a:lnTo>
                  <a:close/>
                </a:path>
              </a:pathLst>
            </a:custGeom>
            <a:noFill/>
            <a:ln w="5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69800" y="4560120"/>
              <a:ext cx="161604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Humanitarian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ssistance 21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96320" y="4878720"/>
              <a:ext cx="161856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evelopment-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elated activities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43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70000" y="3128400"/>
              <a:ext cx="1618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eacekeeping 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22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63600" y="3180240"/>
              <a:ext cx="182952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Global policy, advocacy, norms and standards 14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Major operational entities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(share of total contributions; 2008; $22.2 billion)</a:t>
            </a: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Overview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1219320" y="2209680"/>
            <a:ext cx="6095880" cy="3424320"/>
            <a:chOff x="1219320" y="2209680"/>
            <a:chExt cx="6095880" cy="3424320"/>
          </a:xfrm>
        </p:grpSpPr>
        <p:sp>
          <p:nvSpPr>
            <p:cNvPr id="66" name="AutoShape 9"/>
            <p:cNvSpPr/>
            <p:nvPr/>
          </p:nvSpPr>
          <p:spPr>
            <a:xfrm>
              <a:off x="1219320" y="2209680"/>
              <a:ext cx="6095880" cy="34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0a50a1"/>
                </a:buClr>
                <a:buFont typeface="Univer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3318480" y="3868920"/>
              <a:ext cx="1415880" cy="1181880"/>
            </a:xfrm>
            <a:custGeom>
              <a:avLst/>
              <a:gdLst/>
              <a:ahLst/>
              <a:rect l="l" t="t" r="r" b="b"/>
              <a:pathLst>
                <a:path w="1244" h="1020">
                  <a:moveTo>
                    <a:pt x="1244" y="954"/>
                  </a:moveTo>
                  <a:lnTo>
                    <a:pt x="1210" y="965"/>
                  </a:lnTo>
                  <a:lnTo>
                    <a:pt x="1199" y="976"/>
                  </a:lnTo>
                  <a:lnTo>
                    <a:pt x="1166" y="987"/>
                  </a:lnTo>
                  <a:lnTo>
                    <a:pt x="1145" y="987"/>
                  </a:lnTo>
                  <a:lnTo>
                    <a:pt x="1111" y="998"/>
                  </a:lnTo>
                  <a:lnTo>
                    <a:pt x="1078" y="998"/>
                  </a:lnTo>
                  <a:lnTo>
                    <a:pt x="1056" y="1009"/>
                  </a:lnTo>
                  <a:lnTo>
                    <a:pt x="1022" y="1009"/>
                  </a:lnTo>
                  <a:lnTo>
                    <a:pt x="1000" y="1009"/>
                  </a:lnTo>
                  <a:lnTo>
                    <a:pt x="967" y="1020"/>
                  </a:lnTo>
                  <a:lnTo>
                    <a:pt x="933" y="1020"/>
                  </a:lnTo>
                  <a:lnTo>
                    <a:pt x="911" y="1020"/>
                  </a:lnTo>
                  <a:lnTo>
                    <a:pt x="878" y="1020"/>
                  </a:lnTo>
                  <a:lnTo>
                    <a:pt x="844" y="1020"/>
                  </a:lnTo>
                  <a:lnTo>
                    <a:pt x="822" y="1020"/>
                  </a:lnTo>
                  <a:lnTo>
                    <a:pt x="789" y="1009"/>
                  </a:lnTo>
                  <a:lnTo>
                    <a:pt x="777" y="1009"/>
                  </a:lnTo>
                  <a:lnTo>
                    <a:pt x="733" y="1009"/>
                  </a:lnTo>
                  <a:lnTo>
                    <a:pt x="700" y="998"/>
                  </a:lnTo>
                  <a:lnTo>
                    <a:pt x="688" y="998"/>
                  </a:lnTo>
                  <a:lnTo>
                    <a:pt x="645" y="987"/>
                  </a:lnTo>
                  <a:lnTo>
                    <a:pt x="634" y="987"/>
                  </a:lnTo>
                  <a:lnTo>
                    <a:pt x="600" y="976"/>
                  </a:lnTo>
                  <a:lnTo>
                    <a:pt x="567" y="965"/>
                  </a:lnTo>
                  <a:lnTo>
                    <a:pt x="545" y="954"/>
                  </a:lnTo>
                  <a:lnTo>
                    <a:pt x="511" y="943"/>
                  </a:lnTo>
                  <a:lnTo>
                    <a:pt x="500" y="932"/>
                  </a:lnTo>
                  <a:lnTo>
                    <a:pt x="467" y="921"/>
                  </a:lnTo>
                  <a:lnTo>
                    <a:pt x="433" y="910"/>
                  </a:lnTo>
                  <a:lnTo>
                    <a:pt x="422" y="899"/>
                  </a:lnTo>
                  <a:lnTo>
                    <a:pt x="389" y="876"/>
                  </a:lnTo>
                  <a:lnTo>
                    <a:pt x="367" y="876"/>
                  </a:lnTo>
                  <a:lnTo>
                    <a:pt x="344" y="854"/>
                  </a:lnTo>
                  <a:lnTo>
                    <a:pt x="311" y="832"/>
                  </a:lnTo>
                  <a:lnTo>
                    <a:pt x="300" y="821"/>
                  </a:lnTo>
                  <a:lnTo>
                    <a:pt x="266" y="799"/>
                  </a:lnTo>
                  <a:lnTo>
                    <a:pt x="255" y="788"/>
                  </a:lnTo>
                  <a:lnTo>
                    <a:pt x="222" y="765"/>
                  </a:lnTo>
                  <a:lnTo>
                    <a:pt x="200" y="743"/>
                  </a:lnTo>
                  <a:lnTo>
                    <a:pt x="190" y="732"/>
                  </a:lnTo>
                  <a:lnTo>
                    <a:pt x="167" y="710"/>
                  </a:lnTo>
                  <a:lnTo>
                    <a:pt x="134" y="677"/>
                  </a:lnTo>
                  <a:lnTo>
                    <a:pt x="123" y="666"/>
                  </a:lnTo>
                  <a:lnTo>
                    <a:pt x="101" y="643"/>
                  </a:lnTo>
                  <a:lnTo>
                    <a:pt x="89" y="621"/>
                  </a:lnTo>
                  <a:lnTo>
                    <a:pt x="67" y="599"/>
                  </a:lnTo>
                  <a:lnTo>
                    <a:pt x="45" y="566"/>
                  </a:lnTo>
                  <a:lnTo>
                    <a:pt x="45" y="555"/>
                  </a:lnTo>
                  <a:lnTo>
                    <a:pt x="23" y="522"/>
                  </a:lnTo>
                  <a:lnTo>
                    <a:pt x="12" y="510"/>
                  </a:lnTo>
                  <a:lnTo>
                    <a:pt x="0" y="477"/>
                  </a:lnTo>
                  <a:lnTo>
                    <a:pt x="900" y="0"/>
                  </a:lnTo>
                  <a:lnTo>
                    <a:pt x="1244" y="954"/>
                  </a:ln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318480" y="3868920"/>
              <a:ext cx="1415880" cy="1181880"/>
            </a:xfrm>
            <a:custGeom>
              <a:avLst/>
              <a:gdLst/>
              <a:ahLst/>
              <a:rect l="l" t="t" r="r" b="b"/>
              <a:pathLst>
                <a:path w="1244" h="1020">
                  <a:moveTo>
                    <a:pt x="1244" y="954"/>
                  </a:moveTo>
                  <a:lnTo>
                    <a:pt x="1210" y="965"/>
                  </a:lnTo>
                  <a:lnTo>
                    <a:pt x="1199" y="976"/>
                  </a:lnTo>
                  <a:lnTo>
                    <a:pt x="1166" y="987"/>
                  </a:lnTo>
                  <a:lnTo>
                    <a:pt x="1145" y="987"/>
                  </a:lnTo>
                  <a:lnTo>
                    <a:pt x="1111" y="998"/>
                  </a:lnTo>
                  <a:lnTo>
                    <a:pt x="1078" y="998"/>
                  </a:lnTo>
                  <a:lnTo>
                    <a:pt x="1056" y="1009"/>
                  </a:lnTo>
                  <a:lnTo>
                    <a:pt x="1022" y="1009"/>
                  </a:lnTo>
                  <a:lnTo>
                    <a:pt x="1000" y="1009"/>
                  </a:lnTo>
                  <a:lnTo>
                    <a:pt x="967" y="1020"/>
                  </a:lnTo>
                  <a:lnTo>
                    <a:pt x="933" y="1020"/>
                  </a:lnTo>
                  <a:lnTo>
                    <a:pt x="911" y="1020"/>
                  </a:lnTo>
                  <a:lnTo>
                    <a:pt x="878" y="1020"/>
                  </a:lnTo>
                  <a:lnTo>
                    <a:pt x="844" y="1020"/>
                  </a:lnTo>
                  <a:lnTo>
                    <a:pt x="822" y="1020"/>
                  </a:lnTo>
                  <a:lnTo>
                    <a:pt x="789" y="1009"/>
                  </a:lnTo>
                  <a:lnTo>
                    <a:pt x="777" y="1009"/>
                  </a:lnTo>
                  <a:lnTo>
                    <a:pt x="733" y="1009"/>
                  </a:lnTo>
                  <a:lnTo>
                    <a:pt x="700" y="998"/>
                  </a:lnTo>
                  <a:lnTo>
                    <a:pt x="688" y="998"/>
                  </a:lnTo>
                  <a:lnTo>
                    <a:pt x="645" y="987"/>
                  </a:lnTo>
                  <a:lnTo>
                    <a:pt x="634" y="987"/>
                  </a:lnTo>
                  <a:lnTo>
                    <a:pt x="600" y="976"/>
                  </a:lnTo>
                  <a:lnTo>
                    <a:pt x="567" y="965"/>
                  </a:lnTo>
                  <a:lnTo>
                    <a:pt x="545" y="954"/>
                  </a:lnTo>
                  <a:lnTo>
                    <a:pt x="511" y="943"/>
                  </a:lnTo>
                  <a:lnTo>
                    <a:pt x="500" y="932"/>
                  </a:lnTo>
                  <a:lnTo>
                    <a:pt x="467" y="921"/>
                  </a:lnTo>
                  <a:lnTo>
                    <a:pt x="433" y="910"/>
                  </a:lnTo>
                  <a:lnTo>
                    <a:pt x="422" y="899"/>
                  </a:lnTo>
                  <a:lnTo>
                    <a:pt x="389" y="876"/>
                  </a:lnTo>
                  <a:lnTo>
                    <a:pt x="367" y="876"/>
                  </a:lnTo>
                  <a:lnTo>
                    <a:pt x="344" y="854"/>
                  </a:lnTo>
                  <a:lnTo>
                    <a:pt x="311" y="832"/>
                  </a:lnTo>
                  <a:lnTo>
                    <a:pt x="300" y="821"/>
                  </a:lnTo>
                  <a:lnTo>
                    <a:pt x="266" y="799"/>
                  </a:lnTo>
                  <a:lnTo>
                    <a:pt x="255" y="788"/>
                  </a:lnTo>
                  <a:lnTo>
                    <a:pt x="222" y="765"/>
                  </a:lnTo>
                  <a:lnTo>
                    <a:pt x="200" y="743"/>
                  </a:lnTo>
                  <a:lnTo>
                    <a:pt x="190" y="732"/>
                  </a:lnTo>
                  <a:lnTo>
                    <a:pt x="167" y="710"/>
                  </a:lnTo>
                  <a:lnTo>
                    <a:pt x="134" y="677"/>
                  </a:lnTo>
                  <a:lnTo>
                    <a:pt x="123" y="666"/>
                  </a:lnTo>
                  <a:lnTo>
                    <a:pt x="101" y="643"/>
                  </a:lnTo>
                  <a:lnTo>
                    <a:pt x="89" y="621"/>
                  </a:lnTo>
                  <a:lnTo>
                    <a:pt x="67" y="599"/>
                  </a:lnTo>
                  <a:lnTo>
                    <a:pt x="45" y="566"/>
                  </a:lnTo>
                  <a:lnTo>
                    <a:pt x="45" y="555"/>
                  </a:lnTo>
                  <a:lnTo>
                    <a:pt x="23" y="522"/>
                  </a:lnTo>
                  <a:lnTo>
                    <a:pt x="12" y="510"/>
                  </a:lnTo>
                  <a:lnTo>
                    <a:pt x="0" y="477"/>
                  </a:lnTo>
                  <a:lnTo>
                    <a:pt x="900" y="0"/>
                  </a:lnTo>
                  <a:lnTo>
                    <a:pt x="1244" y="954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3179520" y="2931480"/>
              <a:ext cx="1163160" cy="1490040"/>
            </a:xfrm>
            <a:custGeom>
              <a:avLst/>
              <a:gdLst/>
              <a:ahLst/>
              <a:rect l="l" t="t" r="r" b="b"/>
              <a:pathLst>
                <a:path w="1022" h="1286">
                  <a:moveTo>
                    <a:pt x="122" y="1286"/>
                  </a:moveTo>
                  <a:lnTo>
                    <a:pt x="100" y="1253"/>
                  </a:lnTo>
                  <a:lnTo>
                    <a:pt x="89" y="1242"/>
                  </a:lnTo>
                  <a:lnTo>
                    <a:pt x="78" y="1209"/>
                  </a:lnTo>
                  <a:lnTo>
                    <a:pt x="67" y="1175"/>
                  </a:lnTo>
                  <a:lnTo>
                    <a:pt x="56" y="1153"/>
                  </a:lnTo>
                  <a:lnTo>
                    <a:pt x="44" y="1120"/>
                  </a:lnTo>
                  <a:lnTo>
                    <a:pt x="33" y="1087"/>
                  </a:lnTo>
                  <a:lnTo>
                    <a:pt x="33" y="1075"/>
                  </a:lnTo>
                  <a:lnTo>
                    <a:pt x="22" y="1031"/>
                  </a:lnTo>
                  <a:lnTo>
                    <a:pt x="11" y="998"/>
                  </a:lnTo>
                  <a:lnTo>
                    <a:pt x="11" y="987"/>
                  </a:lnTo>
                  <a:lnTo>
                    <a:pt x="11" y="954"/>
                  </a:lnTo>
                  <a:lnTo>
                    <a:pt x="0" y="909"/>
                  </a:lnTo>
                  <a:lnTo>
                    <a:pt x="0" y="898"/>
                  </a:lnTo>
                  <a:lnTo>
                    <a:pt x="0" y="865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776"/>
                  </a:lnTo>
                  <a:lnTo>
                    <a:pt x="0" y="732"/>
                  </a:lnTo>
                  <a:lnTo>
                    <a:pt x="0" y="721"/>
                  </a:lnTo>
                  <a:lnTo>
                    <a:pt x="0" y="687"/>
                  </a:lnTo>
                  <a:lnTo>
                    <a:pt x="11" y="643"/>
                  </a:lnTo>
                  <a:lnTo>
                    <a:pt x="11" y="632"/>
                  </a:lnTo>
                  <a:lnTo>
                    <a:pt x="22" y="599"/>
                  </a:lnTo>
                  <a:lnTo>
                    <a:pt x="22" y="554"/>
                  </a:lnTo>
                  <a:lnTo>
                    <a:pt x="33" y="543"/>
                  </a:lnTo>
                  <a:lnTo>
                    <a:pt x="44" y="510"/>
                  </a:lnTo>
                  <a:lnTo>
                    <a:pt x="56" y="477"/>
                  </a:lnTo>
                  <a:lnTo>
                    <a:pt x="56" y="455"/>
                  </a:lnTo>
                  <a:lnTo>
                    <a:pt x="67" y="421"/>
                  </a:lnTo>
                  <a:lnTo>
                    <a:pt x="89" y="388"/>
                  </a:lnTo>
                  <a:lnTo>
                    <a:pt x="89" y="377"/>
                  </a:lnTo>
                  <a:lnTo>
                    <a:pt x="111" y="344"/>
                  </a:lnTo>
                  <a:lnTo>
                    <a:pt x="122" y="310"/>
                  </a:lnTo>
                  <a:lnTo>
                    <a:pt x="134" y="299"/>
                  </a:lnTo>
                  <a:lnTo>
                    <a:pt x="156" y="266"/>
                  </a:lnTo>
                  <a:lnTo>
                    <a:pt x="167" y="233"/>
                  </a:lnTo>
                  <a:lnTo>
                    <a:pt x="178" y="222"/>
                  </a:lnTo>
                  <a:lnTo>
                    <a:pt x="200" y="188"/>
                  </a:lnTo>
                  <a:lnTo>
                    <a:pt x="223" y="166"/>
                  </a:lnTo>
                  <a:lnTo>
                    <a:pt x="234" y="155"/>
                  </a:lnTo>
                  <a:lnTo>
                    <a:pt x="256" y="122"/>
                  </a:lnTo>
                  <a:lnTo>
                    <a:pt x="289" y="100"/>
                  </a:lnTo>
                  <a:lnTo>
                    <a:pt x="300" y="89"/>
                  </a:lnTo>
                  <a:lnTo>
                    <a:pt x="322" y="55"/>
                  </a:lnTo>
                  <a:lnTo>
                    <a:pt x="344" y="33"/>
                  </a:lnTo>
                  <a:lnTo>
                    <a:pt x="366" y="22"/>
                  </a:lnTo>
                  <a:lnTo>
                    <a:pt x="388" y="0"/>
                  </a:lnTo>
                  <a:lnTo>
                    <a:pt x="1022" y="809"/>
                  </a:lnTo>
                  <a:lnTo>
                    <a:pt x="122" y="1286"/>
                  </a:lnTo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179520" y="2931480"/>
              <a:ext cx="1163160" cy="1490040"/>
            </a:xfrm>
            <a:custGeom>
              <a:avLst/>
              <a:gdLst/>
              <a:ahLst/>
              <a:rect l="l" t="t" r="r" b="b"/>
              <a:pathLst>
                <a:path w="1022" h="1286">
                  <a:moveTo>
                    <a:pt x="122" y="1286"/>
                  </a:moveTo>
                  <a:lnTo>
                    <a:pt x="100" y="1253"/>
                  </a:lnTo>
                  <a:lnTo>
                    <a:pt x="89" y="1242"/>
                  </a:lnTo>
                  <a:lnTo>
                    <a:pt x="78" y="1209"/>
                  </a:lnTo>
                  <a:lnTo>
                    <a:pt x="67" y="1175"/>
                  </a:lnTo>
                  <a:lnTo>
                    <a:pt x="56" y="1153"/>
                  </a:lnTo>
                  <a:lnTo>
                    <a:pt x="44" y="1120"/>
                  </a:lnTo>
                  <a:lnTo>
                    <a:pt x="33" y="1087"/>
                  </a:lnTo>
                  <a:lnTo>
                    <a:pt x="33" y="1075"/>
                  </a:lnTo>
                  <a:lnTo>
                    <a:pt x="22" y="1031"/>
                  </a:lnTo>
                  <a:lnTo>
                    <a:pt x="11" y="998"/>
                  </a:lnTo>
                  <a:lnTo>
                    <a:pt x="11" y="987"/>
                  </a:lnTo>
                  <a:lnTo>
                    <a:pt x="11" y="954"/>
                  </a:lnTo>
                  <a:lnTo>
                    <a:pt x="0" y="909"/>
                  </a:lnTo>
                  <a:lnTo>
                    <a:pt x="0" y="898"/>
                  </a:lnTo>
                  <a:lnTo>
                    <a:pt x="0" y="865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776"/>
                  </a:lnTo>
                  <a:lnTo>
                    <a:pt x="0" y="732"/>
                  </a:lnTo>
                  <a:lnTo>
                    <a:pt x="0" y="721"/>
                  </a:lnTo>
                  <a:lnTo>
                    <a:pt x="0" y="687"/>
                  </a:lnTo>
                  <a:lnTo>
                    <a:pt x="11" y="643"/>
                  </a:lnTo>
                  <a:lnTo>
                    <a:pt x="11" y="632"/>
                  </a:lnTo>
                  <a:lnTo>
                    <a:pt x="22" y="599"/>
                  </a:lnTo>
                  <a:lnTo>
                    <a:pt x="22" y="554"/>
                  </a:lnTo>
                  <a:lnTo>
                    <a:pt x="33" y="543"/>
                  </a:lnTo>
                  <a:lnTo>
                    <a:pt x="44" y="510"/>
                  </a:lnTo>
                  <a:lnTo>
                    <a:pt x="56" y="477"/>
                  </a:lnTo>
                  <a:lnTo>
                    <a:pt x="56" y="455"/>
                  </a:lnTo>
                  <a:lnTo>
                    <a:pt x="67" y="421"/>
                  </a:lnTo>
                  <a:lnTo>
                    <a:pt x="89" y="388"/>
                  </a:lnTo>
                  <a:lnTo>
                    <a:pt x="89" y="377"/>
                  </a:lnTo>
                  <a:lnTo>
                    <a:pt x="111" y="344"/>
                  </a:lnTo>
                  <a:lnTo>
                    <a:pt x="122" y="310"/>
                  </a:lnTo>
                  <a:lnTo>
                    <a:pt x="134" y="299"/>
                  </a:lnTo>
                  <a:lnTo>
                    <a:pt x="156" y="266"/>
                  </a:lnTo>
                  <a:lnTo>
                    <a:pt x="167" y="233"/>
                  </a:lnTo>
                  <a:lnTo>
                    <a:pt x="178" y="222"/>
                  </a:lnTo>
                  <a:lnTo>
                    <a:pt x="200" y="188"/>
                  </a:lnTo>
                  <a:lnTo>
                    <a:pt x="223" y="166"/>
                  </a:lnTo>
                  <a:lnTo>
                    <a:pt x="234" y="155"/>
                  </a:lnTo>
                  <a:lnTo>
                    <a:pt x="256" y="122"/>
                  </a:lnTo>
                  <a:lnTo>
                    <a:pt x="289" y="100"/>
                  </a:lnTo>
                  <a:lnTo>
                    <a:pt x="300" y="89"/>
                  </a:lnTo>
                  <a:lnTo>
                    <a:pt x="322" y="55"/>
                  </a:lnTo>
                  <a:lnTo>
                    <a:pt x="344" y="33"/>
                  </a:lnTo>
                  <a:lnTo>
                    <a:pt x="366" y="22"/>
                  </a:lnTo>
                  <a:lnTo>
                    <a:pt x="388" y="0"/>
                  </a:lnTo>
                  <a:lnTo>
                    <a:pt x="1022" y="809"/>
                  </a:lnTo>
                  <a:lnTo>
                    <a:pt x="122" y="1286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621240" y="2687040"/>
              <a:ext cx="1062000" cy="1181880"/>
            </a:xfrm>
            <a:custGeom>
              <a:avLst/>
              <a:gdLst/>
              <a:ahLst/>
              <a:rect l="l" t="t" r="r" b="b"/>
              <a:pathLst>
                <a:path w="933" h="1020">
                  <a:moveTo>
                    <a:pt x="0" y="211"/>
                  </a:moveTo>
                  <a:lnTo>
                    <a:pt x="34" y="189"/>
                  </a:lnTo>
                  <a:lnTo>
                    <a:pt x="45" y="178"/>
                  </a:lnTo>
                  <a:lnTo>
                    <a:pt x="78" y="167"/>
                  </a:lnTo>
                  <a:lnTo>
                    <a:pt x="101" y="144"/>
                  </a:lnTo>
                  <a:lnTo>
                    <a:pt x="123" y="133"/>
                  </a:lnTo>
                  <a:lnTo>
                    <a:pt x="156" y="122"/>
                  </a:lnTo>
                  <a:lnTo>
                    <a:pt x="179" y="100"/>
                  </a:lnTo>
                  <a:lnTo>
                    <a:pt x="201" y="89"/>
                  </a:lnTo>
                  <a:lnTo>
                    <a:pt x="234" y="78"/>
                  </a:lnTo>
                  <a:lnTo>
                    <a:pt x="268" y="67"/>
                  </a:lnTo>
                  <a:lnTo>
                    <a:pt x="279" y="56"/>
                  </a:lnTo>
                  <a:lnTo>
                    <a:pt x="312" y="45"/>
                  </a:lnTo>
                  <a:lnTo>
                    <a:pt x="345" y="33"/>
                  </a:lnTo>
                  <a:lnTo>
                    <a:pt x="368" y="33"/>
                  </a:lnTo>
                  <a:lnTo>
                    <a:pt x="400" y="22"/>
                  </a:lnTo>
                  <a:lnTo>
                    <a:pt x="434" y="11"/>
                  </a:lnTo>
                  <a:lnTo>
                    <a:pt x="456" y="11"/>
                  </a:lnTo>
                  <a:lnTo>
                    <a:pt x="489" y="11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78" y="0"/>
                  </a:lnTo>
                  <a:lnTo>
                    <a:pt x="612" y="0"/>
                  </a:lnTo>
                  <a:lnTo>
                    <a:pt x="634" y="0"/>
                  </a:lnTo>
                  <a:lnTo>
                    <a:pt x="667" y="0"/>
                  </a:lnTo>
                  <a:lnTo>
                    <a:pt x="701" y="0"/>
                  </a:lnTo>
                  <a:lnTo>
                    <a:pt x="723" y="0"/>
                  </a:lnTo>
                  <a:lnTo>
                    <a:pt x="756" y="0"/>
                  </a:lnTo>
                  <a:lnTo>
                    <a:pt x="790" y="11"/>
                  </a:lnTo>
                  <a:lnTo>
                    <a:pt x="812" y="11"/>
                  </a:lnTo>
                  <a:lnTo>
                    <a:pt x="845" y="22"/>
                  </a:lnTo>
                  <a:lnTo>
                    <a:pt x="879" y="22"/>
                  </a:lnTo>
                  <a:lnTo>
                    <a:pt x="900" y="33"/>
                  </a:lnTo>
                  <a:lnTo>
                    <a:pt x="933" y="45"/>
                  </a:lnTo>
                  <a:lnTo>
                    <a:pt x="634" y="102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3621240" y="2687040"/>
              <a:ext cx="1062000" cy="1181880"/>
            </a:xfrm>
            <a:custGeom>
              <a:avLst/>
              <a:gdLst/>
              <a:ahLst/>
              <a:rect l="l" t="t" r="r" b="b"/>
              <a:pathLst>
                <a:path w="933" h="1020">
                  <a:moveTo>
                    <a:pt x="0" y="211"/>
                  </a:moveTo>
                  <a:lnTo>
                    <a:pt x="34" y="189"/>
                  </a:lnTo>
                  <a:lnTo>
                    <a:pt x="45" y="178"/>
                  </a:lnTo>
                  <a:lnTo>
                    <a:pt x="78" y="167"/>
                  </a:lnTo>
                  <a:lnTo>
                    <a:pt x="101" y="144"/>
                  </a:lnTo>
                  <a:lnTo>
                    <a:pt x="123" y="133"/>
                  </a:lnTo>
                  <a:lnTo>
                    <a:pt x="156" y="122"/>
                  </a:lnTo>
                  <a:lnTo>
                    <a:pt x="179" y="100"/>
                  </a:lnTo>
                  <a:lnTo>
                    <a:pt x="201" y="89"/>
                  </a:lnTo>
                  <a:lnTo>
                    <a:pt x="234" y="78"/>
                  </a:lnTo>
                  <a:lnTo>
                    <a:pt x="268" y="67"/>
                  </a:lnTo>
                  <a:lnTo>
                    <a:pt x="279" y="56"/>
                  </a:lnTo>
                  <a:lnTo>
                    <a:pt x="312" y="45"/>
                  </a:lnTo>
                  <a:lnTo>
                    <a:pt x="345" y="33"/>
                  </a:lnTo>
                  <a:lnTo>
                    <a:pt x="368" y="33"/>
                  </a:lnTo>
                  <a:lnTo>
                    <a:pt x="400" y="22"/>
                  </a:lnTo>
                  <a:lnTo>
                    <a:pt x="434" y="11"/>
                  </a:lnTo>
                  <a:lnTo>
                    <a:pt x="456" y="11"/>
                  </a:lnTo>
                  <a:lnTo>
                    <a:pt x="489" y="11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78" y="0"/>
                  </a:lnTo>
                  <a:lnTo>
                    <a:pt x="612" y="0"/>
                  </a:lnTo>
                  <a:lnTo>
                    <a:pt x="634" y="0"/>
                  </a:lnTo>
                  <a:lnTo>
                    <a:pt x="667" y="0"/>
                  </a:lnTo>
                  <a:lnTo>
                    <a:pt x="701" y="0"/>
                  </a:lnTo>
                  <a:lnTo>
                    <a:pt x="723" y="0"/>
                  </a:lnTo>
                  <a:lnTo>
                    <a:pt x="756" y="0"/>
                  </a:lnTo>
                  <a:lnTo>
                    <a:pt x="790" y="11"/>
                  </a:lnTo>
                  <a:lnTo>
                    <a:pt x="812" y="11"/>
                  </a:lnTo>
                  <a:lnTo>
                    <a:pt x="845" y="22"/>
                  </a:lnTo>
                  <a:lnTo>
                    <a:pt x="879" y="22"/>
                  </a:lnTo>
                  <a:lnTo>
                    <a:pt x="900" y="33"/>
                  </a:lnTo>
                  <a:lnTo>
                    <a:pt x="933" y="45"/>
                  </a:lnTo>
                  <a:lnTo>
                    <a:pt x="634" y="1020"/>
                  </a:lnTo>
                  <a:lnTo>
                    <a:pt x="0" y="211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3" name="Freeform 16"/>
            <p:cNvSpPr/>
            <p:nvPr/>
          </p:nvSpPr>
          <p:spPr>
            <a:xfrm>
              <a:off x="4343040" y="2738880"/>
              <a:ext cx="783000" cy="1129680"/>
            </a:xfrm>
            <a:custGeom>
              <a:avLst/>
              <a:gdLst/>
              <a:ahLst/>
              <a:rect l="l" t="t" r="r" b="b"/>
              <a:pathLst>
                <a:path w="688" h="975">
                  <a:moveTo>
                    <a:pt x="299" y="0"/>
                  </a:moveTo>
                  <a:lnTo>
                    <a:pt x="310" y="0"/>
                  </a:lnTo>
                  <a:lnTo>
                    <a:pt x="344" y="11"/>
                  </a:lnTo>
                  <a:lnTo>
                    <a:pt x="366" y="22"/>
                  </a:lnTo>
                  <a:lnTo>
                    <a:pt x="400" y="33"/>
                  </a:lnTo>
                  <a:lnTo>
                    <a:pt x="411" y="44"/>
                  </a:lnTo>
                  <a:lnTo>
                    <a:pt x="444" y="55"/>
                  </a:lnTo>
                  <a:lnTo>
                    <a:pt x="466" y="66"/>
                  </a:lnTo>
                  <a:lnTo>
                    <a:pt x="489" y="77"/>
                  </a:lnTo>
                  <a:lnTo>
                    <a:pt x="511" y="88"/>
                  </a:lnTo>
                  <a:lnTo>
                    <a:pt x="522" y="99"/>
                  </a:lnTo>
                  <a:lnTo>
                    <a:pt x="555" y="122"/>
                  </a:lnTo>
                  <a:lnTo>
                    <a:pt x="566" y="122"/>
                  </a:lnTo>
                  <a:lnTo>
                    <a:pt x="600" y="144"/>
                  </a:lnTo>
                  <a:lnTo>
                    <a:pt x="611" y="155"/>
                  </a:lnTo>
                  <a:lnTo>
                    <a:pt x="644" y="177"/>
                  </a:lnTo>
                  <a:lnTo>
                    <a:pt x="655" y="188"/>
                  </a:lnTo>
                  <a:lnTo>
                    <a:pt x="678" y="210"/>
                  </a:lnTo>
                  <a:lnTo>
                    <a:pt x="688" y="221"/>
                  </a:lnTo>
                  <a:lnTo>
                    <a:pt x="0" y="975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343040" y="2738880"/>
              <a:ext cx="783000" cy="1129680"/>
            </a:xfrm>
            <a:custGeom>
              <a:avLst/>
              <a:gdLst/>
              <a:ahLst/>
              <a:rect l="l" t="t" r="r" b="b"/>
              <a:pathLst>
                <a:path w="688" h="975">
                  <a:moveTo>
                    <a:pt x="299" y="0"/>
                  </a:moveTo>
                  <a:lnTo>
                    <a:pt x="310" y="0"/>
                  </a:lnTo>
                  <a:lnTo>
                    <a:pt x="344" y="11"/>
                  </a:lnTo>
                  <a:lnTo>
                    <a:pt x="366" y="22"/>
                  </a:lnTo>
                  <a:lnTo>
                    <a:pt x="400" y="33"/>
                  </a:lnTo>
                  <a:lnTo>
                    <a:pt x="411" y="44"/>
                  </a:lnTo>
                  <a:lnTo>
                    <a:pt x="444" y="55"/>
                  </a:lnTo>
                  <a:lnTo>
                    <a:pt x="466" y="66"/>
                  </a:lnTo>
                  <a:lnTo>
                    <a:pt x="489" y="77"/>
                  </a:lnTo>
                  <a:lnTo>
                    <a:pt x="511" y="88"/>
                  </a:lnTo>
                  <a:lnTo>
                    <a:pt x="522" y="99"/>
                  </a:lnTo>
                  <a:lnTo>
                    <a:pt x="555" y="122"/>
                  </a:lnTo>
                  <a:lnTo>
                    <a:pt x="566" y="122"/>
                  </a:lnTo>
                  <a:lnTo>
                    <a:pt x="600" y="144"/>
                  </a:lnTo>
                  <a:lnTo>
                    <a:pt x="611" y="155"/>
                  </a:lnTo>
                  <a:lnTo>
                    <a:pt x="644" y="177"/>
                  </a:lnTo>
                  <a:lnTo>
                    <a:pt x="655" y="188"/>
                  </a:lnTo>
                  <a:lnTo>
                    <a:pt x="678" y="210"/>
                  </a:lnTo>
                  <a:lnTo>
                    <a:pt x="688" y="221"/>
                  </a:lnTo>
                  <a:lnTo>
                    <a:pt x="0" y="975"/>
                  </a:lnTo>
                  <a:lnTo>
                    <a:pt x="299" y="0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5" name="Freeform 18"/>
            <p:cNvSpPr/>
            <p:nvPr/>
          </p:nvSpPr>
          <p:spPr>
            <a:xfrm>
              <a:off x="4343040" y="2995200"/>
              <a:ext cx="1074240" cy="873720"/>
            </a:xfrm>
            <a:custGeom>
              <a:avLst/>
              <a:gdLst/>
              <a:ahLst/>
              <a:rect l="l" t="t" r="r" b="b"/>
              <a:pathLst>
                <a:path w="944" h="754">
                  <a:moveTo>
                    <a:pt x="688" y="0"/>
                  </a:moveTo>
                  <a:lnTo>
                    <a:pt x="721" y="34"/>
                  </a:lnTo>
                  <a:lnTo>
                    <a:pt x="732" y="45"/>
                  </a:lnTo>
                  <a:lnTo>
                    <a:pt x="755" y="67"/>
                  </a:lnTo>
                  <a:lnTo>
                    <a:pt x="777" y="100"/>
                  </a:lnTo>
                  <a:lnTo>
                    <a:pt x="788" y="111"/>
                  </a:lnTo>
                  <a:lnTo>
                    <a:pt x="810" y="133"/>
                  </a:lnTo>
                  <a:lnTo>
                    <a:pt x="833" y="167"/>
                  </a:lnTo>
                  <a:lnTo>
                    <a:pt x="844" y="178"/>
                  </a:lnTo>
                  <a:lnTo>
                    <a:pt x="866" y="211"/>
                  </a:lnTo>
                  <a:lnTo>
                    <a:pt x="877" y="244"/>
                  </a:lnTo>
                  <a:lnTo>
                    <a:pt x="888" y="255"/>
                  </a:lnTo>
                  <a:lnTo>
                    <a:pt x="910" y="289"/>
                  </a:lnTo>
                  <a:lnTo>
                    <a:pt x="922" y="322"/>
                  </a:lnTo>
                  <a:lnTo>
                    <a:pt x="933" y="333"/>
                  </a:lnTo>
                  <a:lnTo>
                    <a:pt x="944" y="366"/>
                  </a:lnTo>
                  <a:lnTo>
                    <a:pt x="0" y="754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6" name="Freeform 19"/>
            <p:cNvSpPr/>
            <p:nvPr/>
          </p:nvSpPr>
          <p:spPr>
            <a:xfrm>
              <a:off x="4343040" y="2995200"/>
              <a:ext cx="1074240" cy="873720"/>
            </a:xfrm>
            <a:custGeom>
              <a:avLst/>
              <a:gdLst/>
              <a:ahLst/>
              <a:rect l="l" t="t" r="r" b="b"/>
              <a:pathLst>
                <a:path w="944" h="754">
                  <a:moveTo>
                    <a:pt x="688" y="0"/>
                  </a:moveTo>
                  <a:lnTo>
                    <a:pt x="721" y="34"/>
                  </a:lnTo>
                  <a:lnTo>
                    <a:pt x="732" y="45"/>
                  </a:lnTo>
                  <a:lnTo>
                    <a:pt x="755" y="67"/>
                  </a:lnTo>
                  <a:lnTo>
                    <a:pt x="777" y="100"/>
                  </a:lnTo>
                  <a:lnTo>
                    <a:pt x="788" y="111"/>
                  </a:lnTo>
                  <a:lnTo>
                    <a:pt x="810" y="133"/>
                  </a:lnTo>
                  <a:lnTo>
                    <a:pt x="833" y="167"/>
                  </a:lnTo>
                  <a:lnTo>
                    <a:pt x="844" y="178"/>
                  </a:lnTo>
                  <a:lnTo>
                    <a:pt x="866" y="211"/>
                  </a:lnTo>
                  <a:lnTo>
                    <a:pt x="877" y="244"/>
                  </a:lnTo>
                  <a:lnTo>
                    <a:pt x="888" y="255"/>
                  </a:lnTo>
                  <a:lnTo>
                    <a:pt x="910" y="289"/>
                  </a:lnTo>
                  <a:lnTo>
                    <a:pt x="922" y="322"/>
                  </a:lnTo>
                  <a:lnTo>
                    <a:pt x="933" y="333"/>
                  </a:lnTo>
                  <a:lnTo>
                    <a:pt x="944" y="366"/>
                  </a:lnTo>
                  <a:lnTo>
                    <a:pt x="0" y="754"/>
                  </a:lnTo>
                  <a:lnTo>
                    <a:pt x="688" y="0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4343040" y="3419280"/>
              <a:ext cx="1150560" cy="449280"/>
            </a:xfrm>
            <a:custGeom>
              <a:avLst/>
              <a:gdLst/>
              <a:ahLst/>
              <a:rect l="l" t="t" r="r" b="b"/>
              <a:pathLst>
                <a:path w="1011" h="388">
                  <a:moveTo>
                    <a:pt x="944" y="0"/>
                  </a:moveTo>
                  <a:lnTo>
                    <a:pt x="955" y="34"/>
                  </a:lnTo>
                  <a:lnTo>
                    <a:pt x="966" y="56"/>
                  </a:lnTo>
                  <a:lnTo>
                    <a:pt x="977" y="89"/>
                  </a:lnTo>
                  <a:lnTo>
                    <a:pt x="988" y="122"/>
                  </a:lnTo>
                  <a:lnTo>
                    <a:pt x="988" y="133"/>
                  </a:lnTo>
                  <a:lnTo>
                    <a:pt x="999" y="178"/>
                  </a:lnTo>
                  <a:lnTo>
                    <a:pt x="999" y="211"/>
                  </a:lnTo>
                  <a:lnTo>
                    <a:pt x="1011" y="222"/>
                  </a:lnTo>
                  <a:lnTo>
                    <a:pt x="1011" y="266"/>
                  </a:lnTo>
                  <a:lnTo>
                    <a:pt x="0" y="388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>
              <a:off x="4343040" y="3419280"/>
              <a:ext cx="1150560" cy="449280"/>
            </a:xfrm>
            <a:custGeom>
              <a:avLst/>
              <a:gdLst/>
              <a:ahLst/>
              <a:rect l="l" t="t" r="r" b="b"/>
              <a:pathLst>
                <a:path w="1011" h="388">
                  <a:moveTo>
                    <a:pt x="944" y="0"/>
                  </a:moveTo>
                  <a:lnTo>
                    <a:pt x="955" y="34"/>
                  </a:lnTo>
                  <a:lnTo>
                    <a:pt x="966" y="56"/>
                  </a:lnTo>
                  <a:lnTo>
                    <a:pt x="977" y="89"/>
                  </a:lnTo>
                  <a:lnTo>
                    <a:pt x="988" y="122"/>
                  </a:lnTo>
                  <a:lnTo>
                    <a:pt x="988" y="133"/>
                  </a:lnTo>
                  <a:lnTo>
                    <a:pt x="999" y="178"/>
                  </a:lnTo>
                  <a:lnTo>
                    <a:pt x="999" y="211"/>
                  </a:lnTo>
                  <a:lnTo>
                    <a:pt x="1011" y="222"/>
                  </a:lnTo>
                  <a:lnTo>
                    <a:pt x="1011" y="266"/>
                  </a:lnTo>
                  <a:lnTo>
                    <a:pt x="0" y="388"/>
                  </a:lnTo>
                  <a:lnTo>
                    <a:pt x="944" y="0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4343040" y="3727800"/>
              <a:ext cx="1163160" cy="257040"/>
            </a:xfrm>
            <a:custGeom>
              <a:avLst/>
              <a:gdLst/>
              <a:ahLst/>
              <a:rect l="l" t="t" r="r" b="b"/>
              <a:pathLst>
                <a:path w="1022" h="222">
                  <a:moveTo>
                    <a:pt x="1011" y="0"/>
                  </a:moveTo>
                  <a:lnTo>
                    <a:pt x="1011" y="11"/>
                  </a:lnTo>
                  <a:lnTo>
                    <a:pt x="1022" y="45"/>
                  </a:lnTo>
                  <a:lnTo>
                    <a:pt x="1022" y="67"/>
                  </a:lnTo>
                  <a:lnTo>
                    <a:pt x="1022" y="100"/>
                  </a:lnTo>
                  <a:lnTo>
                    <a:pt x="1022" y="122"/>
                  </a:lnTo>
                  <a:lnTo>
                    <a:pt x="1022" y="156"/>
                  </a:lnTo>
                  <a:lnTo>
                    <a:pt x="1022" y="178"/>
                  </a:lnTo>
                  <a:lnTo>
                    <a:pt x="1011" y="211"/>
                  </a:lnTo>
                  <a:lnTo>
                    <a:pt x="1011" y="222"/>
                  </a:lnTo>
                  <a:lnTo>
                    <a:pt x="0" y="122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>
              <a:off x="4343040" y="3727800"/>
              <a:ext cx="1163160" cy="257040"/>
            </a:xfrm>
            <a:custGeom>
              <a:avLst/>
              <a:gdLst/>
              <a:ahLst/>
              <a:rect l="l" t="t" r="r" b="b"/>
              <a:pathLst>
                <a:path w="1022" h="222">
                  <a:moveTo>
                    <a:pt x="1011" y="0"/>
                  </a:moveTo>
                  <a:lnTo>
                    <a:pt x="1011" y="11"/>
                  </a:lnTo>
                  <a:lnTo>
                    <a:pt x="1022" y="45"/>
                  </a:lnTo>
                  <a:lnTo>
                    <a:pt x="1022" y="67"/>
                  </a:lnTo>
                  <a:lnTo>
                    <a:pt x="1022" y="100"/>
                  </a:lnTo>
                  <a:lnTo>
                    <a:pt x="1022" y="122"/>
                  </a:lnTo>
                  <a:lnTo>
                    <a:pt x="1022" y="156"/>
                  </a:lnTo>
                  <a:lnTo>
                    <a:pt x="1022" y="178"/>
                  </a:lnTo>
                  <a:lnTo>
                    <a:pt x="1011" y="211"/>
                  </a:lnTo>
                  <a:lnTo>
                    <a:pt x="1011" y="222"/>
                  </a:lnTo>
                  <a:lnTo>
                    <a:pt x="0" y="122"/>
                  </a:lnTo>
                  <a:lnTo>
                    <a:pt x="1011" y="0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>
              <a:off x="4343040" y="3868920"/>
              <a:ext cx="1150560" cy="360000"/>
            </a:xfrm>
            <a:custGeom>
              <a:avLst/>
              <a:gdLst/>
              <a:ahLst/>
              <a:rect l="l" t="t" r="r" b="b"/>
              <a:pathLst>
                <a:path w="1011" h="311">
                  <a:moveTo>
                    <a:pt x="1011" y="100"/>
                  </a:moveTo>
                  <a:lnTo>
                    <a:pt x="1011" y="122"/>
                  </a:lnTo>
                  <a:lnTo>
                    <a:pt x="1011" y="156"/>
                  </a:lnTo>
                  <a:lnTo>
                    <a:pt x="999" y="178"/>
                  </a:lnTo>
                  <a:lnTo>
                    <a:pt x="999" y="189"/>
                  </a:lnTo>
                  <a:lnTo>
                    <a:pt x="988" y="222"/>
                  </a:lnTo>
                  <a:lnTo>
                    <a:pt x="988" y="244"/>
                  </a:lnTo>
                  <a:lnTo>
                    <a:pt x="988" y="266"/>
                  </a:lnTo>
                  <a:lnTo>
                    <a:pt x="977" y="300"/>
                  </a:lnTo>
                  <a:lnTo>
                    <a:pt x="966" y="311"/>
                  </a:lnTo>
                  <a:lnTo>
                    <a:pt x="0" y="0"/>
                  </a:lnTo>
                  <a:lnTo>
                    <a:pt x="1011" y="1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>
              <a:off x="4343040" y="3868920"/>
              <a:ext cx="1150560" cy="360000"/>
            </a:xfrm>
            <a:custGeom>
              <a:avLst/>
              <a:gdLst/>
              <a:ahLst/>
              <a:rect l="l" t="t" r="r" b="b"/>
              <a:pathLst>
                <a:path w="1011" h="311">
                  <a:moveTo>
                    <a:pt x="1011" y="100"/>
                  </a:moveTo>
                  <a:lnTo>
                    <a:pt x="1011" y="122"/>
                  </a:lnTo>
                  <a:lnTo>
                    <a:pt x="1011" y="156"/>
                  </a:lnTo>
                  <a:lnTo>
                    <a:pt x="999" y="178"/>
                  </a:lnTo>
                  <a:lnTo>
                    <a:pt x="999" y="189"/>
                  </a:lnTo>
                  <a:lnTo>
                    <a:pt x="988" y="222"/>
                  </a:lnTo>
                  <a:lnTo>
                    <a:pt x="988" y="244"/>
                  </a:lnTo>
                  <a:lnTo>
                    <a:pt x="988" y="266"/>
                  </a:lnTo>
                  <a:lnTo>
                    <a:pt x="977" y="300"/>
                  </a:lnTo>
                  <a:lnTo>
                    <a:pt x="966" y="311"/>
                  </a:lnTo>
                  <a:lnTo>
                    <a:pt x="0" y="0"/>
                  </a:lnTo>
                  <a:lnTo>
                    <a:pt x="1011" y="100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3" name="Freeform 26"/>
            <p:cNvSpPr/>
            <p:nvPr/>
          </p:nvSpPr>
          <p:spPr>
            <a:xfrm>
              <a:off x="4343040" y="3868920"/>
              <a:ext cx="1099440" cy="514440"/>
            </a:xfrm>
            <a:custGeom>
              <a:avLst/>
              <a:gdLst/>
              <a:ahLst/>
              <a:rect l="l" t="t" r="r" b="b"/>
              <a:pathLst>
                <a:path w="966" h="444">
                  <a:moveTo>
                    <a:pt x="966" y="311"/>
                  </a:moveTo>
                  <a:lnTo>
                    <a:pt x="966" y="333"/>
                  </a:lnTo>
                  <a:lnTo>
                    <a:pt x="955" y="366"/>
                  </a:lnTo>
                  <a:lnTo>
                    <a:pt x="944" y="377"/>
                  </a:lnTo>
                  <a:lnTo>
                    <a:pt x="933" y="400"/>
                  </a:lnTo>
                  <a:lnTo>
                    <a:pt x="922" y="433"/>
                  </a:lnTo>
                  <a:lnTo>
                    <a:pt x="910" y="444"/>
                  </a:lnTo>
                  <a:lnTo>
                    <a:pt x="0" y="0"/>
                  </a:lnTo>
                  <a:lnTo>
                    <a:pt x="966" y="3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4" name="Freeform 27"/>
            <p:cNvSpPr/>
            <p:nvPr/>
          </p:nvSpPr>
          <p:spPr>
            <a:xfrm>
              <a:off x="4343040" y="3868920"/>
              <a:ext cx="1099440" cy="514440"/>
            </a:xfrm>
            <a:custGeom>
              <a:avLst/>
              <a:gdLst/>
              <a:ahLst/>
              <a:rect l="l" t="t" r="r" b="b"/>
              <a:pathLst>
                <a:path w="966" h="444">
                  <a:moveTo>
                    <a:pt x="966" y="311"/>
                  </a:moveTo>
                  <a:lnTo>
                    <a:pt x="966" y="333"/>
                  </a:lnTo>
                  <a:lnTo>
                    <a:pt x="955" y="366"/>
                  </a:lnTo>
                  <a:lnTo>
                    <a:pt x="944" y="377"/>
                  </a:lnTo>
                  <a:lnTo>
                    <a:pt x="933" y="400"/>
                  </a:lnTo>
                  <a:lnTo>
                    <a:pt x="922" y="433"/>
                  </a:lnTo>
                  <a:lnTo>
                    <a:pt x="910" y="444"/>
                  </a:lnTo>
                  <a:lnTo>
                    <a:pt x="0" y="0"/>
                  </a:lnTo>
                  <a:lnTo>
                    <a:pt x="966" y="311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4343040" y="3868920"/>
              <a:ext cx="1035720" cy="642960"/>
            </a:xfrm>
            <a:custGeom>
              <a:avLst/>
              <a:gdLst/>
              <a:ahLst/>
              <a:rect l="l" t="t" r="r" b="b"/>
              <a:pathLst>
                <a:path w="910" h="555">
                  <a:moveTo>
                    <a:pt x="910" y="444"/>
                  </a:moveTo>
                  <a:lnTo>
                    <a:pt x="910" y="466"/>
                  </a:lnTo>
                  <a:lnTo>
                    <a:pt x="899" y="477"/>
                  </a:lnTo>
                  <a:lnTo>
                    <a:pt x="877" y="510"/>
                  </a:lnTo>
                  <a:lnTo>
                    <a:pt x="877" y="522"/>
                  </a:lnTo>
                  <a:lnTo>
                    <a:pt x="866" y="544"/>
                  </a:lnTo>
                  <a:lnTo>
                    <a:pt x="855" y="555"/>
                  </a:lnTo>
                  <a:lnTo>
                    <a:pt x="0" y="0"/>
                  </a:lnTo>
                  <a:lnTo>
                    <a:pt x="910" y="444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4343040" y="3868920"/>
              <a:ext cx="1035720" cy="642960"/>
            </a:xfrm>
            <a:custGeom>
              <a:avLst/>
              <a:gdLst/>
              <a:ahLst/>
              <a:rect l="l" t="t" r="r" b="b"/>
              <a:pathLst>
                <a:path w="910" h="555">
                  <a:moveTo>
                    <a:pt x="910" y="444"/>
                  </a:moveTo>
                  <a:lnTo>
                    <a:pt x="910" y="466"/>
                  </a:lnTo>
                  <a:lnTo>
                    <a:pt x="899" y="477"/>
                  </a:lnTo>
                  <a:lnTo>
                    <a:pt x="877" y="510"/>
                  </a:lnTo>
                  <a:lnTo>
                    <a:pt x="877" y="522"/>
                  </a:lnTo>
                  <a:lnTo>
                    <a:pt x="866" y="544"/>
                  </a:lnTo>
                  <a:lnTo>
                    <a:pt x="855" y="555"/>
                  </a:lnTo>
                  <a:lnTo>
                    <a:pt x="0" y="0"/>
                  </a:lnTo>
                  <a:lnTo>
                    <a:pt x="910" y="444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4343040" y="3868920"/>
              <a:ext cx="973080" cy="1105200"/>
            </a:xfrm>
            <a:custGeom>
              <a:avLst/>
              <a:gdLst/>
              <a:ahLst/>
              <a:rect l="l" t="t" r="r" b="b"/>
              <a:pathLst>
                <a:path w="855" h="954">
                  <a:moveTo>
                    <a:pt x="855" y="555"/>
                  </a:moveTo>
                  <a:lnTo>
                    <a:pt x="833" y="588"/>
                  </a:lnTo>
                  <a:lnTo>
                    <a:pt x="821" y="599"/>
                  </a:lnTo>
                  <a:lnTo>
                    <a:pt x="799" y="621"/>
                  </a:lnTo>
                  <a:lnTo>
                    <a:pt x="788" y="643"/>
                  </a:lnTo>
                  <a:lnTo>
                    <a:pt x="766" y="666"/>
                  </a:lnTo>
                  <a:lnTo>
                    <a:pt x="755" y="677"/>
                  </a:lnTo>
                  <a:lnTo>
                    <a:pt x="732" y="710"/>
                  </a:lnTo>
                  <a:lnTo>
                    <a:pt x="721" y="721"/>
                  </a:lnTo>
                  <a:lnTo>
                    <a:pt x="688" y="743"/>
                  </a:lnTo>
                  <a:lnTo>
                    <a:pt x="678" y="754"/>
                  </a:lnTo>
                  <a:lnTo>
                    <a:pt x="655" y="777"/>
                  </a:lnTo>
                  <a:lnTo>
                    <a:pt x="622" y="799"/>
                  </a:lnTo>
                  <a:lnTo>
                    <a:pt x="611" y="810"/>
                  </a:lnTo>
                  <a:lnTo>
                    <a:pt x="589" y="832"/>
                  </a:lnTo>
                  <a:lnTo>
                    <a:pt x="566" y="843"/>
                  </a:lnTo>
                  <a:lnTo>
                    <a:pt x="544" y="865"/>
                  </a:lnTo>
                  <a:lnTo>
                    <a:pt x="522" y="876"/>
                  </a:lnTo>
                  <a:lnTo>
                    <a:pt x="489" y="887"/>
                  </a:lnTo>
                  <a:lnTo>
                    <a:pt x="477" y="899"/>
                  </a:lnTo>
                  <a:lnTo>
                    <a:pt x="444" y="910"/>
                  </a:lnTo>
                  <a:lnTo>
                    <a:pt x="433" y="921"/>
                  </a:lnTo>
                  <a:lnTo>
                    <a:pt x="400" y="932"/>
                  </a:lnTo>
                  <a:lnTo>
                    <a:pt x="377" y="943"/>
                  </a:lnTo>
                  <a:lnTo>
                    <a:pt x="344" y="954"/>
                  </a:lnTo>
                  <a:lnTo>
                    <a:pt x="0" y="0"/>
                  </a:lnTo>
                  <a:lnTo>
                    <a:pt x="855" y="55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4343040" y="3868920"/>
              <a:ext cx="973080" cy="1105200"/>
            </a:xfrm>
            <a:custGeom>
              <a:avLst/>
              <a:gdLst/>
              <a:ahLst/>
              <a:rect l="l" t="t" r="r" b="b"/>
              <a:pathLst>
                <a:path w="855" h="954">
                  <a:moveTo>
                    <a:pt x="855" y="555"/>
                  </a:moveTo>
                  <a:lnTo>
                    <a:pt x="833" y="588"/>
                  </a:lnTo>
                  <a:lnTo>
                    <a:pt x="821" y="599"/>
                  </a:lnTo>
                  <a:lnTo>
                    <a:pt x="799" y="621"/>
                  </a:lnTo>
                  <a:lnTo>
                    <a:pt x="788" y="643"/>
                  </a:lnTo>
                  <a:lnTo>
                    <a:pt x="766" y="666"/>
                  </a:lnTo>
                  <a:lnTo>
                    <a:pt x="755" y="677"/>
                  </a:lnTo>
                  <a:lnTo>
                    <a:pt x="732" y="710"/>
                  </a:lnTo>
                  <a:lnTo>
                    <a:pt x="721" y="721"/>
                  </a:lnTo>
                  <a:lnTo>
                    <a:pt x="688" y="743"/>
                  </a:lnTo>
                  <a:lnTo>
                    <a:pt x="678" y="754"/>
                  </a:lnTo>
                  <a:lnTo>
                    <a:pt x="655" y="777"/>
                  </a:lnTo>
                  <a:lnTo>
                    <a:pt x="622" y="799"/>
                  </a:lnTo>
                  <a:lnTo>
                    <a:pt x="611" y="810"/>
                  </a:lnTo>
                  <a:lnTo>
                    <a:pt x="589" y="832"/>
                  </a:lnTo>
                  <a:lnTo>
                    <a:pt x="566" y="843"/>
                  </a:lnTo>
                  <a:lnTo>
                    <a:pt x="544" y="865"/>
                  </a:lnTo>
                  <a:lnTo>
                    <a:pt x="522" y="876"/>
                  </a:lnTo>
                  <a:lnTo>
                    <a:pt x="489" y="887"/>
                  </a:lnTo>
                  <a:lnTo>
                    <a:pt x="477" y="899"/>
                  </a:lnTo>
                  <a:lnTo>
                    <a:pt x="444" y="910"/>
                  </a:lnTo>
                  <a:lnTo>
                    <a:pt x="433" y="921"/>
                  </a:lnTo>
                  <a:lnTo>
                    <a:pt x="400" y="932"/>
                  </a:lnTo>
                  <a:lnTo>
                    <a:pt x="377" y="943"/>
                  </a:lnTo>
                  <a:lnTo>
                    <a:pt x="344" y="954"/>
                  </a:lnTo>
                  <a:lnTo>
                    <a:pt x="0" y="0"/>
                  </a:lnTo>
                  <a:lnTo>
                    <a:pt x="855" y="555"/>
                  </a:lnTo>
                  <a:close/>
                </a:path>
              </a:pathLst>
            </a:custGeom>
            <a:noFill/>
            <a:ln cap="rnd" w="6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89" name="Rectangle 32"/>
            <p:cNvSpPr/>
            <p:nvPr/>
          </p:nvSpPr>
          <p:spPr>
            <a:xfrm>
              <a:off x="4862880" y="4858560"/>
              <a:ext cx="165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Others 10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0" name="Rectangle 33"/>
            <p:cNvSpPr/>
            <p:nvPr/>
          </p:nvSpPr>
          <p:spPr>
            <a:xfrm>
              <a:off x="6158880" y="486936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1" name="Rectangle 34"/>
            <p:cNvSpPr/>
            <p:nvPr/>
          </p:nvSpPr>
          <p:spPr>
            <a:xfrm>
              <a:off x="5105160" y="4498200"/>
              <a:ext cx="168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ESCO 2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2" name="Rectangle 35"/>
            <p:cNvSpPr/>
            <p:nvPr/>
          </p:nvSpPr>
          <p:spPr>
            <a:xfrm>
              <a:off x="6335280" y="450972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3" name="Rectangle 36"/>
            <p:cNvSpPr/>
            <p:nvPr/>
          </p:nvSpPr>
          <p:spPr>
            <a:xfrm>
              <a:off x="5204160" y="4254840"/>
              <a:ext cx="125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ILO 2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6052320" y="426420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5" name="Rectangle 38"/>
            <p:cNvSpPr/>
            <p:nvPr/>
          </p:nvSpPr>
          <p:spPr>
            <a:xfrm>
              <a:off x="5261400" y="3995280"/>
              <a:ext cx="167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RWA 3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6471720" y="400464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7" name="Rectangle 40"/>
            <p:cNvSpPr/>
            <p:nvPr/>
          </p:nvSpPr>
          <p:spPr>
            <a:xfrm>
              <a:off x="5346000" y="3784320"/>
              <a:ext cx="157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FPA 3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8" name="Rectangle 41"/>
            <p:cNvSpPr/>
            <p:nvPr/>
          </p:nvSpPr>
          <p:spPr>
            <a:xfrm>
              <a:off x="6473160" y="379836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99" name="Rectangle 42"/>
            <p:cNvSpPr/>
            <p:nvPr/>
          </p:nvSpPr>
          <p:spPr>
            <a:xfrm>
              <a:off x="5283000" y="3368520"/>
              <a:ext cx="133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FAO 4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0" name="Rectangle 43"/>
            <p:cNvSpPr/>
            <p:nvPr/>
          </p:nvSpPr>
          <p:spPr>
            <a:xfrm>
              <a:off x="6197040" y="338004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1" name="Rectangle 44"/>
            <p:cNvSpPr/>
            <p:nvPr/>
          </p:nvSpPr>
          <p:spPr>
            <a:xfrm>
              <a:off x="5104440" y="2952360"/>
              <a:ext cx="143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HO 7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2" name="Rectangle 45"/>
            <p:cNvSpPr/>
            <p:nvPr/>
          </p:nvSpPr>
          <p:spPr>
            <a:xfrm>
              <a:off x="6106320" y="296172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3" name="Rectangle 46"/>
            <p:cNvSpPr/>
            <p:nvPr/>
          </p:nvSpPr>
          <p:spPr>
            <a:xfrm>
              <a:off x="4725360" y="2608200"/>
              <a:ext cx="159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HCR 7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5874840" y="262116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5" name="Rectangle 48"/>
            <p:cNvSpPr/>
            <p:nvPr/>
          </p:nvSpPr>
          <p:spPr>
            <a:xfrm>
              <a:off x="2806200" y="2325240"/>
              <a:ext cx="170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ICEF 15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4056840" y="233712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7" name="Rectangle 50"/>
            <p:cNvSpPr/>
            <p:nvPr/>
          </p:nvSpPr>
          <p:spPr>
            <a:xfrm>
              <a:off x="1785240" y="3784320"/>
              <a:ext cx="158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UNDP 23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8" name="Rectangle 51"/>
            <p:cNvSpPr/>
            <p:nvPr/>
          </p:nvSpPr>
          <p:spPr>
            <a:xfrm>
              <a:off x="2926800" y="379836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09" name="Rectangle 52"/>
            <p:cNvSpPr/>
            <p:nvPr/>
          </p:nvSpPr>
          <p:spPr>
            <a:xfrm>
              <a:off x="3069000" y="5011560"/>
              <a:ext cx="117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FP 24%</a:t>
              </a:r>
              <a:endParaRPr b="0" lang="en-US" sz="1600" spc="-1" strike="noStrike">
                <a:solidFill>
                  <a:srgbClr val="0a50a1"/>
                </a:solidFill>
                <a:latin typeface="Univers"/>
              </a:endParaRPr>
            </a:p>
          </p:txBody>
        </p:sp>
        <p:sp>
          <p:nvSpPr>
            <p:cNvPr id="110" name="Rectangle 53"/>
            <p:cNvSpPr/>
            <p:nvPr/>
          </p:nvSpPr>
          <p:spPr>
            <a:xfrm>
              <a:off x="3887280" y="50230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800" spc="-1" strike="noStrike">
                <a:solidFill>
                  <a:srgbClr val="0a50a1"/>
                </a:solidFill>
                <a:latin typeface="Univer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Destination of expenditur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(2008; $18.6 billion)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Overview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133720"/>
          <a:ext cx="5410080" cy="39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133720"/>
                    <a:ext cx="54100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Development-related expenditures by sector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(2008; $11.8 billion)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Overview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2286000"/>
          <a:ext cx="7010280" cy="40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286000"/>
                    <a:ext cx="7010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45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When UN was established it was not envisaged that organization would become a major player in delivery of operational activities for development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Many of the “coherence” challenges which have arisen in UN in recent decades can therefore be traced back to original design of organization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9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45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91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Functional approach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, rather than a federalist one was adopted to design of UN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91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 system organized around independent specialized agencies, whose relationship with ECOSOC was established by set of formal agreements, with new organizations created as needs arose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9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9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9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46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ICEF established by GA to provide food, clothing and health care for childre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60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Many new entities established including WFP (1961), UNCTAD (1964) and UNIDO (1967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Major growth in operational activities of UN syste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1965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UNDP is established to coordinate funding for technical assistance provided by other UN entit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Historical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Nikhil Seth, Director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1:50:40Z</dcterms:created>
  <dc:creator>Vilhelm.Klareskov</dc:creator>
  <dc:description/>
  <dc:language>en-US</dc:language>
  <cp:lastModifiedBy>United Nations</cp:lastModifiedBy>
  <dcterms:modified xsi:type="dcterms:W3CDTF">2010-11-19T14:07:34Z</dcterms:modified>
  <cp:revision>830</cp:revision>
  <dc:subject/>
  <dc:title>Slide 1</dc:title>
</cp:coreProperties>
</file>