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E74A-DC55-4B64-84A3-FFC19B938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331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613D-0796-45DC-8F32-42B464F8C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33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33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F771-279C-4CDA-835A-52FE0F1BF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331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331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331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E1F6-9C02-4ED6-A0E1-18B5F1A3C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BDA33-6BFE-4ACC-8F03-DB3585BD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8BE52-DAE8-4BA0-8123-68EFAADC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61A6A-B147-4BDD-8907-445FE31F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E9702-F4D9-4E5C-ADBD-5D123614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7EB73-4CA1-4257-80DC-C7DB5C17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DED79-ABF9-48D0-BDC7-A23F7B89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633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F9214-B991-40DB-A914-51A505CE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BC33-95EC-4D45-8D41-40F4F75F3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633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65152-B761-4F57-8F4B-7AEA41B3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6331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B1E0C-D756-4F87-BC68-C240CF8E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6331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02D71-D811-4D25-BB2C-2CDEA1EA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633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633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50856-915E-42D7-AF6C-DF9FA9F9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6331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6331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6331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563BB-E926-4E2C-878B-B10AA447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6164-91AF-43A4-919E-A09A08B4F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B95F-AE9F-43CC-AA68-F2DB5055A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04E0-CA2F-4E76-AE18-C5D75A0A5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ED0C-8074-4B3F-911A-D4AEA0E9B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33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690D-AA45-42F5-A59B-6ABA21901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33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714E-B1CE-42EA-9E70-05E9AC8D7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331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87E0-6AE1-4579-854D-ECF8AC392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B62B-CB73-4078-83AC-22FFBBCE1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533520" y="6019920"/>
            <a:ext cx="214632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1066680"/>
            <a:ext cx="4975200" cy="1171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ANEL DISCUSSION ON CORPORATE RESPONSIBILIT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41148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egitimacy and Reconstruction in Zones of Conflic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105520"/>
            <a:ext cx="83059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r. Malaika Culverw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998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2000">
                <a:solidFill>
                  <a:srgbClr val="ffffff"/>
                </a:solidFill>
                <a:latin typeface="Arial"/>
              </a:rPr>
              <a:t>Senior Research Fellow -Corporate Responsibility/ Royal Institute of International Affairs (Chatham Ho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791320"/>
            <a:ext cx="7086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ted Nations - Department of Economic and Social Aff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October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561E2-B378-4B97-83CE-F42D66ADAA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ivate Sector in Conflict Zon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SECTOR C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cerbate tensions &amp; contribute to downward spiral of insecur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e to peace-building and re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ar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s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373392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3657600"/>
            <a:ext cx="46483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routine business activities at micro and macro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xtractive, but more importantly infrastructure, power, transportation &amp; financial s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EEBA-471E-4ABA-8ED5-EEFB10FDBC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licy Approaches for Engaging Busin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NORM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ing &amp; shaming’; advocacy campaigns  e.g. “Conflict Diamond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work - but for recognisable br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COERC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gulatory regimes that sanction prohibited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fficult  -  different levels of regulation, incentives for evasion, depends upon state co-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INSTRUMENT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sitive inducements that reward constructive industry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 company level - doesn’t go far enough? Multistakeholder level - is too context specific to be generic eg. “Chad/Cameroon Pipeline Agreement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E869-A873-404F-A28A-3726BC68A6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fiteering &amp; Opportunism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oth Business &amp; Government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981080"/>
            <a:ext cx="380880" cy="1752840"/>
          </a:xfrm>
          <a:custGeom>
            <a:avLst/>
            <a:gdLst>
              <a:gd name="textAreaLeft" fmla="*/ 0 w 380880"/>
              <a:gd name="textAreaRight" fmla="*/ 267120 w 380880"/>
              <a:gd name="textAreaTop" fmla="*/ 72720 h 1752840"/>
              <a:gd name="textAreaBottom" fmla="*/ 1680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1752480"/>
            <a:ext cx="381240" cy="1828800"/>
          </a:xfrm>
          <a:custGeom>
            <a:avLst/>
            <a:gdLst>
              <a:gd name="textAreaLeft" fmla="*/ 111960 w 381240"/>
              <a:gd name="textAreaRight" fmla="*/ 381600 w 381240"/>
              <a:gd name="textAreaTop" fmla="*/ 75960 h 1828800"/>
              <a:gd name="textAreaBottom" fmla="*/ 17528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8480" y="32004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0000" y="1676520"/>
            <a:ext cx="1765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ck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11480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ongest perception of illegitimacy, profiteering and corruption rests within the administratio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4267080"/>
            <a:ext cx="36576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ar that subcontracting and hiring practices by business will exacerbate pre-existing tension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95120" y="2362320"/>
            <a:ext cx="114300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286000"/>
            <a:ext cx="137160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9320" y="12193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IRA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9520" y="32767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’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8240" y="335268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447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77EE-3279-44B4-9261-962BFEFD58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Role for Responsible Busines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191120"/>
            <a:ext cx="3810240" cy="1523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2438280"/>
            <a:ext cx="5943600" cy="2743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1981080"/>
            <a:ext cx="35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&amp; Int’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809880"/>
            <a:ext cx="20574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895480"/>
            <a:ext cx="27432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dd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warding contr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648320"/>
            <a:ext cx="2743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ring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contrac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876920"/>
            <a:ext cx="2362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572000"/>
            <a:ext cx="1676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Inclus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191120"/>
            <a:ext cx="2362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ccounta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5560" y="990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1447920"/>
            <a:ext cx="1447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76160" y="1447920"/>
            <a:ext cx="60948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6680" y="15238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nfer legitim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920" y="281952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arn legitim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02AA-1D4C-4218-A8C4-4440B8837D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clusivit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990720"/>
            <a:ext cx="8839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tegration of local ethnicities, tribes, religions &amp; business network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imple formal dialogue with firm’s Iraqi employees and their famil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utral third party facilitator to manage the pro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pendent scrutiny of civil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vil society capacity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27672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1D6B-F570-4F80-A21F-5D4AD6C7CF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ansparenc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0666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ies to be cautious with respect to working with elites from previous state instit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ies to insist on free and open competition with respect to tendering process for reconstruction contracts &amp; sub-contr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ies, with civil society help build the credibility of political institutions of the nascent new Iraqi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ies seek inter-sectoral collective action to influence free and open competition with respect to reconstruction contracts &amp; subcontr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FCA1-48E8-4857-A85A-2CA652F15C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clusion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onsible companies need courage, stamina and a long-term view to attend to issues of “inclusivity”, “accountability” and “transparency”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nies can initiate efforts but will need the support of neutral third party mediators, NGOs, IOs and legitimate political i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all the complexity of post-conflict Iraq, business should not loose sight of the fact that the greatest risk management tool at its disposal is its contribution to the winning of the pe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AA1E-AC0A-4AAE-BA67-98B20CCCA4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22:26:21Z</dcterms:created>
  <dc:creator>Denis</dc:creator>
  <dc:description/>
  <dc:language>en-US</dc:language>
  <cp:lastModifiedBy>CulverwellM</cp:lastModifiedBy>
  <cp:lastPrinted>2003-10-08T15:43:15Z</cp:lastPrinted>
  <dcterms:modified xsi:type="dcterms:W3CDTF">2003-10-08T15:44:15Z</dcterms:modified>
  <cp:revision>17</cp:revision>
  <dc:subject/>
  <dc:title>Type Programme Name or Title Here</dc:title>
</cp:coreProperties>
</file>