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445-E561-454C-AF9A-31027E62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71B-8FFA-44A8-AED7-05D07F7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A2F-A51A-40ED-AF84-282C3C0C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5D8-3CC1-42B8-9FE4-8B460005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C7FB-6EF1-4500-AB34-EFCF660F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196F-6CD9-43B1-AEDD-0B45EC8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9A0E-E4D9-4E53-A01F-96EAF094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C246-F10D-457A-83AE-EDFCCE79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EE6-E2D7-4544-A90B-24ECB6C0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CE3-79BB-4C7E-8729-1FD86EC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F9E-2E45-4D76-8FED-32A65B7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294-7BB9-4E24-A015-C05D7000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067D-0F90-4FFD-ADF4-731B48F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7EA0-D4C1-4679-A5A5-F1B5FFE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7B9C-9E0B-4B19-9B8C-EF01D7C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3E4A-4869-4095-AD78-75D1F131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C0E8-AD19-446B-BCA0-478069FD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5B6-22CF-4192-97D0-B865DF4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8B5-A403-40E4-90BA-6D8F5C0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AAB-7AF8-4B12-A520-A6A2F893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DA5-56E8-40F1-AC4F-90A1F5C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3C4-1AE3-454F-92B9-E1690E61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238-9701-46CB-B430-5C9E98E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472-DC4F-4D4D-9D91-B18D1C6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7CFC-7C4D-4A64-9EAC-7AE63CCA597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6BF-C0CB-4836-8E23-2B5A6B7D2A2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cc"/>
                </a:solidFill>
                <a:latin typeface="Arial"/>
              </a:rPr>
              <a:t>Corporations and Corruption: 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What Role for Compani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crease in Risk Awaren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ow public tole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Internal company controls to increase transparency, prevent bribery, improve corporate govern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Greater awareness of national anti-bribery laws and non-deductibility of brib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oss of reputation and damage to fir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Creating a corporate culture of complia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rporate code of eth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Facilitating reporting of illegal activities, “whistle-blowing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inking compliance and governanc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EO, Audit Committee, Bo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Measuring the level of risk awaren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Verdana"/>
              </a:rPr>
              <a:t>Content 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f company codes (general or specific references to bribery, corruption, legal ru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Verdana"/>
              </a:rPr>
              <a:t>Compliance process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Verdana"/>
              </a:rPr>
              <a:t>Training 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f company offic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pplication to </a:t>
            </a:r>
            <a:r>
              <a:rPr b="1" lang="en-GB" sz="3200" spc="-1" strike="noStrike">
                <a:solidFill>
                  <a:srgbClr val="eaeaea"/>
                </a:solidFill>
                <a:latin typeface="Verdana"/>
              </a:rPr>
              <a:t>Subsidia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“Disabling Environment” for Corrup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egislative/regulatory framework (may need adjustment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ynergies between treaty-based obligations and governance no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Recognizing “value-added” of good governance and corporate responsibil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nsure enforce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The Great Governance Challeng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Making a positive contribution to economic development and the alleviation of poverty while serving its clients and making money for its owners.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01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GB" sz="5400" spc="-1" strike="noStrike">
                <a:solidFill>
                  <a:srgbClr val="eaeaea"/>
                </a:solidFill>
                <a:latin typeface="Verdana"/>
              </a:rPr>
              <a:t>Thank you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Emerging Fra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rporate Responsibility No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rporate Governance Princip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reaty-based Ru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mon El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bligation to criminalise bribery and other corrupt practi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atural and Legal pe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Broad jurisdictional r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riminal, civil and administrative san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Monitor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ublic Scruti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ECD Conven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riminalises bribery of foreign public offici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pplies to bribery in international business transactions (excludes facilitation, “grease” paym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erritorial/nationality jurisdi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isallows economic and political conside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acilitates extradition and mutual legal assist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rohibits tax deductions for brib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Monitoring Mechanism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l Parties must undergo monito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Results are submitted to international body of Pa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arties must implement recommend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valuations are made public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Monitoring Ph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hase 1 – assesses whether countries have correctly transposed the Convention in national la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hase 2 – evaluates whether countries are effectively applying their national laws in practic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Where do we stand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mpact on Company Behavi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“…</a:t>
            </a:r>
            <a:r>
              <a:rPr b="0" i="1" lang="en-GB" sz="3200" spc="-1" strike="noStrike">
                <a:solidFill>
                  <a:srgbClr val="eaeaea"/>
                </a:solidFill>
                <a:latin typeface="Verdana"/>
              </a:rPr>
              <a:t>awareness of the Convention has hardly improved in the three years: only 7% of all respondents expressed familiarity with the Convention compared to 6% in 1999”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TI 2003 Global Corruption Repor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a notable development, scores were found to have improved slightly since the 1999 survey: companies ar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marginally less likely to bribe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now than three years ago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20:40:00Z</dcterms:created>
  <dc:creator>Quinones_E</dc:creator>
  <dc:description/>
  <dc:language>en-US</dc:language>
  <cp:lastModifiedBy>Quinones_E</cp:lastModifiedBy>
  <dcterms:modified xsi:type="dcterms:W3CDTF">2003-10-10T14:01:13Z</dcterms:modified>
  <cp:revision>22</cp:revision>
  <dc:subject/>
  <dc:title>Corporations and Corruption:  </dc:title>
</cp:coreProperties>
</file>