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266A51-62F7-400B-AE02-8E119828F6B2}" type="datetime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6FDA94-9831-4C41-8D8B-786F414F187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33C4AE-74CC-410C-AF07-33ADC2B3400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Member States goes down from 96 to 84 from 5 Oct 2011 to 31 Dec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A894AA-985F-416F-96EA-9EB254FC912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8819C8-9081-40BD-B066-C1632101C13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086-99C3-4E0F-BD89-189845D7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487F-C534-43A1-8C40-99022ADD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80B-451D-44A7-AD0A-BB96DBD8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461-48CC-47C2-899B-881590A4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035-FB60-41F7-BE2D-0A87A1F7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F3C4-676A-4CFC-BDA1-7CB1B437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E06-9EEC-4011-84C4-A695CB94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4B8C-E971-4701-9482-F9A32F91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8325-3616-4C29-84CF-CDD66EDF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B862-C030-45BC-94D5-D0ECBD76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C1B-22CC-4E02-9839-95A5B9E3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46E-A170-4EEA-9DAC-0B0B335B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CA6A-1F12-414A-B938-D0A09D3616AE}" type="datetime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6B4B-AEB4-4FE9-A1A3-2629347741AE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7"/>
          <p:cNvSpPr/>
          <p:nvPr/>
        </p:nvSpPr>
        <p:spPr>
          <a:xfrm>
            <a:off x="155520" y="200160"/>
            <a:ext cx="7007400" cy="65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914400" bIns="46800" anchor="ctr">
            <a:noAutofit/>
          </a:bodyPr>
          <a:p>
            <a:pPr algn="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Cambria"/>
                <a:ea typeface="SimSun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Calibri"/>
                <a:ea typeface="SimSun"/>
              </a:rPr>
              <a:t>The United Nations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Calibri"/>
                <a:ea typeface="SimSun"/>
              </a:rPr>
              <a:t>Financial Sit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ecff"/>
                </a:solidFill>
                <a:latin typeface="Times New Roman"/>
                <a:ea typeface="ＭＳ 明朝"/>
              </a:rPr>
              <a:t>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8"/>
          <p:cNvSpPr/>
          <p:nvPr/>
        </p:nvSpPr>
        <p:spPr>
          <a:xfrm>
            <a:off x="7543800" y="201600"/>
            <a:ext cx="1459080" cy="65041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Object 6"/>
          <p:cNvGraphicFramePr/>
          <p:nvPr/>
        </p:nvGraphicFramePr>
        <p:xfrm>
          <a:off x="7772400" y="380880"/>
          <a:ext cx="10666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80880"/>
                    <a:ext cx="10666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8"/>
          <p:cNvSpPr/>
          <p:nvPr/>
        </p:nvSpPr>
        <p:spPr>
          <a:xfrm>
            <a:off x="5416920" y="57913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11 October 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565240" y="4876920"/>
            <a:ext cx="14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United N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219480" y="4038480"/>
            <a:ext cx="375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Yukio Takas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Under-Secretary-General for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Group 37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269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270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4" name="Rectangle 63"/>
            <p:cNvSpPr/>
            <p:nvPr/>
          </p:nvSpPr>
          <p:spPr>
            <a:xfrm flipH="1">
              <a:off x="7657560" y="2362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304920" y="1981080"/>
          <a:ext cx="7086600" cy="4040280"/>
        </p:xfrm>
        <a:graphic>
          <a:graphicData uri="http://schemas.openxmlformats.org/drawingml/2006/table">
            <a:tbl>
              <a:tblPr/>
              <a:tblGrid>
                <a:gridCol w="5410080"/>
                <a:gridCol w="1676520"/>
              </a:tblGrid>
              <a:tr h="707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utstanding assessments at 31 Dec 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ssessments during Jan-5 Oct 2012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,6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,2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/credits received during Jan-5 Oct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,4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5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utstanding assessments at 5 Oct 2012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2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Line 227"/>
          <p:cNvSpPr/>
          <p:nvPr/>
        </p:nvSpPr>
        <p:spPr>
          <a:xfrm>
            <a:off x="6477120" y="327672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Line 227"/>
          <p:cNvSpPr/>
          <p:nvPr/>
        </p:nvSpPr>
        <p:spPr>
          <a:xfrm>
            <a:off x="6477120" y="464832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Line 227"/>
          <p:cNvSpPr/>
          <p:nvPr/>
        </p:nvSpPr>
        <p:spPr>
          <a:xfrm>
            <a:off x="6477120" y="525780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153360" y="200160"/>
            <a:ext cx="652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Peacekeeping:</a:t>
            </a:r>
            <a:r>
              <a:rPr b="0" lang="en-GB" sz="36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essment Status 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5 October 2012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181"/>
          <p:cNvSpPr/>
          <p:nvPr/>
        </p:nvSpPr>
        <p:spPr>
          <a:xfrm>
            <a:off x="304920" y="5943600"/>
            <a:ext cx="807696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  2012/2013 assessments reduced in scale year (peacekeeping rates for 2013 not yet decid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ing assessments within 30-day period for UNIFIL and UNMIL (issued on 14 and 28 September 201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46"/>
          <p:cNvSpPr/>
          <p:nvPr/>
        </p:nvSpPr>
        <p:spPr>
          <a:xfrm>
            <a:off x="240840" y="6253200"/>
            <a:ext cx="445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Compared to 17 Member States at 5 Octob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77"/>
          <p:cNvSpPr/>
          <p:nvPr/>
        </p:nvSpPr>
        <p:spPr>
          <a:xfrm>
            <a:off x="-6840" y="304920"/>
            <a:ext cx="6814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Peacekeeping Assessment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y paid - due and payable at 11 Oct 2012: 32 Member State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Group 37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301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302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6" name="Rectangle 63"/>
            <p:cNvSpPr/>
            <p:nvPr/>
          </p:nvSpPr>
          <p:spPr>
            <a:xfrm flipH="1">
              <a:off x="7657560" y="2362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7" name="Picture 54" descr=""/>
          <p:cNvPicPr/>
          <p:nvPr/>
        </p:nvPicPr>
        <p:blipFill>
          <a:blip r:embed="rId2"/>
          <a:stretch/>
        </p:blipFill>
        <p:spPr>
          <a:xfrm>
            <a:off x="247680" y="1295280"/>
            <a:ext cx="1428840" cy="13050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55"/>
          <p:cNvSpPr/>
          <p:nvPr/>
        </p:nvSpPr>
        <p:spPr>
          <a:xfrm>
            <a:off x="1676520" y="1600200"/>
            <a:ext cx="25527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stral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st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rkina Fa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i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sta 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te d’Ivoi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zech Republ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nma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ce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re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ra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azakhst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eny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57"/>
          <p:cNvSpPr/>
          <p:nvPr/>
        </p:nvSpPr>
        <p:spPr>
          <a:xfrm>
            <a:off x="4419720" y="1600200"/>
            <a:ext cx="25905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tv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y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law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na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herla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Zea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ig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w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ublic of Kore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ublic of Moldo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ssian Fede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ngap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uth Af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ed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itzer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ted Republic of Tanza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1080" y="152280"/>
            <a:ext cx="6890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Unpaid Peacekeeping Assessments*</a:t>
            </a:r>
            <a:br>
              <a:rPr sz="2000"/>
            </a:br>
            <a:r>
              <a:rPr b="0" lang="en-GB" sz="20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ctual)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37"/>
          <p:cNvGrpSpPr/>
          <p:nvPr/>
        </p:nvGrpSpPr>
        <p:grpSpPr>
          <a:xfrm>
            <a:off x="7711560" y="1600200"/>
            <a:ext cx="1431360" cy="781200"/>
            <a:chOff x="7711560" y="1600200"/>
            <a:chExt cx="1431360" cy="781200"/>
          </a:xfrm>
        </p:grpSpPr>
        <p:grpSp>
          <p:nvGrpSpPr>
            <p:cNvPr id="314" name="Group 58"/>
            <p:cNvGrpSpPr/>
            <p:nvPr/>
          </p:nvGrpSpPr>
          <p:grpSpPr>
            <a:xfrm>
              <a:off x="7721640" y="1600200"/>
              <a:ext cx="1421280" cy="781200"/>
              <a:chOff x="7721640" y="1600200"/>
              <a:chExt cx="1421280" cy="781200"/>
            </a:xfrm>
          </p:grpSpPr>
          <p:sp>
            <p:nvSpPr>
              <p:cNvPr id="315" name="Text Box 59"/>
              <p:cNvSpPr/>
              <p:nvPr/>
            </p:nvSpPr>
            <p:spPr>
              <a:xfrm>
                <a:off x="7723800" y="160020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Text Box 60"/>
              <p:cNvSpPr/>
              <p:nvPr/>
            </p:nvSpPr>
            <p:spPr>
              <a:xfrm>
                <a:off x="7723800" y="176184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Text Box 61"/>
              <p:cNvSpPr/>
              <p:nvPr/>
            </p:nvSpPr>
            <p:spPr>
              <a:xfrm>
                <a:off x="7722360" y="193176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Text Box 62"/>
              <p:cNvSpPr/>
              <p:nvPr/>
            </p:nvSpPr>
            <p:spPr>
              <a:xfrm>
                <a:off x="7721640" y="210492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Rectangle 63"/>
            <p:cNvSpPr/>
            <p:nvPr/>
          </p:nvSpPr>
          <p:spPr>
            <a:xfrm flipH="1">
              <a:off x="7711200" y="185580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0" name="Rectangle 14"/>
          <p:cNvSpPr/>
          <p:nvPr/>
        </p:nvSpPr>
        <p:spPr>
          <a:xfrm>
            <a:off x="2155680" y="1762200"/>
            <a:ext cx="1560600" cy="3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2155680" y="2097000"/>
            <a:ext cx="1560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16"/>
          <p:cNvSpPr/>
          <p:nvPr/>
        </p:nvSpPr>
        <p:spPr>
          <a:xfrm>
            <a:off x="2155680" y="2462040"/>
            <a:ext cx="15606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17"/>
          <p:cNvSpPr/>
          <p:nvPr/>
        </p:nvSpPr>
        <p:spPr>
          <a:xfrm>
            <a:off x="2155680" y="2827440"/>
            <a:ext cx="1560600" cy="37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18"/>
          <p:cNvSpPr/>
          <p:nvPr/>
        </p:nvSpPr>
        <p:spPr>
          <a:xfrm>
            <a:off x="2155680" y="3200400"/>
            <a:ext cx="1560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5562720" y="3200400"/>
            <a:ext cx="1371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20"/>
          <p:cNvSpPr/>
          <p:nvPr/>
        </p:nvSpPr>
        <p:spPr>
          <a:xfrm>
            <a:off x="2155680" y="3565440"/>
            <a:ext cx="1560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21"/>
          <p:cNvSpPr/>
          <p:nvPr/>
        </p:nvSpPr>
        <p:spPr>
          <a:xfrm>
            <a:off x="2155680" y="3930480"/>
            <a:ext cx="15606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22"/>
          <p:cNvSpPr/>
          <p:nvPr/>
        </p:nvSpPr>
        <p:spPr>
          <a:xfrm>
            <a:off x="5562720" y="3930480"/>
            <a:ext cx="13716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23"/>
          <p:cNvSpPr/>
          <p:nvPr/>
        </p:nvSpPr>
        <p:spPr>
          <a:xfrm>
            <a:off x="2155680" y="4295880"/>
            <a:ext cx="1560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24"/>
          <p:cNvSpPr/>
          <p:nvPr/>
        </p:nvSpPr>
        <p:spPr>
          <a:xfrm>
            <a:off x="2155680" y="4660920"/>
            <a:ext cx="1560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25"/>
          <p:cNvSpPr/>
          <p:nvPr/>
        </p:nvSpPr>
        <p:spPr>
          <a:xfrm>
            <a:off x="2155680" y="5391000"/>
            <a:ext cx="15606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228600" y="5756400"/>
            <a:ext cx="192708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27"/>
          <p:cNvSpPr/>
          <p:nvPr/>
        </p:nvSpPr>
        <p:spPr>
          <a:xfrm>
            <a:off x="3716280" y="5756400"/>
            <a:ext cx="18464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28"/>
          <p:cNvSpPr/>
          <p:nvPr/>
        </p:nvSpPr>
        <p:spPr>
          <a:xfrm>
            <a:off x="5562720" y="5756400"/>
            <a:ext cx="1371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29"/>
          <p:cNvSpPr/>
          <p:nvPr/>
        </p:nvSpPr>
        <p:spPr>
          <a:xfrm>
            <a:off x="5562720" y="6121440"/>
            <a:ext cx="1371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30"/>
          <p:cNvSpPr/>
          <p:nvPr/>
        </p:nvSpPr>
        <p:spPr>
          <a:xfrm>
            <a:off x="2895480" y="1219320"/>
            <a:ext cx="17701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31"/>
          <p:cNvSpPr/>
          <p:nvPr/>
        </p:nvSpPr>
        <p:spPr>
          <a:xfrm>
            <a:off x="8305920" y="1219320"/>
            <a:ext cx="14842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32"/>
          <p:cNvSpPr/>
          <p:nvPr/>
        </p:nvSpPr>
        <p:spPr>
          <a:xfrm>
            <a:off x="7010280" y="1919160"/>
            <a:ext cx="1067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3"/>
          <p:cNvSpPr/>
          <p:nvPr/>
        </p:nvSpPr>
        <p:spPr>
          <a:xfrm>
            <a:off x="2895480" y="2284560"/>
            <a:ext cx="177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34"/>
          <p:cNvSpPr/>
          <p:nvPr/>
        </p:nvSpPr>
        <p:spPr>
          <a:xfrm>
            <a:off x="7010280" y="228456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35"/>
          <p:cNvSpPr/>
          <p:nvPr/>
        </p:nvSpPr>
        <p:spPr>
          <a:xfrm>
            <a:off x="8077320" y="264960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36"/>
          <p:cNvSpPr/>
          <p:nvPr/>
        </p:nvSpPr>
        <p:spPr>
          <a:xfrm>
            <a:off x="2895480" y="3014640"/>
            <a:ext cx="177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37"/>
          <p:cNvSpPr/>
          <p:nvPr/>
        </p:nvSpPr>
        <p:spPr>
          <a:xfrm>
            <a:off x="7010280" y="301464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38"/>
          <p:cNvSpPr/>
          <p:nvPr/>
        </p:nvSpPr>
        <p:spPr>
          <a:xfrm>
            <a:off x="8077320" y="301464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39"/>
          <p:cNvSpPr/>
          <p:nvPr/>
        </p:nvSpPr>
        <p:spPr>
          <a:xfrm>
            <a:off x="7010280" y="3379680"/>
            <a:ext cx="1067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40"/>
          <p:cNvSpPr/>
          <p:nvPr/>
        </p:nvSpPr>
        <p:spPr>
          <a:xfrm>
            <a:off x="4665600" y="3745080"/>
            <a:ext cx="234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41"/>
          <p:cNvSpPr/>
          <p:nvPr/>
        </p:nvSpPr>
        <p:spPr>
          <a:xfrm>
            <a:off x="7010280" y="374508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42"/>
          <p:cNvSpPr/>
          <p:nvPr/>
        </p:nvSpPr>
        <p:spPr>
          <a:xfrm>
            <a:off x="2895480" y="4110120"/>
            <a:ext cx="17701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43"/>
          <p:cNvSpPr/>
          <p:nvPr/>
        </p:nvSpPr>
        <p:spPr>
          <a:xfrm>
            <a:off x="7010280" y="4110120"/>
            <a:ext cx="10670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44"/>
          <p:cNvSpPr/>
          <p:nvPr/>
        </p:nvSpPr>
        <p:spPr>
          <a:xfrm>
            <a:off x="7010280" y="4487760"/>
            <a:ext cx="1067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45"/>
          <p:cNvSpPr/>
          <p:nvPr/>
        </p:nvSpPr>
        <p:spPr>
          <a:xfrm>
            <a:off x="2895480" y="4853160"/>
            <a:ext cx="177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6"/>
          <p:cNvSpPr/>
          <p:nvPr/>
        </p:nvSpPr>
        <p:spPr>
          <a:xfrm>
            <a:off x="4665600" y="4853160"/>
            <a:ext cx="234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47"/>
          <p:cNvSpPr/>
          <p:nvPr/>
        </p:nvSpPr>
        <p:spPr>
          <a:xfrm>
            <a:off x="7010280" y="485316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48"/>
          <p:cNvSpPr/>
          <p:nvPr/>
        </p:nvSpPr>
        <p:spPr>
          <a:xfrm>
            <a:off x="2895480" y="5218200"/>
            <a:ext cx="5181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49"/>
          <p:cNvSpPr/>
          <p:nvPr/>
        </p:nvSpPr>
        <p:spPr>
          <a:xfrm>
            <a:off x="380880" y="1295280"/>
            <a:ext cx="6894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28600" y="1371600"/>
          <a:ext cx="3581280" cy="4724280"/>
        </p:xfrm>
        <a:graphic>
          <a:graphicData uri="http://schemas.openxmlformats.org/drawingml/2006/table">
            <a:tbl>
              <a:tblPr/>
              <a:tblGrid>
                <a:gridCol w="2068560"/>
                <a:gridCol w="1512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 Oct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p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ta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Kingd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Ko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ree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,3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3962520" y="1371600"/>
          <a:ext cx="3352680" cy="4753080"/>
        </p:xfrm>
        <a:graphic>
          <a:graphicData uri="http://schemas.openxmlformats.org/drawingml/2006/table">
            <a:tbl>
              <a:tblPr/>
              <a:tblGrid>
                <a:gridCol w="1936800"/>
                <a:gridCol w="14158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 Oct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ta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udi Arab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p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Kingdom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ree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Arab Emir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ther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228600" y="632448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Payments  received after the cut-off date of 5 October 2012 are not reflected on this p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 Box 77"/>
          <p:cNvSpPr/>
          <p:nvPr/>
        </p:nvSpPr>
        <p:spPr>
          <a:xfrm>
            <a:off x="228600" y="0"/>
            <a:ext cx="6705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Peacekeeping Cash Pos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Figures for Peacekeeping for 2011-201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48"/>
          <p:cNvSpPr/>
          <p:nvPr/>
        </p:nvSpPr>
        <p:spPr>
          <a:xfrm>
            <a:off x="7620120" y="228600"/>
            <a:ext cx="7596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Group 37"/>
          <p:cNvGrpSpPr/>
          <p:nvPr/>
        </p:nvGrpSpPr>
        <p:grpSpPr>
          <a:xfrm>
            <a:off x="7711560" y="2133720"/>
            <a:ext cx="1431360" cy="781200"/>
            <a:chOff x="7711560" y="2133720"/>
            <a:chExt cx="1431360" cy="781200"/>
          </a:xfrm>
        </p:grpSpPr>
        <p:grpSp>
          <p:nvGrpSpPr>
            <p:cNvPr id="392" name="Group 58"/>
            <p:cNvGrpSpPr/>
            <p:nvPr/>
          </p:nvGrpSpPr>
          <p:grpSpPr>
            <a:xfrm>
              <a:off x="7721640" y="2133720"/>
              <a:ext cx="1421280" cy="781200"/>
              <a:chOff x="7721640" y="2133720"/>
              <a:chExt cx="1421280" cy="781200"/>
            </a:xfrm>
          </p:grpSpPr>
          <p:sp>
            <p:nvSpPr>
              <p:cNvPr id="393" name="Text Box 59"/>
              <p:cNvSpPr/>
              <p:nvPr/>
            </p:nvSpPr>
            <p:spPr>
              <a:xfrm>
                <a:off x="7723800" y="2133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Text Box 60"/>
              <p:cNvSpPr/>
              <p:nvPr/>
            </p:nvSpPr>
            <p:spPr>
              <a:xfrm>
                <a:off x="7723800" y="2295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Text Box 61"/>
              <p:cNvSpPr/>
              <p:nvPr/>
            </p:nvSpPr>
            <p:spPr>
              <a:xfrm>
                <a:off x="7722360" y="2465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Text Box 62"/>
              <p:cNvSpPr/>
              <p:nvPr/>
            </p:nvSpPr>
            <p:spPr>
              <a:xfrm>
                <a:off x="7721640" y="2638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7" name="Rectangle 63"/>
            <p:cNvSpPr/>
            <p:nvPr/>
          </p:nvSpPr>
          <p:spPr>
            <a:xfrm flipH="1">
              <a:off x="7711200" y="2389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398" name="Object 6"/>
          <p:cNvGraphicFramePr/>
          <p:nvPr/>
        </p:nvGraphicFramePr>
        <p:xfrm>
          <a:off x="0" y="1231920"/>
          <a:ext cx="7797960" cy="476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31920"/>
                    <a:ext cx="77979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Rectangle 231"/>
          <p:cNvSpPr/>
          <p:nvPr/>
        </p:nvSpPr>
        <p:spPr>
          <a:xfrm>
            <a:off x="231480" y="6172200"/>
            <a:ext cx="173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At 5 October 201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233"/>
          <p:cNvSpPr/>
          <p:nvPr/>
        </p:nvSpPr>
        <p:spPr>
          <a:xfrm>
            <a:off x="7391520" y="2514600"/>
            <a:ext cx="609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77"/>
          <p:cNvSpPr/>
          <p:nvPr/>
        </p:nvSpPr>
        <p:spPr>
          <a:xfrm>
            <a:off x="-2880" y="228600"/>
            <a:ext cx="7642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Outstanding Payments to Member Stat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ounts Owed for Troops/Formed-Police Units and Contingent-Own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quipmen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r>
              <a:rPr b="0" lang="en-GB" sz="20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0" name="Group 37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421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422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6" name="Rectangle 63"/>
            <p:cNvSpPr/>
            <p:nvPr/>
          </p:nvSpPr>
          <p:spPr>
            <a:xfrm flipH="1">
              <a:off x="7657560" y="2362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427" name=""/>
          <p:cNvGraphicFramePr/>
          <p:nvPr/>
        </p:nvGraphicFramePr>
        <p:xfrm>
          <a:off x="380880" y="1905120"/>
          <a:ext cx="7162920" cy="3611520"/>
        </p:xfrm>
        <a:graphic>
          <a:graphicData uri="http://schemas.openxmlformats.org/drawingml/2006/table">
            <a:tbl>
              <a:tblPr/>
              <a:tblGrid>
                <a:gridCol w="2667240"/>
                <a:gridCol w="2220840"/>
                <a:gridCol w="2274840"/>
              </a:tblGrid>
              <a:tr h="631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ctual 2011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rojected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 January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ew obligations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 to Member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2,02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2,06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ver 12 months:  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ess than 12 months:  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ver 12 months:  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ess than 12 months:  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8" name="Text Box 76"/>
          <p:cNvSpPr/>
          <p:nvPr/>
        </p:nvSpPr>
        <p:spPr>
          <a:xfrm>
            <a:off x="304920" y="6095880"/>
            <a:ext cx="4419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erence A/66/679, table 17 (updated figur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77"/>
          <p:cNvSpPr/>
          <p:nvPr/>
        </p:nvSpPr>
        <p:spPr>
          <a:xfrm>
            <a:off x="388080" y="228600"/>
            <a:ext cx="7002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Outstanding Payments to Member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jected 2012 Outstanding Payments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$ millions)</a:t>
            </a:r>
            <a:r>
              <a:rPr b="0" lang="en-GB" sz="20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97488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Line 58"/>
          <p:cNvSpPr/>
          <p:nvPr/>
        </p:nvSpPr>
        <p:spPr>
          <a:xfrm>
            <a:off x="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Line 62"/>
          <p:cNvSpPr/>
          <p:nvPr/>
        </p:nvSpPr>
        <p:spPr>
          <a:xfrm>
            <a:off x="148752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Line 64"/>
          <p:cNvSpPr/>
          <p:nvPr/>
        </p:nvSpPr>
        <p:spPr>
          <a:xfrm>
            <a:off x="304632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Line 66"/>
          <p:cNvSpPr/>
          <p:nvPr/>
        </p:nvSpPr>
        <p:spPr>
          <a:xfrm>
            <a:off x="460548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68"/>
          <p:cNvSpPr/>
          <p:nvPr/>
        </p:nvSpPr>
        <p:spPr>
          <a:xfrm>
            <a:off x="616284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48"/>
          <p:cNvSpPr/>
          <p:nvPr/>
        </p:nvSpPr>
        <p:spPr>
          <a:xfrm>
            <a:off x="7620120" y="152280"/>
            <a:ext cx="7596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7" name="Group 37"/>
          <p:cNvGrpSpPr/>
          <p:nvPr/>
        </p:nvGrpSpPr>
        <p:grpSpPr>
          <a:xfrm>
            <a:off x="7711560" y="2133720"/>
            <a:ext cx="1431360" cy="781200"/>
            <a:chOff x="7711560" y="2133720"/>
            <a:chExt cx="1431360" cy="781200"/>
          </a:xfrm>
        </p:grpSpPr>
        <p:grpSp>
          <p:nvGrpSpPr>
            <p:cNvPr id="448" name="Group 58"/>
            <p:cNvGrpSpPr/>
            <p:nvPr/>
          </p:nvGrpSpPr>
          <p:grpSpPr>
            <a:xfrm>
              <a:off x="7721640" y="2133720"/>
              <a:ext cx="1421280" cy="781200"/>
              <a:chOff x="7721640" y="2133720"/>
              <a:chExt cx="1421280" cy="781200"/>
            </a:xfrm>
          </p:grpSpPr>
          <p:sp>
            <p:nvSpPr>
              <p:cNvPr id="449" name="Text Box 59"/>
              <p:cNvSpPr/>
              <p:nvPr/>
            </p:nvSpPr>
            <p:spPr>
              <a:xfrm>
                <a:off x="7723800" y="2133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Text Box 60"/>
              <p:cNvSpPr/>
              <p:nvPr/>
            </p:nvSpPr>
            <p:spPr>
              <a:xfrm>
                <a:off x="7723800" y="2295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Text Box 61"/>
              <p:cNvSpPr/>
              <p:nvPr/>
            </p:nvSpPr>
            <p:spPr>
              <a:xfrm>
                <a:off x="7722360" y="2465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Text Box 62"/>
              <p:cNvSpPr/>
              <p:nvPr/>
            </p:nvSpPr>
            <p:spPr>
              <a:xfrm>
                <a:off x="7721640" y="2638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3" name="Rectangle 63"/>
            <p:cNvSpPr/>
            <p:nvPr/>
          </p:nvSpPr>
          <p:spPr>
            <a:xfrm flipH="1">
              <a:off x="7711200" y="2389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Text Box 140"/>
          <p:cNvSpPr/>
          <p:nvPr/>
        </p:nvSpPr>
        <p:spPr>
          <a:xfrm>
            <a:off x="228600" y="5257800"/>
            <a:ext cx="716292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 Payments for troops/formed police unit costs for all missions including supplemental payments will be current up to Aug/Sep 2012, except MINURSO up to Feb 2011, UNFICYP up to Feb 2012 ,and UNMIT up to Oct  201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 Payments for COE for active missions will be current up to Aug 2012 except MINURSO, UNFICYP, UNMIT and UNSO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* does not  include Letters of Assist  and death and disability claim costs which have balances of $76 million and $1 million at 1 October 2012 respectiv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52280" y="1905120"/>
          <a:ext cx="7391520" cy="2209680"/>
        </p:xfrm>
        <a:graphic>
          <a:graphicData uri="http://schemas.openxmlformats.org/drawingml/2006/table">
            <a:tbl>
              <a:tblPr/>
              <a:tblGrid>
                <a:gridCol w="2667240"/>
                <a:gridCol w="1218960"/>
                <a:gridCol w="1096920"/>
                <a:gridCol w="1189080"/>
                <a:gridCol w="1219320"/>
              </a:tblGrid>
              <a:tr h="59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 20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 Oct 20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6 Oct 20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 20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Projected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roop/formed police unit cos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E claims (active missio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E claims (closed missio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 **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202"/>
          <p:cNvSpPr/>
          <p:nvPr/>
        </p:nvSpPr>
        <p:spPr>
          <a:xfrm>
            <a:off x="6172200" y="2514600"/>
            <a:ext cx="244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 Box 917"/>
          <p:cNvSpPr/>
          <p:nvPr/>
        </p:nvSpPr>
        <p:spPr>
          <a:xfrm>
            <a:off x="6172200" y="2971800"/>
            <a:ext cx="457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7"/>
          <p:cNvSpPr/>
          <p:nvPr/>
        </p:nvSpPr>
        <p:spPr>
          <a:xfrm>
            <a:off x="13557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Line 58"/>
          <p:cNvSpPr/>
          <p:nvPr/>
        </p:nvSpPr>
        <p:spPr>
          <a:xfrm>
            <a:off x="3808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Line 62"/>
          <p:cNvSpPr/>
          <p:nvPr/>
        </p:nvSpPr>
        <p:spPr>
          <a:xfrm>
            <a:off x="18684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Line 64"/>
          <p:cNvSpPr/>
          <p:nvPr/>
        </p:nvSpPr>
        <p:spPr>
          <a:xfrm>
            <a:off x="34275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Line 66"/>
          <p:cNvSpPr/>
          <p:nvPr/>
        </p:nvSpPr>
        <p:spPr>
          <a:xfrm>
            <a:off x="49863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Line 68"/>
          <p:cNvSpPr/>
          <p:nvPr/>
        </p:nvSpPr>
        <p:spPr>
          <a:xfrm>
            <a:off x="65437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067040" cy="9604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6"/>
          <p:cNvSpPr/>
          <p:nvPr/>
        </p:nvSpPr>
        <p:spPr>
          <a:xfrm>
            <a:off x="770508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6" name="Group 37"/>
          <p:cNvGrpSpPr/>
          <p:nvPr/>
        </p:nvGrpSpPr>
        <p:grpSpPr>
          <a:xfrm>
            <a:off x="7711560" y="2133720"/>
            <a:ext cx="1431360" cy="781200"/>
            <a:chOff x="7711560" y="2133720"/>
            <a:chExt cx="1431360" cy="781200"/>
          </a:xfrm>
        </p:grpSpPr>
        <p:grpSp>
          <p:nvGrpSpPr>
            <p:cNvPr id="467" name="Group 58"/>
            <p:cNvGrpSpPr/>
            <p:nvPr/>
          </p:nvGrpSpPr>
          <p:grpSpPr>
            <a:xfrm>
              <a:off x="7721640" y="2133720"/>
              <a:ext cx="1421280" cy="781200"/>
              <a:chOff x="7721640" y="2133720"/>
              <a:chExt cx="1421280" cy="781200"/>
            </a:xfrm>
          </p:grpSpPr>
          <p:sp>
            <p:nvSpPr>
              <p:cNvPr id="468" name="Text Box 59"/>
              <p:cNvSpPr/>
              <p:nvPr/>
            </p:nvSpPr>
            <p:spPr>
              <a:xfrm>
                <a:off x="7723800" y="2133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Text Box 60"/>
              <p:cNvSpPr/>
              <p:nvPr/>
            </p:nvSpPr>
            <p:spPr>
              <a:xfrm>
                <a:off x="7723800" y="2295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Text Box 61"/>
              <p:cNvSpPr/>
              <p:nvPr/>
            </p:nvSpPr>
            <p:spPr>
              <a:xfrm>
                <a:off x="7722360" y="2465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Text Box 62"/>
              <p:cNvSpPr/>
              <p:nvPr/>
            </p:nvSpPr>
            <p:spPr>
              <a:xfrm>
                <a:off x="7721640" y="2638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2" name="Rectangle 63"/>
            <p:cNvSpPr/>
            <p:nvPr/>
          </p:nvSpPr>
          <p:spPr>
            <a:xfrm flipH="1">
              <a:off x="7711200" y="2389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 Box 77"/>
          <p:cNvSpPr/>
          <p:nvPr/>
        </p:nvSpPr>
        <p:spPr>
          <a:xfrm>
            <a:off x="616680" y="304920"/>
            <a:ext cx="68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Outstanding Payment to Member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ounts Owed for Troops/Formed Police Units and CO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1 October 201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r>
              <a:rPr b="0" lang="en-GB" sz="20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57"/>
          <p:cNvSpPr/>
          <p:nvPr/>
        </p:nvSpPr>
        <p:spPr>
          <a:xfrm>
            <a:off x="914400" y="6095880"/>
            <a:ext cx="6019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TAL 1,06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llion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including Letter of assis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2286000" y="1600200"/>
            <a:ext cx="3733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3 Member St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8" descr=""/>
          <p:cNvPicPr/>
          <p:nvPr/>
        </p:nvPicPr>
        <p:blipFill>
          <a:blip r:embed="rId2"/>
          <a:stretch/>
        </p:blipFill>
        <p:spPr>
          <a:xfrm>
            <a:off x="0" y="1066680"/>
            <a:ext cx="7620120" cy="518652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48"/>
          <p:cNvSpPr/>
          <p:nvPr/>
        </p:nvSpPr>
        <p:spPr>
          <a:xfrm>
            <a:off x="7543800" y="15228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5" name="Group 36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496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497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1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2" name="Rectangle 6"/>
          <p:cNvSpPr/>
          <p:nvPr/>
        </p:nvSpPr>
        <p:spPr>
          <a:xfrm>
            <a:off x="63244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 Box 77"/>
          <p:cNvSpPr/>
          <p:nvPr/>
        </p:nvSpPr>
        <p:spPr>
          <a:xfrm>
            <a:off x="7920" y="228600"/>
            <a:ext cx="51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Tribunals: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essment Status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4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0" name="Group 36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521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522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26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527" name=""/>
          <p:cNvGraphicFramePr/>
          <p:nvPr/>
        </p:nvGraphicFramePr>
        <p:xfrm>
          <a:off x="304920" y="1905120"/>
          <a:ext cx="7000920" cy="2484360"/>
        </p:xfrm>
        <a:graphic>
          <a:graphicData uri="http://schemas.openxmlformats.org/drawingml/2006/table">
            <a:tbl>
              <a:tblPr/>
              <a:tblGrid>
                <a:gridCol w="4041720"/>
                <a:gridCol w="1479600"/>
                <a:gridCol w="1479600"/>
              </a:tblGrid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 Oct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 Oct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s paid in f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s with amounts outstanding to one or both tribunals, and/or international residual mechan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 received (US$ mill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 Assessments (US$ mill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Rectangle 96"/>
          <p:cNvSpPr/>
          <p:nvPr/>
        </p:nvSpPr>
        <p:spPr>
          <a:xfrm>
            <a:off x="149040" y="6056280"/>
            <a:ext cx="706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Including assessments for the International Tribunal for the Former Yugoslavia, the International Crimin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ibunal for Rwanda, and the International Residual Mechanism for Criminal Tribu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"/>
          <p:cNvGraphicFramePr/>
          <p:nvPr/>
        </p:nvGraphicFramePr>
        <p:xfrm>
          <a:off x="380880" y="1371600"/>
          <a:ext cx="822960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828800"/>
                <a:gridCol w="1508040"/>
                <a:gridCol w="3216240"/>
              </a:tblGrid>
              <a:tr h="5410080"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ndor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ntigua and Barbu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rmen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ustral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ust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ahama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elgiu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el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e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hu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osnia and Herzegov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raz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runei Darussalam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ulga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urkina Fas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amero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lo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sta 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te d’Ivo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roat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u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ypr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zech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n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gyp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rit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stonia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inlan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ran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eo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uy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Ha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celan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n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relan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sra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ta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Jap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eny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uwa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o People’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mocratic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t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esot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be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by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echtenst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uxembou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dagasc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law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lay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uritiu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onac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ongo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ami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etherland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ew Zealan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icaragu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i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n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Qat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Mol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om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mo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n Mari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ene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ingap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lovak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outh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witzer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yrian Arab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hai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imor L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urk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urkmen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Kingd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Republic of Tanzan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Za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0" name="Rectangle 6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1279440" y="5294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Line 58"/>
          <p:cNvSpPr/>
          <p:nvPr/>
        </p:nvSpPr>
        <p:spPr>
          <a:xfrm>
            <a:off x="3808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Line 59"/>
          <p:cNvSpPr/>
          <p:nvPr/>
        </p:nvSpPr>
        <p:spPr>
          <a:xfrm>
            <a:off x="304920" y="929628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Line 60"/>
          <p:cNvSpPr/>
          <p:nvPr/>
        </p:nvSpPr>
        <p:spPr>
          <a:xfrm>
            <a:off x="304920" y="160020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Line 61"/>
          <p:cNvSpPr/>
          <p:nvPr/>
        </p:nvSpPr>
        <p:spPr>
          <a:xfrm>
            <a:off x="8077320" y="160020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Line 62"/>
          <p:cNvSpPr/>
          <p:nvPr/>
        </p:nvSpPr>
        <p:spPr>
          <a:xfrm>
            <a:off x="182880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Line 63"/>
          <p:cNvSpPr/>
          <p:nvPr/>
        </p:nvSpPr>
        <p:spPr>
          <a:xfrm>
            <a:off x="1792440" y="929628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Line 64"/>
          <p:cNvSpPr/>
          <p:nvPr/>
        </p:nvSpPr>
        <p:spPr>
          <a:xfrm>
            <a:off x="342900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Line 65"/>
          <p:cNvSpPr/>
          <p:nvPr/>
        </p:nvSpPr>
        <p:spPr>
          <a:xfrm>
            <a:off x="3351240" y="929628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Line 66"/>
          <p:cNvSpPr/>
          <p:nvPr/>
        </p:nvSpPr>
        <p:spPr>
          <a:xfrm>
            <a:off x="4910040" y="16002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Line 67"/>
          <p:cNvSpPr/>
          <p:nvPr/>
        </p:nvSpPr>
        <p:spPr>
          <a:xfrm>
            <a:off x="4910040" y="929628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Line 68"/>
          <p:cNvSpPr/>
          <p:nvPr/>
        </p:nvSpPr>
        <p:spPr>
          <a:xfrm>
            <a:off x="6467400" y="1600200"/>
            <a:ext cx="1609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Line 69"/>
          <p:cNvSpPr/>
          <p:nvPr/>
        </p:nvSpPr>
        <p:spPr>
          <a:xfrm>
            <a:off x="6467400" y="9296280"/>
            <a:ext cx="1609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77"/>
          <p:cNvSpPr/>
          <p:nvPr/>
        </p:nvSpPr>
        <p:spPr>
          <a:xfrm>
            <a:off x="301320" y="352440"/>
            <a:ext cx="5135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Tribunal Assessments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y pai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5 October 2012: 95 Member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1067040" cy="96048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48"/>
          <p:cNvSpPr/>
          <p:nvPr/>
        </p:nvSpPr>
        <p:spPr>
          <a:xfrm>
            <a:off x="7696080" y="35388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7819200" y="160020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8" name="Group 36"/>
          <p:cNvGrpSpPr/>
          <p:nvPr/>
        </p:nvGrpSpPr>
        <p:grpSpPr>
          <a:xfrm>
            <a:off x="7810200" y="2259000"/>
            <a:ext cx="1431360" cy="781200"/>
            <a:chOff x="7810200" y="2259000"/>
            <a:chExt cx="1431360" cy="781200"/>
          </a:xfrm>
        </p:grpSpPr>
        <p:grpSp>
          <p:nvGrpSpPr>
            <p:cNvPr id="549" name="Group 58"/>
            <p:cNvGrpSpPr/>
            <p:nvPr/>
          </p:nvGrpSpPr>
          <p:grpSpPr>
            <a:xfrm>
              <a:off x="7820280" y="2259000"/>
              <a:ext cx="1421280" cy="781200"/>
              <a:chOff x="7820280" y="2259000"/>
              <a:chExt cx="1421280" cy="781200"/>
            </a:xfrm>
          </p:grpSpPr>
          <p:sp>
            <p:nvSpPr>
              <p:cNvPr id="550" name="Text Box 59"/>
              <p:cNvSpPr/>
              <p:nvPr/>
            </p:nvSpPr>
            <p:spPr>
              <a:xfrm>
                <a:off x="7822440" y="225900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Text Box 60"/>
              <p:cNvSpPr/>
              <p:nvPr/>
            </p:nvSpPr>
            <p:spPr>
              <a:xfrm>
                <a:off x="7822440" y="242064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Text Box 61"/>
              <p:cNvSpPr/>
              <p:nvPr/>
            </p:nvSpPr>
            <p:spPr>
              <a:xfrm>
                <a:off x="7821000" y="259056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Text Box 62"/>
              <p:cNvSpPr/>
              <p:nvPr/>
            </p:nvSpPr>
            <p:spPr>
              <a:xfrm>
                <a:off x="7820280" y="276372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4" name="Rectangle 63"/>
            <p:cNvSpPr/>
            <p:nvPr/>
          </p:nvSpPr>
          <p:spPr>
            <a:xfrm flipH="1">
              <a:off x="7809840" y="268812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5" name="Text Box 46"/>
          <p:cNvSpPr/>
          <p:nvPr/>
        </p:nvSpPr>
        <p:spPr>
          <a:xfrm>
            <a:off x="159120" y="6553080"/>
            <a:ext cx="39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Compared to 93 Member States at 5 October 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77"/>
          <p:cNvSpPr/>
          <p:nvPr/>
        </p:nvSpPr>
        <p:spPr>
          <a:xfrm>
            <a:off x="150840" y="200160"/>
            <a:ext cx="6581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Outstanding Tribunal Assessmen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t 31 December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575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576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0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581" name="Object 2"/>
          <p:cNvGraphicFramePr/>
          <p:nvPr/>
        </p:nvGraphicFramePr>
        <p:xfrm>
          <a:off x="228600" y="1244520"/>
          <a:ext cx="6794640" cy="4584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8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244520"/>
                    <a:ext cx="6794640" cy="45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Text Box 46"/>
          <p:cNvSpPr/>
          <p:nvPr/>
        </p:nvSpPr>
        <p:spPr>
          <a:xfrm>
            <a:off x="235800" y="6248520"/>
            <a:ext cx="27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Outstanding as at 5 October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114"/>
          <p:cNvSpPr/>
          <p:nvPr/>
        </p:nvSpPr>
        <p:spPr>
          <a:xfrm>
            <a:off x="6400800" y="1600200"/>
            <a:ext cx="228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50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228960" y="0"/>
            <a:ext cx="33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ey Compon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1066680"/>
          <a:ext cx="7010280" cy="4611960"/>
        </p:xfrm>
        <a:graphic>
          <a:graphicData uri="http://schemas.openxmlformats.org/drawingml/2006/table">
            <a:tbl>
              <a:tblPr/>
              <a:tblGrid>
                <a:gridCol w="1807920"/>
                <a:gridCol w="401760"/>
                <a:gridCol w="1733400"/>
                <a:gridCol w="247680"/>
                <a:gridCol w="1149480"/>
                <a:gridCol w="298440"/>
                <a:gridCol w="13716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 2011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 Oct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Calibri"/>
                          <a:ea typeface="ＭＳ Ｐゴシック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4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4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,6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,644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ＭＳ Ｐゴシック"/>
                        </a:rPr>
                        <a:t>Capital Master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 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Calibri"/>
                          <a:ea typeface="ＭＳ Ｐゴシック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ＭＳ Ｐゴシック"/>
                        </a:rPr>
                        <a:t>Capital Master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 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Calibri"/>
                          <a:ea typeface="ＭＳ Ｐゴシック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percentag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ＭＳ Ｐゴシック"/>
                        </a:rPr>
                        <a:t>Capital Master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448"/>
          <p:cNvSpPr/>
          <p:nvPr/>
        </p:nvSpPr>
        <p:spPr>
          <a:xfrm>
            <a:off x="228600" y="609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97"/>
          <p:cNvSpPr/>
          <p:nvPr/>
        </p:nvSpPr>
        <p:spPr>
          <a:xfrm>
            <a:off x="228600" y="617220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12/2013 assessments reduced in scale year (peacekeeping rates for 2013 not yet decid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Group 36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603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604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8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9" name="Text Box 26"/>
          <p:cNvSpPr/>
          <p:nvPr/>
        </p:nvSpPr>
        <p:spPr>
          <a:xfrm>
            <a:off x="303120" y="152280"/>
            <a:ext cx="5735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Unpaid Tribunal Assessment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5 October 2012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457200" y="1676520"/>
          <a:ext cx="5791320" cy="4117680"/>
        </p:xfrm>
        <a:graphic>
          <a:graphicData uri="http://schemas.openxmlformats.org/drawingml/2006/table">
            <a:tbl>
              <a:tblPr/>
              <a:tblGrid>
                <a:gridCol w="2655720"/>
                <a:gridCol w="3135600"/>
              </a:tblGrid>
              <a:tr h="53316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ut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p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ussian Fed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604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x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2 Other Member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bfbfbf"/>
                      </a:solidFill>
                    </a:lnT>
                    <a:lnB w="1872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bfbfbf"/>
                      </a:solidFill>
                    </a:lnT>
                    <a:lnB w="1872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Text Box 95"/>
          <p:cNvSpPr/>
          <p:nvPr/>
        </p:nvSpPr>
        <p:spPr>
          <a:xfrm>
            <a:off x="609480" y="1447920"/>
            <a:ext cx="5943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7 Member St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9" name="Group 36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630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631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Text Box 2"/>
          <p:cNvSpPr/>
          <p:nvPr/>
        </p:nvSpPr>
        <p:spPr>
          <a:xfrm>
            <a:off x="149400" y="200160"/>
            <a:ext cx="453492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Tribunals Cash Pos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Figures for Tribunals for 2011-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7" name="Object 6"/>
          <p:cNvGraphicFramePr/>
          <p:nvPr/>
        </p:nvGraphicFramePr>
        <p:xfrm>
          <a:off x="76320" y="1295280"/>
          <a:ext cx="7391160" cy="507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295280"/>
                    <a:ext cx="739116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Text Box 53"/>
          <p:cNvSpPr/>
          <p:nvPr/>
        </p:nvSpPr>
        <p:spPr>
          <a:xfrm>
            <a:off x="236160" y="640080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At 5 October 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 Box 33"/>
          <p:cNvSpPr/>
          <p:nvPr/>
        </p:nvSpPr>
        <p:spPr>
          <a:xfrm>
            <a:off x="7162920" y="2590920"/>
            <a:ext cx="228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304920" y="1447920"/>
          <a:ext cx="6095880" cy="2361960"/>
        </p:xfrm>
        <a:graphic>
          <a:graphicData uri="http://schemas.openxmlformats.org/drawingml/2006/table">
            <a:tbl>
              <a:tblPr/>
              <a:tblGrid>
                <a:gridCol w="3689280"/>
                <a:gridCol w="240660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86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 at 5 Oct 2012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86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 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4" name="Text Box 55"/>
          <p:cNvSpPr/>
          <p:nvPr/>
        </p:nvSpPr>
        <p:spPr>
          <a:xfrm>
            <a:off x="154440" y="6048360"/>
            <a:ext cx="7074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Not including payments to the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king capital reserve fund of $45 million, which ha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outstanding balance of $8,335 at 5 Oct 2012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 Box 59"/>
          <p:cNvSpPr/>
          <p:nvPr/>
        </p:nvSpPr>
        <p:spPr>
          <a:xfrm>
            <a:off x="151920" y="200160"/>
            <a:ext cx="38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Capital Master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 Box 60"/>
          <p:cNvSpPr/>
          <p:nvPr/>
        </p:nvSpPr>
        <p:spPr>
          <a:xfrm>
            <a:off x="214560" y="83808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0" name="Group 58"/>
          <p:cNvGrpSpPr/>
          <p:nvPr/>
        </p:nvGrpSpPr>
        <p:grpSpPr>
          <a:xfrm>
            <a:off x="7668000" y="2106720"/>
            <a:ext cx="1421280" cy="781200"/>
            <a:chOff x="7668000" y="2106720"/>
            <a:chExt cx="1421280" cy="781200"/>
          </a:xfrm>
        </p:grpSpPr>
        <p:sp>
          <p:nvSpPr>
            <p:cNvPr id="651" name="Text Box 59"/>
            <p:cNvSpPr/>
            <p:nvPr/>
          </p:nvSpPr>
          <p:spPr>
            <a:xfrm>
              <a:off x="7670160" y="2106720"/>
              <a:ext cx="114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Regular budge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Text Box 60"/>
            <p:cNvSpPr/>
            <p:nvPr/>
          </p:nvSpPr>
          <p:spPr>
            <a:xfrm>
              <a:off x="7670160" y="2268360"/>
              <a:ext cx="105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Peacekeep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Text Box 61"/>
            <p:cNvSpPr/>
            <p:nvPr/>
          </p:nvSpPr>
          <p:spPr>
            <a:xfrm>
              <a:off x="7668720" y="243828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Tribunal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Text Box 62"/>
            <p:cNvSpPr/>
            <p:nvPr/>
          </p:nvSpPr>
          <p:spPr>
            <a:xfrm>
              <a:off x="7668000" y="2611440"/>
              <a:ext cx="14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alibri"/>
                  <a:ea typeface="ＭＳ Ｐゴシック"/>
                </a:rPr>
                <a:t>Capital Master Pl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5" name="Rectangle 63"/>
          <p:cNvSpPr/>
          <p:nvPr/>
        </p:nvSpPr>
        <p:spPr>
          <a:xfrm flipH="1">
            <a:off x="7657560" y="2709720"/>
            <a:ext cx="7596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Line 227"/>
          <p:cNvSpPr/>
          <p:nvPr/>
        </p:nvSpPr>
        <p:spPr>
          <a:xfrm>
            <a:off x="5410080" y="312408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4" name="Group 58"/>
          <p:cNvGrpSpPr/>
          <p:nvPr/>
        </p:nvGrpSpPr>
        <p:grpSpPr>
          <a:xfrm>
            <a:off x="7668000" y="2106720"/>
            <a:ext cx="1421280" cy="781200"/>
            <a:chOff x="7668000" y="2106720"/>
            <a:chExt cx="1421280" cy="781200"/>
          </a:xfrm>
        </p:grpSpPr>
        <p:sp>
          <p:nvSpPr>
            <p:cNvPr id="675" name="Text Box 59"/>
            <p:cNvSpPr/>
            <p:nvPr/>
          </p:nvSpPr>
          <p:spPr>
            <a:xfrm>
              <a:off x="7670160" y="2106720"/>
              <a:ext cx="114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Regular budge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Text Box 60"/>
            <p:cNvSpPr/>
            <p:nvPr/>
          </p:nvSpPr>
          <p:spPr>
            <a:xfrm>
              <a:off x="7670160" y="2268360"/>
              <a:ext cx="105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Peacekeep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 Box 61"/>
            <p:cNvSpPr/>
            <p:nvPr/>
          </p:nvSpPr>
          <p:spPr>
            <a:xfrm>
              <a:off x="7668720" y="243828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Tribunal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Text Box 62"/>
            <p:cNvSpPr/>
            <p:nvPr/>
          </p:nvSpPr>
          <p:spPr>
            <a:xfrm>
              <a:off x="7668000" y="2611440"/>
              <a:ext cx="14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alibri"/>
                  <a:ea typeface="ＭＳ Ｐゴシック"/>
                </a:rPr>
                <a:t>Capital Master Pl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9" name="Rectangle 63"/>
          <p:cNvSpPr/>
          <p:nvPr/>
        </p:nvSpPr>
        <p:spPr>
          <a:xfrm flipH="1">
            <a:off x="7657560" y="2709720"/>
            <a:ext cx="7596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 Box 2"/>
          <p:cNvSpPr/>
          <p:nvPr/>
        </p:nvSpPr>
        <p:spPr>
          <a:xfrm>
            <a:off x="153000" y="228600"/>
            <a:ext cx="661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Capital Master Plan Cash Position*</a:t>
            </a: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figures for CMP Fund for 2011-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1" name="Object 6"/>
          <p:cNvGraphicFramePr/>
          <p:nvPr/>
        </p:nvGraphicFramePr>
        <p:xfrm>
          <a:off x="0" y="1371600"/>
          <a:ext cx="7391520" cy="514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739152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Text Box 53"/>
          <p:cNvSpPr/>
          <p:nvPr/>
        </p:nvSpPr>
        <p:spPr>
          <a:xfrm>
            <a:off x="4320" y="6276960"/>
            <a:ext cx="473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es not include balances in Working Capital Reser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 At 5 October 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 Box 32"/>
          <p:cNvSpPr/>
          <p:nvPr/>
        </p:nvSpPr>
        <p:spPr>
          <a:xfrm>
            <a:off x="7086600" y="3124080"/>
            <a:ext cx="609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 Box 77"/>
          <p:cNvSpPr/>
          <p:nvPr/>
        </p:nvSpPr>
        <p:spPr>
          <a:xfrm>
            <a:off x="-5040" y="0"/>
            <a:ext cx="40914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Capital Master Plan </a:t>
            </a:r>
            <a:br>
              <a:rPr sz="3200"/>
            </a:b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y paid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5 Oct 2012: 149 Member Stat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48"/>
          <p:cNvSpPr/>
          <p:nvPr/>
        </p:nvSpPr>
        <p:spPr>
          <a:xfrm flipH="1">
            <a:off x="7543800" y="353880"/>
            <a:ext cx="76320" cy="650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 Box 6"/>
          <p:cNvSpPr/>
          <p:nvPr/>
        </p:nvSpPr>
        <p:spPr>
          <a:xfrm>
            <a:off x="770508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9" name="Group 58"/>
          <p:cNvGrpSpPr/>
          <p:nvPr/>
        </p:nvGrpSpPr>
        <p:grpSpPr>
          <a:xfrm>
            <a:off x="7721640" y="1981080"/>
            <a:ext cx="1421640" cy="781200"/>
            <a:chOff x="7721640" y="1981080"/>
            <a:chExt cx="1421640" cy="781200"/>
          </a:xfrm>
        </p:grpSpPr>
        <p:sp>
          <p:nvSpPr>
            <p:cNvPr id="700" name="Text Box 59"/>
            <p:cNvSpPr/>
            <p:nvPr/>
          </p:nvSpPr>
          <p:spPr>
            <a:xfrm>
              <a:off x="7724160" y="1981080"/>
              <a:ext cx="114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Regular budge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Text Box 60"/>
            <p:cNvSpPr/>
            <p:nvPr/>
          </p:nvSpPr>
          <p:spPr>
            <a:xfrm>
              <a:off x="7721640" y="2142720"/>
              <a:ext cx="105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Peacekeep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Text Box 61"/>
            <p:cNvSpPr/>
            <p:nvPr/>
          </p:nvSpPr>
          <p:spPr>
            <a:xfrm>
              <a:off x="7722720" y="231264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Tribunal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Text Box 62"/>
            <p:cNvSpPr/>
            <p:nvPr/>
          </p:nvSpPr>
          <p:spPr>
            <a:xfrm>
              <a:off x="7722000" y="2485800"/>
              <a:ext cx="14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alibri"/>
                  <a:ea typeface="ＭＳ Ｐゴシック"/>
                </a:rPr>
                <a:t>Capital Master Pl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Rectangle 63"/>
          <p:cNvSpPr/>
          <p:nvPr/>
        </p:nvSpPr>
        <p:spPr>
          <a:xfrm flipV="1">
            <a:off x="7696080" y="2590200"/>
            <a:ext cx="7632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Rectangle 43"/>
          <p:cNvSpPr/>
          <p:nvPr/>
        </p:nvSpPr>
        <p:spPr>
          <a:xfrm>
            <a:off x="3124080" y="1262160"/>
            <a:ext cx="1676520" cy="48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44"/>
          <p:cNvSpPr/>
          <p:nvPr/>
        </p:nvSpPr>
        <p:spPr>
          <a:xfrm>
            <a:off x="4648320" y="1295280"/>
            <a:ext cx="1676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45"/>
          <p:cNvSpPr/>
          <p:nvPr/>
        </p:nvSpPr>
        <p:spPr>
          <a:xfrm>
            <a:off x="228600" y="1295280"/>
            <a:ext cx="17557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228600" y="914400"/>
          <a:ext cx="7391520" cy="6107040"/>
        </p:xfrm>
        <a:graphic>
          <a:graphicData uri="http://schemas.openxmlformats.org/drawingml/2006/table">
            <a:tbl>
              <a:tblPr/>
              <a:tblGrid>
                <a:gridCol w="1492200"/>
                <a:gridCol w="1492200"/>
                <a:gridCol w="1465200"/>
                <a:gridCol w="1265400"/>
                <a:gridCol w="1676520"/>
              </a:tblGrid>
              <a:tr h="6140880"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lb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lge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ndor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ntigua and Barbu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rme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aha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ahr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arb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elar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elg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el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e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hu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osnia and Herzegov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otsw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raz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runei Darussal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ulg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urkina Fa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amero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lo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sta 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te d’Ivo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roat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u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ypr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zech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mocratic People’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mocratic Republic 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n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jibou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gy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l Salv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ritre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sto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eo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ree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re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uatem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uin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uy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Ha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Hondur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c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n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ra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r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sra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ta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Jap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Jord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eny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iriba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uwa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o People’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mocratic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t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eban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esot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be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by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echtenst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thu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uxembou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dagasc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law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lay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uriti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x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ona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ongo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onteneg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ozamb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yan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ami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au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icar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i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ige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n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ra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hilipp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Qat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Mol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om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ussian Fed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int Kitts and Nev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mo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n Mari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udi Ara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ene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er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ingap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lovak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love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olomon Is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outh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ri Lan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uri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witzer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yrian Arab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hai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imor L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rinidad and Toba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uni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urk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urkmen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uva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g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Kingd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Republic of Tanzan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States of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Viet N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Za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Zimbabw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9" name="Text Box 46"/>
          <p:cNvSpPr/>
          <p:nvPr/>
        </p:nvSpPr>
        <p:spPr>
          <a:xfrm>
            <a:off x="0" y="6613560"/>
            <a:ext cx="40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Compared to 124 Member States at  5 October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Line 58"/>
          <p:cNvSpPr/>
          <p:nvPr/>
        </p:nvSpPr>
        <p:spPr>
          <a:xfrm>
            <a:off x="228600" y="19051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Line 62"/>
          <p:cNvSpPr/>
          <p:nvPr/>
        </p:nvSpPr>
        <p:spPr>
          <a:xfrm>
            <a:off x="1716120" y="19051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Line 64"/>
          <p:cNvSpPr/>
          <p:nvPr/>
        </p:nvSpPr>
        <p:spPr>
          <a:xfrm>
            <a:off x="3274920" y="19051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Line 66"/>
          <p:cNvSpPr/>
          <p:nvPr/>
        </p:nvSpPr>
        <p:spPr>
          <a:xfrm>
            <a:off x="4834080" y="19051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Line 68"/>
          <p:cNvSpPr/>
          <p:nvPr/>
        </p:nvSpPr>
        <p:spPr>
          <a:xfrm>
            <a:off x="6391440" y="19051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77"/>
          <p:cNvSpPr/>
          <p:nvPr/>
        </p:nvSpPr>
        <p:spPr>
          <a:xfrm>
            <a:off x="146160" y="200160"/>
            <a:ext cx="71895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 Assessments 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ue and payable at 11 October 2012 Paid in Full: 31 Member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red to 18 Member States at 11 October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4" name="Picture 450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 Box 26"/>
          <p:cNvSpPr/>
          <p:nvPr/>
        </p:nvSpPr>
        <p:spPr>
          <a:xfrm flipH="1">
            <a:off x="533520" y="1981080"/>
            <a:ext cx="1676160" cy="45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st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rkina Fa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sta 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te d’Iv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zech Republ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nm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19"/>
          <p:cNvSpPr/>
          <p:nvPr/>
        </p:nvSpPr>
        <p:spPr>
          <a:xfrm flipH="1">
            <a:off x="2590920" y="1981080"/>
            <a:ext cx="213336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ce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re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ra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azakhst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tv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y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law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na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 Box 19"/>
          <p:cNvSpPr/>
          <p:nvPr/>
        </p:nvSpPr>
        <p:spPr>
          <a:xfrm flipH="1">
            <a:off x="4571280" y="1981080"/>
            <a:ext cx="297180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Zea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i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ublic of Ko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ublic of Moldo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ngap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e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itzer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ted Republic of Tanz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Line 59"/>
          <p:cNvSpPr/>
          <p:nvPr/>
        </p:nvSpPr>
        <p:spPr>
          <a:xfrm>
            <a:off x="-228600" y="92203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Line 60"/>
          <p:cNvSpPr/>
          <p:nvPr/>
        </p:nvSpPr>
        <p:spPr>
          <a:xfrm>
            <a:off x="-228600" y="1523880"/>
            <a:ext cx="0" cy="7696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Line 61"/>
          <p:cNvSpPr/>
          <p:nvPr/>
        </p:nvSpPr>
        <p:spPr>
          <a:xfrm>
            <a:off x="7543800" y="1523880"/>
            <a:ext cx="0" cy="7696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Line 63"/>
          <p:cNvSpPr/>
          <p:nvPr/>
        </p:nvSpPr>
        <p:spPr>
          <a:xfrm>
            <a:off x="1258920" y="92203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Line 65"/>
          <p:cNvSpPr/>
          <p:nvPr/>
        </p:nvSpPr>
        <p:spPr>
          <a:xfrm>
            <a:off x="2817720" y="92203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Line 67"/>
          <p:cNvSpPr/>
          <p:nvPr/>
        </p:nvSpPr>
        <p:spPr>
          <a:xfrm>
            <a:off x="4376880" y="92203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Line 69"/>
          <p:cNvSpPr/>
          <p:nvPr/>
        </p:nvSpPr>
        <p:spPr>
          <a:xfrm>
            <a:off x="5934240" y="92203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77"/>
          <p:cNvSpPr/>
          <p:nvPr/>
        </p:nvSpPr>
        <p:spPr>
          <a:xfrm>
            <a:off x="534960" y="349200"/>
            <a:ext cx="23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Picture 450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838080" cy="75420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48"/>
          <p:cNvSpPr/>
          <p:nvPr/>
        </p:nvSpPr>
        <p:spPr>
          <a:xfrm>
            <a:off x="7620120" y="152280"/>
            <a:ext cx="75960" cy="650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6"/>
          <p:cNvSpPr/>
          <p:nvPr/>
        </p:nvSpPr>
        <p:spPr>
          <a:xfrm>
            <a:off x="7734240" y="1447920"/>
            <a:ext cx="1409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1338120" y="514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Line 58"/>
          <p:cNvSpPr/>
          <p:nvPr/>
        </p:nvSpPr>
        <p:spPr>
          <a:xfrm>
            <a:off x="457200" y="1650960"/>
            <a:ext cx="1355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Line 62"/>
          <p:cNvSpPr/>
          <p:nvPr/>
        </p:nvSpPr>
        <p:spPr>
          <a:xfrm>
            <a:off x="1812960" y="1650960"/>
            <a:ext cx="1422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Line 64"/>
          <p:cNvSpPr/>
          <p:nvPr/>
        </p:nvSpPr>
        <p:spPr>
          <a:xfrm>
            <a:off x="3235320" y="1650960"/>
            <a:ext cx="1420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Line 66"/>
          <p:cNvSpPr/>
          <p:nvPr/>
        </p:nvSpPr>
        <p:spPr>
          <a:xfrm>
            <a:off x="4656240" y="1650960"/>
            <a:ext cx="1419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Line 68"/>
          <p:cNvSpPr/>
          <p:nvPr/>
        </p:nvSpPr>
        <p:spPr>
          <a:xfrm>
            <a:off x="6075360" y="1650960"/>
            <a:ext cx="1468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18"/>
          <p:cNvSpPr/>
          <p:nvPr/>
        </p:nvSpPr>
        <p:spPr>
          <a:xfrm>
            <a:off x="457200" y="1176480"/>
            <a:ext cx="7086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sh positions are positive at year end except regular budg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Rectangle 20"/>
          <p:cNvSpPr/>
          <p:nvPr/>
        </p:nvSpPr>
        <p:spPr>
          <a:xfrm>
            <a:off x="457200" y="2890800"/>
            <a:ext cx="7201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standing payments to Member States will decrease to $512 million at the end of 20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Rectangle 60"/>
          <p:cNvSpPr/>
          <p:nvPr/>
        </p:nvSpPr>
        <p:spPr>
          <a:xfrm>
            <a:off x="457200" y="2166840"/>
            <a:ext cx="6808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r budget is facing pressure at year en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65"/>
          <p:cNvSpPr/>
          <p:nvPr/>
        </p:nvSpPr>
        <p:spPr>
          <a:xfrm>
            <a:off x="457200" y="520056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financial health of the Organization continues to depend on Member States meeting their financial obligations in full and on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Rectangle 68"/>
          <p:cNvSpPr/>
          <p:nvPr/>
        </p:nvSpPr>
        <p:spPr>
          <a:xfrm>
            <a:off x="457200" y="3833640"/>
            <a:ext cx="72388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number of Member States meeting full obligations is higher, with 31 Member States, compared to 18 last ye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50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228960" y="0"/>
            <a:ext cx="33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ey Compon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04920" y="1066680"/>
          <a:ext cx="7010280" cy="2216160"/>
        </p:xfrm>
        <a:graphic>
          <a:graphicData uri="http://schemas.openxmlformats.org/drawingml/2006/table">
            <a:tbl>
              <a:tblPr/>
              <a:tblGrid>
                <a:gridCol w="1807920"/>
                <a:gridCol w="401760"/>
                <a:gridCol w="1733400"/>
                <a:gridCol w="247680"/>
                <a:gridCol w="1149480"/>
                <a:gridCol w="298440"/>
                <a:gridCol w="137160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 Oct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ash on Hand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Calibri"/>
                          <a:ea typeface="ＭＳ Ｐゴシック"/>
                        </a:rPr>
                        <a:t>Regular budget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,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,5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ＭＳ Ｐゴシック"/>
                        </a:rPr>
                        <a:t>Capital Master Plan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448"/>
          <p:cNvSpPr/>
          <p:nvPr/>
        </p:nvSpPr>
        <p:spPr>
          <a:xfrm>
            <a:off x="228600" y="609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97"/>
          <p:cNvSpPr/>
          <p:nvPr/>
        </p:nvSpPr>
        <p:spPr>
          <a:xfrm>
            <a:off x="235080" y="6019920"/>
            <a:ext cx="300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t including reserve accou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80880" y="4114800"/>
          <a:ext cx="6934320" cy="762120"/>
        </p:xfrm>
        <a:graphic>
          <a:graphicData uri="http://schemas.openxmlformats.org/drawingml/2006/table">
            <a:tbl>
              <a:tblPr/>
              <a:tblGrid>
                <a:gridCol w="2186280"/>
                <a:gridCol w="1958760"/>
                <a:gridCol w="1433520"/>
                <a:gridCol w="13557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tanding Pay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mber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テキスト ボックス 13"/>
          <p:cNvSpPr/>
          <p:nvPr/>
        </p:nvSpPr>
        <p:spPr>
          <a:xfrm>
            <a:off x="4952880" y="3606840"/>
            <a:ext cx="2438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1 Dec 201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4920" y="1752480"/>
          <a:ext cx="6502320" cy="2014560"/>
        </p:xfrm>
        <a:graphic>
          <a:graphicData uri="http://schemas.openxmlformats.org/drawingml/2006/table">
            <a:tbl>
              <a:tblPr/>
              <a:tblGrid>
                <a:gridCol w="2133360"/>
                <a:gridCol w="1295640"/>
                <a:gridCol w="1523880"/>
                <a:gridCol w="1549440"/>
              </a:tblGrid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if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rior year’s balance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4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4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8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 assessment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7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55"/>
          <p:cNvSpPr/>
          <p:nvPr/>
        </p:nvSpPr>
        <p:spPr>
          <a:xfrm>
            <a:off x="228600" y="586728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at 1 Janu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  As at 5 Octo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6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59"/>
          <p:cNvSpPr/>
          <p:nvPr/>
        </p:nvSpPr>
        <p:spPr>
          <a:xfrm>
            <a:off x="152280" y="200160"/>
            <a:ext cx="66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Regular Budget: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ssessment 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60"/>
          <p:cNvSpPr/>
          <p:nvPr/>
        </p:nvSpPr>
        <p:spPr>
          <a:xfrm>
            <a:off x="213840" y="83808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 99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85" name="Group 9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86" name="Text Box 92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Text Box 94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Text Box 95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Text Box 96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" name="Rectangle 9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51560" y="200160"/>
            <a:ext cx="55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Regular Budget Assessments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umber of Member States paying in full at Year-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17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98" name="Group 1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99" name="Text Box 1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Text Box 2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Text Box 2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Text Box 2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Rectangle 2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4" name="Object 2"/>
          <p:cNvGraphicFramePr/>
          <p:nvPr/>
        </p:nvGraphicFramePr>
        <p:xfrm>
          <a:off x="152280" y="1676520"/>
          <a:ext cx="7391520" cy="414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676520"/>
                    <a:ext cx="739152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20"/>
          <p:cNvSpPr/>
          <p:nvPr/>
        </p:nvSpPr>
        <p:spPr>
          <a:xfrm>
            <a:off x="460800" y="6095880"/>
            <a:ext cx="6031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At 5 October 2012, compared to 131 Member States as at 5 October 201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7086600" y="2895480"/>
            <a:ext cx="328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78"/>
          <p:cNvGrpSpPr/>
          <p:nvPr/>
        </p:nvGrpSpPr>
        <p:grpSpPr>
          <a:xfrm>
            <a:off x="152280" y="1371600"/>
            <a:ext cx="7324920" cy="7696080"/>
            <a:chOff x="152280" y="1371600"/>
            <a:chExt cx="7324920" cy="7696080"/>
          </a:xfrm>
        </p:grpSpPr>
        <p:sp>
          <p:nvSpPr>
            <p:cNvPr id="110" name="Rectangle 53"/>
            <p:cNvSpPr/>
            <p:nvPr/>
          </p:nvSpPr>
          <p:spPr>
            <a:xfrm>
              <a:off x="5867280" y="1371600"/>
              <a:ext cx="1609920" cy="76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an Marin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er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ingapore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lovak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loveni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outh Afric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pai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wede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witzerland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yrian Arab Republi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ajikista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hailand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og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nis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rk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rkmenista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valu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krain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nited Arab Emirate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nited Kingdom 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nited Republic of 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anzani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zbekista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Za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Zimbabw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249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54"/>
            <p:cNvSpPr/>
            <p:nvPr/>
          </p:nvSpPr>
          <p:spPr>
            <a:xfrm>
              <a:off x="4495680" y="1371600"/>
              <a:ext cx="1557360" cy="76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ldiv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lt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rshall Island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uriti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onac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ongol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ontenegr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ozambiqu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yanma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amibi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etherland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ew Zealand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icaragu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ig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orwa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Oma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aragua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eru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oland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ortugal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Qata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ublic of Kore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ublic of Moldo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omani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ussian Federatio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wand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amo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55"/>
            <p:cNvSpPr/>
            <p:nvPr/>
          </p:nvSpPr>
          <p:spPr>
            <a:xfrm>
              <a:off x="3048120" y="1371600"/>
              <a:ext cx="1558800" cy="76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uyan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Hondura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Hungar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celand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dones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raq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reland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srae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tal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Japa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Jorda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azakhsta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eny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uwai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yrgyzsta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ao People’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mocratic Republi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atv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esoth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iber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iby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iechtenstei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uxembourg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dagasca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lawi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laysi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249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56"/>
            <p:cNvSpPr/>
            <p:nvPr/>
          </p:nvSpPr>
          <p:spPr>
            <a:xfrm>
              <a:off x="1565280" y="1371600"/>
              <a:ext cx="1558800" cy="76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ape Verd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had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hile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hin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lombi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sta Ric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te d’Ivoir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roat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ub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ypru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zech Republi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nmark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ominic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cuado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gyp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l Salvado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ritre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stonia  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thiop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Finland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France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a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eorg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erman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han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reec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uatemal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57"/>
            <p:cNvSpPr/>
            <p:nvPr/>
          </p:nvSpPr>
          <p:spPr>
            <a:xfrm>
              <a:off x="152280" y="1371600"/>
              <a:ext cx="1487520" cy="76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fghanista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lban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lgeri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ndorr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ntigua and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arbud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rmeni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ustrali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ustri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zerbaijan  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ahama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ahrai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arbado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elgium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eliz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huta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oliv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osnia and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Herzegovin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otswan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razil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runei Darussalam             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ulgari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urkina Fas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ambo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ameroo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anad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249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9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60"/>
          <p:cNvSpPr/>
          <p:nvPr/>
        </p:nvSpPr>
        <p:spPr>
          <a:xfrm>
            <a:off x="1764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77"/>
          <p:cNvSpPr/>
          <p:nvPr/>
        </p:nvSpPr>
        <p:spPr>
          <a:xfrm>
            <a:off x="1080" y="304920"/>
            <a:ext cx="5601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Regular Budget Assessments 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y paid at 5 October 2012: 129 Member State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oup 82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133" name="Group 83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134" name="Text Box 84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Text Box 85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Text Box 86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Text Box 87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Rectangle 88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Text Box 33"/>
          <p:cNvSpPr/>
          <p:nvPr/>
        </p:nvSpPr>
        <p:spPr>
          <a:xfrm>
            <a:off x="154800" y="6324480"/>
            <a:ext cx="433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Compared to 131 Member States at 5 October 201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77"/>
          <p:cNvSpPr/>
          <p:nvPr/>
        </p:nvSpPr>
        <p:spPr>
          <a:xfrm>
            <a:off x="609480" y="228600"/>
            <a:ext cx="6941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Unpaid Regular Budget Assess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19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145" name="Group 120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146" name="Text Box 121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Text Box 122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Text Box 123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Text Box 124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0" name="Rectangle 125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1890720" y="609480"/>
            <a:ext cx="1504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3395520" y="609480"/>
            <a:ext cx="1328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609480" y="1531800"/>
            <a:ext cx="1770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019920" y="1531800"/>
            <a:ext cx="1484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-533520" y="2590920"/>
            <a:ext cx="106704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-885960" y="2209680"/>
            <a:ext cx="177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1"/>
          <p:cNvSpPr/>
          <p:nvPr/>
        </p:nvSpPr>
        <p:spPr>
          <a:xfrm>
            <a:off x="4724280" y="223200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5"/>
          <p:cNvSpPr/>
          <p:nvPr/>
        </p:nvSpPr>
        <p:spPr>
          <a:xfrm>
            <a:off x="4724280" y="2597040"/>
            <a:ext cx="1067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6"/>
          <p:cNvSpPr/>
          <p:nvPr/>
        </p:nvSpPr>
        <p:spPr>
          <a:xfrm>
            <a:off x="4800600" y="167652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stand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4724280" y="296244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5791320" y="296244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41"/>
          <p:cNvSpPr/>
          <p:nvPr/>
        </p:nvSpPr>
        <p:spPr>
          <a:xfrm>
            <a:off x="609480" y="3327480"/>
            <a:ext cx="177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43"/>
          <p:cNvSpPr/>
          <p:nvPr/>
        </p:nvSpPr>
        <p:spPr>
          <a:xfrm>
            <a:off x="4724280" y="332748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44"/>
          <p:cNvSpPr/>
          <p:nvPr/>
        </p:nvSpPr>
        <p:spPr>
          <a:xfrm>
            <a:off x="5791320" y="332748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4724280" y="369252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50"/>
          <p:cNvSpPr/>
          <p:nvPr/>
        </p:nvSpPr>
        <p:spPr>
          <a:xfrm>
            <a:off x="2379600" y="4057560"/>
            <a:ext cx="234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51"/>
          <p:cNvSpPr/>
          <p:nvPr/>
        </p:nvSpPr>
        <p:spPr>
          <a:xfrm>
            <a:off x="4724280" y="405756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609480" y="4422600"/>
            <a:ext cx="17701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55"/>
          <p:cNvSpPr/>
          <p:nvPr/>
        </p:nvSpPr>
        <p:spPr>
          <a:xfrm>
            <a:off x="4724280" y="4422600"/>
            <a:ext cx="10670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59"/>
          <p:cNvSpPr/>
          <p:nvPr/>
        </p:nvSpPr>
        <p:spPr>
          <a:xfrm>
            <a:off x="4724280" y="480060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60"/>
          <p:cNvSpPr/>
          <p:nvPr/>
        </p:nvSpPr>
        <p:spPr>
          <a:xfrm>
            <a:off x="5791320" y="480060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62"/>
          <p:cNvSpPr/>
          <p:nvPr/>
        </p:nvSpPr>
        <p:spPr>
          <a:xfrm>
            <a:off x="2379600" y="5165640"/>
            <a:ext cx="234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63"/>
          <p:cNvSpPr/>
          <p:nvPr/>
        </p:nvSpPr>
        <p:spPr>
          <a:xfrm>
            <a:off x="4724280" y="516564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4"/>
          <p:cNvSpPr/>
          <p:nvPr/>
        </p:nvSpPr>
        <p:spPr>
          <a:xfrm>
            <a:off x="5791320" y="516564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67"/>
          <p:cNvSpPr/>
          <p:nvPr/>
        </p:nvSpPr>
        <p:spPr>
          <a:xfrm>
            <a:off x="6400800" y="5530680"/>
            <a:ext cx="208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68"/>
          <p:cNvSpPr/>
          <p:nvPr/>
        </p:nvSpPr>
        <p:spPr>
          <a:xfrm>
            <a:off x="6608880" y="5530680"/>
            <a:ext cx="89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ine 69"/>
          <p:cNvSpPr/>
          <p:nvPr/>
        </p:nvSpPr>
        <p:spPr>
          <a:xfrm>
            <a:off x="609480" y="1531800"/>
            <a:ext cx="6894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Line 70"/>
          <p:cNvSpPr/>
          <p:nvPr/>
        </p:nvSpPr>
        <p:spPr>
          <a:xfrm>
            <a:off x="609480" y="1866960"/>
            <a:ext cx="68947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72"/>
          <p:cNvSpPr/>
          <p:nvPr/>
        </p:nvSpPr>
        <p:spPr>
          <a:xfrm>
            <a:off x="609480" y="5896080"/>
            <a:ext cx="6894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19320" y="2057400"/>
          <a:ext cx="5486400" cy="2868480"/>
        </p:xfrm>
        <a:graphic>
          <a:graphicData uri="http://schemas.openxmlformats.org/drawingml/2006/table">
            <a:tbl>
              <a:tblPr/>
              <a:tblGrid>
                <a:gridCol w="3148920"/>
                <a:gridCol w="216000"/>
                <a:gridCol w="2121480"/>
              </a:tblGrid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 Oct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x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udi Arab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Venezuela (Bolivarian Republic o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9 Other Member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Line 315"/>
          <p:cNvSpPr/>
          <p:nvPr/>
        </p:nvSpPr>
        <p:spPr>
          <a:xfrm>
            <a:off x="609480" y="5562720"/>
            <a:ext cx="68947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153720" y="200160"/>
            <a:ext cx="5610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Regular Budget Cash Position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oup 117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202" name="Group 11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203" name="Text Box 11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Text Box 12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Text Box 12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Text Box 12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7" name="Rectangle 12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208" name=""/>
          <p:cNvGraphicFramePr/>
          <p:nvPr/>
        </p:nvGraphicFramePr>
        <p:xfrm>
          <a:off x="380880" y="1371600"/>
          <a:ext cx="7086600" cy="3124080"/>
        </p:xfrm>
        <a:graphic>
          <a:graphicData uri="http://schemas.openxmlformats.org/drawingml/2006/table">
            <a:tbl>
              <a:tblPr/>
              <a:tblGrid>
                <a:gridCol w="2514600"/>
                <a:gridCol w="2362320"/>
                <a:gridCol w="2209680"/>
              </a:tblGrid>
              <a:tr h="63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ember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 Octo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Working Capital F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pecial Ac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mbined General F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8"/>
          <p:cNvSpPr/>
          <p:nvPr/>
        </p:nvSpPr>
        <p:spPr>
          <a:xfrm>
            <a:off x="7620120" y="353880"/>
            <a:ext cx="75960" cy="650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57"/>
          <p:cNvGrpSpPr/>
          <p:nvPr/>
        </p:nvGrpSpPr>
        <p:grpSpPr>
          <a:xfrm>
            <a:off x="7711920" y="2133720"/>
            <a:ext cx="1430640" cy="738360"/>
            <a:chOff x="7711920" y="2133720"/>
            <a:chExt cx="1430640" cy="738360"/>
          </a:xfrm>
        </p:grpSpPr>
        <p:grpSp>
          <p:nvGrpSpPr>
            <p:cNvPr id="227" name="Group 58"/>
            <p:cNvGrpSpPr/>
            <p:nvPr/>
          </p:nvGrpSpPr>
          <p:grpSpPr>
            <a:xfrm>
              <a:off x="7721280" y="2133720"/>
              <a:ext cx="1421280" cy="738360"/>
              <a:chOff x="7721280" y="2133720"/>
              <a:chExt cx="1421280" cy="738360"/>
            </a:xfrm>
          </p:grpSpPr>
          <p:sp>
            <p:nvSpPr>
              <p:cNvPr id="228" name="Text Box 59"/>
              <p:cNvSpPr/>
              <p:nvPr/>
            </p:nvSpPr>
            <p:spPr>
              <a:xfrm>
                <a:off x="7723440" y="2133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Text Box 60"/>
              <p:cNvSpPr/>
              <p:nvPr/>
            </p:nvSpPr>
            <p:spPr>
              <a:xfrm>
                <a:off x="7722720" y="228168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Text Box 61"/>
              <p:cNvSpPr/>
              <p:nvPr/>
            </p:nvSpPr>
            <p:spPr>
              <a:xfrm>
                <a:off x="7721280" y="243720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Text Box 62"/>
              <p:cNvSpPr/>
              <p:nvPr/>
            </p:nvSpPr>
            <p:spPr>
              <a:xfrm>
                <a:off x="7721280" y="259560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2" name="Rectangle 63"/>
            <p:cNvSpPr/>
            <p:nvPr/>
          </p:nvSpPr>
          <p:spPr>
            <a:xfrm flipH="1">
              <a:off x="7711920" y="2227680"/>
              <a:ext cx="72720" cy="698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3" name="Text Box 2"/>
          <p:cNvSpPr/>
          <p:nvPr/>
        </p:nvSpPr>
        <p:spPr>
          <a:xfrm>
            <a:off x="147600" y="200160"/>
            <a:ext cx="6651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Regular Budget Cash Position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Figures for Regular Budget for 2011-201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" name="Object 6"/>
          <p:cNvGraphicFramePr/>
          <p:nvPr/>
        </p:nvGraphicFramePr>
        <p:xfrm>
          <a:off x="-152280" y="1371600"/>
          <a:ext cx="7797600" cy="448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2280" y="1371600"/>
                    <a:ext cx="77976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53"/>
          <p:cNvSpPr/>
          <p:nvPr/>
        </p:nvSpPr>
        <p:spPr>
          <a:xfrm>
            <a:off x="166680" y="5867280"/>
            <a:ext cx="666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Does not include balances in Working Capital Fund and Special Accou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 At 5 October 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sbursements for the rest of 2012 are projected to be around $776 mill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7315200" y="4267080"/>
            <a:ext cx="609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3:40:21Z</dcterms:created>
  <dc:creator>United Nations</dc:creator>
  <dc:description/>
  <dc:language>en-US</dc:language>
  <cp:lastModifiedBy>United Nations</cp:lastModifiedBy>
  <cp:lastPrinted>2012-05-14T02:52:08Z</cp:lastPrinted>
  <dcterms:modified xsi:type="dcterms:W3CDTF">2012-10-16T13:11:20Z</dcterms:modified>
  <cp:revision>312</cp:revision>
  <dc:subject/>
  <dc:title>Slide 1</dc:title>
</cp:coreProperties>
</file>