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CB71-AC12-4A9E-9198-9E1609E3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56CF-3342-4CAA-9505-2012A50E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4A7E-FB8B-4F89-860E-5A533661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CF8B-FF11-445B-9EEE-3E93743D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6C1F-AB20-48EC-B474-27837D84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82CA-57E7-4142-92D5-463F4A1A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A4D3-FD65-48CC-85DF-40DA57A8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DCD5-A55E-464A-A554-47C2C1D6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83C3-CE12-442F-974B-0E5A3430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3EA5-38E6-4A0D-BBE6-D90BBFC5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5807-4964-441F-B04F-C0B8973E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1DB0-9F81-41CB-A04C-D0D44001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0A72-0E38-478F-BB5B-894348B5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4DF4-1F11-414E-9A4C-F2255AF8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E3D0-048C-40AF-83F4-397BEEA7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D3CE-73D4-4AE4-8530-249833CD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47C7-EC1D-4DF5-B869-E1D804AF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FC75-EB1F-4BF7-8113-F4625B4F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194-F98B-48BC-BDE2-718BF7DE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8FD1-C822-4522-BF19-34B6D14F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A47D-78C9-47D7-9792-C3085A64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EDBE-E060-4CDE-B308-035A4ED2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086-801D-45D2-87E0-F5F0C848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7DA2-6041-4DA8-AA37-1FA2FBE7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D287-7F4F-43D3-A9F6-AB4800444A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14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nameplate" descr=""/>
          <p:cNvPicPr/>
          <p:nvPr/>
        </p:nvPicPr>
        <p:blipFill>
          <a:blip r:embed="rId2"/>
          <a:stretch/>
        </p:blipFill>
        <p:spPr>
          <a:xfrm>
            <a:off x="0" y="533520"/>
            <a:ext cx="1216080" cy="121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D04B-7161-4D96-A4EB-147E5CADF4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ilo.org/yen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5105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3856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artnerlogos" descr=""/>
          <p:cNvPicPr/>
          <p:nvPr/>
        </p:nvPicPr>
        <p:blipFill>
          <a:blip r:embed="rId1"/>
          <a:stretch/>
        </p:blipFill>
        <p:spPr>
          <a:xfrm>
            <a:off x="3581280" y="5334120"/>
            <a:ext cx="2667240" cy="866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228600"/>
            <a:ext cx="13716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finallogodesign" descr=""/>
          <p:cNvPicPr/>
          <p:nvPr/>
        </p:nvPicPr>
        <p:blipFill>
          <a:blip r:embed="rId2"/>
          <a:stretch/>
        </p:blipFill>
        <p:spPr>
          <a:xfrm>
            <a:off x="274680" y="1295280"/>
            <a:ext cx="88693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82600" y="2017440"/>
            <a:ext cx="765648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3. F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ur </a:t>
            </a:r>
            <a:r>
              <a:rPr b="0" lang="fr-CH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lobal priorit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loyability: invest in education and vocational trai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al opportunities: give young women the same opportunities as young m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repreneurship: make it easier to start and run enterpri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loyment creation: place employment at the center of macroeconomic polic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nel’s 2001 Recommend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7617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mplications of the Policy Recommend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th Employment as an Entry Point into broader employment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itical Commitment of Governments provides a space for action by non-governmental 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New Way of Working for the UN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Lead Count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Lead Countries commit themselves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firm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"/>
              </a:rPr>
              <a:t>thei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Government’s commitment at the highest political level to decent and productive work for young peo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epare a national review and action plan on youth employ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ntribute to international development cooperation in sharing national experience with other countries and with the international commun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"/>
              </a:rPr>
              <a:t>Contribute to a broader political process within the United Nations General Assembly (follow-up to the Millennium Declaration) and within the ILO (Global Employment Agend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Lead Count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"/>
              </a:rPr>
              <a:t>Sev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countries have stepped forward to volunteer as lead countries for the YEN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enegal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Namibia, Egypt, Sri Lanka, Indonesia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"/>
              </a:rPr>
              <a:t>, Hungary, and Azerbaij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king Grou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  <a:ea typeface="Arial"/>
              </a:rPr>
              <a:t>In 2002 the High Level Panel set up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orking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groups on each of th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ur ‘E’s’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"/>
              </a:rPr>
              <a:t>Provid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olicy advice on the four strategic them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sults of these Working Groups would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vide further guidance on the preparation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"/>
              </a:rPr>
              <a:t> and implemen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of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"/>
              </a:rPr>
              <a:t>nation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action pla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  <a:ea typeface="Arial"/>
              </a:rPr>
              <a:t>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the implementation of policies, programmes and projects on youth employment undertaken by the broader Network's partn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848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A UN Resolution on Promoting Youth Employment, Dec 200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34560" y="22096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Takes on board the political process recommended by the High-Level Pa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Encourages to develop national reviews and action p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Invites the Youth Employment Network under ILO leadership to carry out global analysis and re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Arial"/>
              </a:rPr>
              <a:t>UN </a:t>
            </a: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High-Level Committee on Programmes, March 2003</a:t>
            </a: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8960" y="2133360"/>
            <a:ext cx="7391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h employment integral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 of th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llennium Declaration and a key contribution t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the Millennium Development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N provid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United Nations system with an opportunity to influence the international development agen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n the political and inter-sectoral dimensions of youth employment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the UN system to tak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integrated, system-wide approach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o tackling the iss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Arial"/>
              </a:rPr>
              <a:t>ILO Governing Body meeting, March 200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uest the Office to assist and support, upon request, the efforts of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vernments in the elaboration of national reviews and action plans on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employment, and to undertake, by May 2005, a global analysis and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of progress made in this reg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uest the Office to report to it periodically on progress made by the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Y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 the implementation of the United Nations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lution on promoting youth employ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fr-CH" sz="4400" spc="-1" strike="noStrike" baseline="30000">
                <a:solidFill>
                  <a:srgbClr val="333399"/>
                </a:solidFill>
                <a:latin typeface="Tahoma"/>
              </a:rPr>
              <a:t>nd</a:t>
            </a: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 meeting of the High Level Panel, June 200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YENphoto6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4114800" cy="2733840"/>
          </a:xfrm>
          <a:prstGeom prst="rect">
            <a:avLst/>
          </a:prstGeom>
          <a:ln w="0">
            <a:noFill/>
          </a:ln>
        </p:spPr>
      </p:pic>
      <p:pic>
        <p:nvPicPr>
          <p:cNvPr id="134" name="YENphoto2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228760" cy="3352680"/>
          </a:xfrm>
          <a:prstGeom prst="rect">
            <a:avLst/>
          </a:prstGeom>
          <a:ln w="0">
            <a:noFill/>
          </a:ln>
        </p:spPr>
      </p:pic>
      <p:pic>
        <p:nvPicPr>
          <p:cNvPr id="135" name="YENphoto4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3429000" cy="2279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590920" y="4952880"/>
            <a:ext cx="64008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r challenge now is to move from the excellent policy work that has been done to a new phase of action at the country level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 Secretary-General Kofi Ann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90920" y="5715000"/>
            <a:ext cx="6095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youth around this table are a tremendous resource. Young people are not just leaders for tomorrow, they are partners for today. Engage them. Listen. Build together. Let's get beyond lip service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ILO Director General Juan Soma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nel’s 2003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ommend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2895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Working Group 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ploy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vernment respons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vestment in education and train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 to basic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hool-to-work tran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evance to labour market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felong lear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volving social partn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057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1. Endorse the outcomes of the Panel’s 4 Working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cretary-General’s Youth Employment Network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27560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ground to the Youth Employmen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icy orientations which underpi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policy to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ities at the loc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c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380880"/>
            <a:ext cx="693432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nel’s 2003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ommend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2036880"/>
            <a:ext cx="7656480" cy="27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Working Group 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trepreneursh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ultural att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gu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/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410080" y="2743200"/>
            <a:ext cx="320040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23888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nel’s 2003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ommend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2046240"/>
            <a:ext cx="746748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Working Group 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t specific objectives and targets to rectify gender dispa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ereotyping in education and training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e the constraints placed on young women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ive roles by their reproductive responsibilities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cus both on equal opportunities and equal treatmen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e the value of women’s entrepreneu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xual viol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295280" y="1905120"/>
            <a:ext cx="6400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3915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nel’s 2003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ommend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4920" y="224784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Working Group 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ployment cre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ployment as an overall objective of economic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inancial stability to promote 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n markets for developing cou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3712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2. 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courage governments to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strategy int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youth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mployment action p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3. Establish social dialogue for youth em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ite youth organisations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o play an active role i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Mobiliz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resources for youth employment in committed cou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23924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nel’s 2003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commend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3152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Next  steps for the Youth Employment Net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rengthening the role of You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just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Nationa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ons plans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included in nationa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verty Reduction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y Paper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 algn="just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he role of the High Level Panel in MDG-proce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act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1828800"/>
            <a:ext cx="655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ecretary for the Youth Employment Network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r Steven Miller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ternational Labour Offic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H-1211 Geneva 22, Switzerlan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el: +41 (0)22 799.6587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ax: +41 (0)22 799.7978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mail: miller@ilo.or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480060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ilo.org/y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072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youth statis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1 billion people today are between 15 and 25 years of 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40 % of the world’s population is below the age of 2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5 % of young people live in developing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ound 60% of young people live in Asia alone, or over 650 million pers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Youth employment statis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4 million youth - 41% of the global total of 180 million - are classified as unemploy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th are two to three times more likely to be unemployed than ad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9 million young people (15-17 years old) are engaged in hazardous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more are underemployed, working long hours with little income in the informal econo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7617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retary-General’s Youth Employment Net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65648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rst proposed in Kofi Annan’s report to the Millennium Summit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3241800"/>
            <a:ext cx="685800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Together with the heads of the World Bank and the Inter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Labour Organization, I am convening a high-level policy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on youth employment drawing on the most creative leaders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private industry, civil society and economic policy to expl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imaginative approaches to this difficult challenge. I will ask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policy network to propose a set of recommendations that I 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convey to world leaders within a year. The possible source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solutions will include the Internet and the informal secto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especially the contribution that small enterprises can make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employment gene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retary-General’s Youth Employment Net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mmitment of the Millennium Declaration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velop and implement strategies that give young people everywhere a real chance to find decent and productive 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d by the heads of the UN, the World Bank and the I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ppointed a High-Level Panel 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in 2000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d asked them to draw up recommendations for world leaders 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by 200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July 2001: Meeting of the High-Level Pa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cretary-General stressed th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for both immediate action -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term commi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ited the panel to continue working in an advisory capacity as a standing pa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ed the ILO to take the lead in organizing the future work of the YEN and to host a permanent Secretari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nel’s 2001 Recommend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anels Recommendations where discussed in the General Assembly in 2001 in the framework of the implementation of the Millennium Decla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omprised 3 broad elem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Importance of you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th are an Asset - not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th are partners of today - not tomorr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36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A Political Proces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ional Reviews and Action P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 countries” to take the initi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O to prepare of Global Review and Evaluation of the Action P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d Concept of Employment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350720" y="533160"/>
            <a:ext cx="6802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nel’s 2001 Recommend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05:28:53Z</dcterms:created>
  <dc:creator>Steven K Miller</dc:creator>
  <dc:description/>
  <dc:language>en-US</dc:language>
  <cp:lastModifiedBy>CMS User </cp:lastModifiedBy>
  <dcterms:modified xsi:type="dcterms:W3CDTF">2003-08-05T19:51:35Z</dcterms:modified>
  <cp:revision>23</cp:revision>
  <dc:subject/>
  <dc:title>Secretary-General’s Youth Employment Network </dc:title>
</cp:coreProperties>
</file>