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6EC-930C-419B-A8EE-524DB5FE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A80-B787-4ABB-8AB3-95885C1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31DD1-EA3F-4FAB-892F-4111E29D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D61-7CAB-4542-96AD-C4167648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E9C3-3225-4B47-B821-B80D6703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6DB44-1B89-46A5-A732-DAD9A186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E9F17-CEF0-4C3D-A208-B9A5B494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776B5-C86D-42A9-B409-2C832205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691BE-D04A-462B-AE40-6AC29FDB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B201C-2FFE-4FFB-8C02-BC4CD543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3AB22-9CF6-439A-9D14-ADDB5A04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1CB72-4E01-4289-8E89-E274F6A4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2D9BE-882C-4365-BDC9-8DDC760E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8150-3937-4A9B-BB66-BBFFF471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D9F-BD1F-45DD-802D-E3287B82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05349-8669-4334-B3AD-E61C78C5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B6C8-C810-4F25-A198-63AF35C8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72CD3-C56C-40F6-A532-BABF0A55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FF364-FF31-450B-9ABE-18B65EC1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98101-6B9C-4A49-B14F-A4844835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EAA6A-E61E-4AD8-B039-6B351F96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FC5C-DD25-451A-801A-8E2C7C3B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66CBF-7D9B-42E5-A875-977711D2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395DE-2A93-4329-A503-0F198EC2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62EA-A02E-400B-A722-C26D5E5F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3D34E-EB68-41F8-9EBD-E293390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C068C-5446-459C-A6BF-3C97B14D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5C461-C20E-4A7B-8337-3B63B95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720FA-F717-4414-AC88-B958F785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9016C-9CA1-4799-85DC-3EFE92C1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5F45-4F5F-4622-8FD6-86F908B2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0D3F-9181-40FB-92FA-C4A36E1E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4A8C-B235-4B55-9FC8-AFFEFAEB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9A8E-3299-4037-A989-8F2C974B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4D4B-7157-45F5-B57E-5A2DD134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93B-F009-4009-B863-374F8DDC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7A99-5C22-418F-81DB-76DE263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3612-264E-4E71-A641-EAC9A6B3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6034-3716-4245-B918-E26B6DB7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84B8-FAB2-4B18-A645-E929FAAA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AC19-B0A1-4089-BD1D-BB6B2E15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9C6-06BF-4CBC-95C3-C9EE95F9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73F1-5CD6-43B6-9B05-BCF04E46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44F3-7E02-4190-AC21-68536408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2D65-044E-4EB4-8487-E9027A8B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D2A-9CFB-47C7-AF9F-789E4011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A1AA-F358-4058-9A62-62BB029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80EAF-D945-4C6C-9D2D-2264AB27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06BE-9553-43F1-8E5F-CFB77032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9441-C9E8-4A9C-A103-64CD7376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7F1F-46AC-4942-9FF7-DCF979ED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4DB3-60BA-4116-97DE-A48B8C6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4376-790D-4420-9D66-BC65F14B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1C6D-47E3-40E2-97AB-F7179EBA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AB18-EF63-437C-8B89-CCB25ABB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4FC-228F-4CF8-8C33-A190E8C7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A7F-65F4-4786-93D4-F83A9666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C9B5-A3A2-447D-99F1-043A842B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8C12-B0BA-4857-B399-C40415BB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49DA-9293-4167-BACA-552D4E2F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36A3D-2FBA-4B97-9A1B-CF8BF4D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9DE6-9C5B-443E-A703-8E4647BE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BB52-429A-4757-9E3C-D04B5BBC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E858-DAFA-4BD4-9C3C-1F0FF618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E0EA-5FBE-4FD7-97B1-35050C2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9718E-37BE-49CD-9669-761FB6A8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E01-FC55-477A-BB7A-AA784DF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ECF5E-BA62-4CEC-887E-E9138C34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1DAB-61FF-4139-B2EF-5CCF87D3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9D30-96E2-4B61-AAAE-EF4894A5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CD2-DF3F-4B4F-BBC9-786A3DD6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21BDE-945E-4A4D-AE11-BE991B61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4F5E-9C88-42F2-93BC-55E1CF8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71EE-65E5-41E0-B6CD-643F1406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EF768-F92E-4069-A0E0-42B3AF67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7EA1E-61C4-4F49-A3F8-E56701BF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0A2-2D14-45B6-A73A-AB378AA1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D7D81-935F-4A16-9F4F-5C9172FB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82715-6CC8-4E0F-96A3-553BF6B5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3AE4A-3742-402C-BF1E-8F01C847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4CA5-C4BF-4F47-B3B3-0C8D18F2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660B-5384-4C97-8DEB-4E6EF344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DE63-5339-4582-9949-455B9574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6933-42D3-4299-BBCB-C15BC3AE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996D-38D4-45CE-94C5-79C4775583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6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7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595C-4464-4B31-BCBB-5872B0B8B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0ED1-6C6B-48FB-A042-183A3518D6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CC00-157C-44BB-AA56-DCA9577D76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B71B-D1F6-4272-91EA-80E1262F95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89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E53E-42FB-4270-87ED-026FDEC949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5355-9D1F-4886-A2E5-5888673DB9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900" spc="-1" strike="noStrike">
                <a:solidFill>
                  <a:srgbClr val="006666"/>
                </a:solidFill>
                <a:latin typeface="Verdana"/>
              </a:rPr>
              <a:t>Programme </a:t>
            </a:r>
            <a:r>
              <a:rPr b="0" lang="en-US" sz="4900" spc="-1" strike="noStrike">
                <a:solidFill>
                  <a:srgbClr val="006666"/>
                </a:solidFill>
                <a:latin typeface="Verdana"/>
              </a:rPr>
              <a:t>SAPARD by </a:t>
            </a:r>
            <a:r>
              <a:rPr b="0" lang="be-BY" sz="4900" spc="-1" strike="noStrike">
                <a:solidFill>
                  <a:srgbClr val="006666"/>
                </a:solidFill>
                <a:latin typeface="Verdana"/>
              </a:rPr>
              <a:t>15.06.2004</a:t>
            </a:r>
            <a:endParaRPr b="1" lang="en-US" sz="4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250560" y="2349000"/>
            <a:ext cx="867708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pproved</a:t>
            </a:r>
            <a:r>
              <a:rPr b="1" lang="be-BY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jects</a:t>
            </a:r>
            <a:r>
              <a:rPr b="1" lang="be-BY" sz="2800" spc="-1" strike="noStrike">
                <a:solidFill>
                  <a:srgbClr val="006699"/>
                </a:solidFill>
                <a:latin typeface="Verdana"/>
              </a:rPr>
              <a:t>– 1 214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Verdana"/>
              </a:rPr>
              <a:t>Subsidy Amount Approved – </a:t>
            </a:r>
            <a:r>
              <a:rPr b="1" lang="bg-BG" sz="2400" spc="-1" strike="noStrike">
                <a:solidFill>
                  <a:srgbClr val="006699"/>
                </a:solidFill>
                <a:latin typeface="Verdana"/>
              </a:rPr>
              <a:t>488 822 519,86lv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99"/>
                </a:solidFill>
                <a:latin typeface="Verdana"/>
              </a:rPr>
              <a:t>Completed Projects – 5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87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ubsidy Amount Paid Off</a:t>
            </a:r>
            <a:r>
              <a:rPr b="1" lang="be-BY" sz="28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1" lang="bg-BG" sz="2800" spc="-1" strike="noStrike">
                <a:solidFill>
                  <a:srgbClr val="006699"/>
                </a:solidFill>
                <a:latin typeface="Verdana"/>
              </a:rPr>
              <a:t>153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006699"/>
                </a:solidFill>
                <a:latin typeface="Verdana"/>
              </a:rPr>
              <a:t>302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006699"/>
                </a:solidFill>
                <a:latin typeface="Verdana"/>
              </a:rPr>
              <a:t>122,56lv.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498600" y="1068480"/>
            <a:ext cx="8299440" cy="403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98600" y="452448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98600" y="394668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98600" y="337176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98600" y="279576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98600" y="222084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98600" y="164304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98600" y="106848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98600" y="1068480"/>
            <a:ext cx="8299440" cy="40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844560" y="4749840"/>
            <a:ext cx="196920" cy="3492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139760" y="3938760"/>
            <a:ext cx="198360" cy="1160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436760" y="3629160"/>
            <a:ext cx="198360" cy="14698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733400" y="3203640"/>
            <a:ext cx="196920" cy="18954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028960" y="4943520"/>
            <a:ext cx="198360" cy="1555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325600" y="4365720"/>
            <a:ext cx="198360" cy="7333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22600" y="4943520"/>
            <a:ext cx="196920" cy="1555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17800" y="1770120"/>
            <a:ext cx="198360" cy="33289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511440" y="4905360"/>
            <a:ext cx="196920" cy="1936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08440" y="4711680"/>
            <a:ext cx="196920" cy="3873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05440" y="4827600"/>
            <a:ext cx="195120" cy="2714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400640" y="4325760"/>
            <a:ext cx="196920" cy="773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697280" y="4983120"/>
            <a:ext cx="196920" cy="1159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994280" y="4016520"/>
            <a:ext cx="196920" cy="10825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289480" y="1770120"/>
            <a:ext cx="198360" cy="33289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86480" y="3591000"/>
            <a:ext cx="198360" cy="15080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883120" y="3475080"/>
            <a:ext cx="196920" cy="16239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178680" y="2467080"/>
            <a:ext cx="198360" cy="26319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475320" y="4172040"/>
            <a:ext cx="198360" cy="9270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772320" y="4905360"/>
            <a:ext cx="196920" cy="1936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067520" y="4595760"/>
            <a:ext cx="198360" cy="503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364520" y="3048120"/>
            <a:ext cx="196920" cy="20509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659720" y="4094280"/>
            <a:ext cx="198360" cy="10047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7956720" y="4172040"/>
            <a:ext cx="198360" cy="9270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253360" y="4210200"/>
            <a:ext cx="196920" cy="8888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550360" y="3978360"/>
            <a:ext cx="196920" cy="11206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98600" y="1068480"/>
            <a:ext cx="1440" cy="403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46040" y="509904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46040" y="452448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40" y="394668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46040" y="337176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46040" y="279576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46040" y="222084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46040" y="164304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46040" y="106848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98600" y="509904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9860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9524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109044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138744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68444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197964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227664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257328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287028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316692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346248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75912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405612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435132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464832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94496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24016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553716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83416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12936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642636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672300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702000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731664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761220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7908840" y="509904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820584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850104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8798040" y="50990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67120" y="465120"/>
            <a:ext cx="762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stribution of the approved projects by regions.Measure ”Investments in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630520" y="730080"/>
            <a:ext cx="2647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rming"  by 01.06.2004  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-228600" y="33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983120" y="1380960"/>
            <a:ext cx="82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lovdiv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-228600" y="33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905520" y="2782800"/>
            <a:ext cx="138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ara Zagora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-228600" y="33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678760" y="138096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obrich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-228600" y="33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837040" y="2222640"/>
            <a:ext cx="77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listra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-228600" y="33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406160" y="2903400"/>
            <a:ext cx="117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. Tarnovo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79640" y="497520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79640" y="439884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79640" y="382284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79640" y="324648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79640" y="267192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86400" y="20955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86400" y="15192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86400" y="94284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rot="18900000">
            <a:off x="1800" y="548640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ofia city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18900000">
            <a:off x="81000" y="5667120"/>
            <a:ext cx="997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lagoevgrad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18900000">
            <a:off x="696960" y="541800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ourga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rot="18900000">
            <a:off x="1068840" y="5438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arn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rot="18900000">
            <a:off x="1097640" y="5587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.Tarnovo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rot="18900000">
            <a:off x="1658160" y="547056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idi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rot="18900000">
            <a:off x="1953000" y="5441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rats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rot="18900000">
            <a:off x="2119320" y="5513040"/>
            <a:ext cx="677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Gabrovo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rot="18900000">
            <a:off x="2459520" y="546228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obrich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rot="18900000">
            <a:off x="2636640" y="562572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Kardjali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rot="18900000">
            <a:off x="2822040" y="565956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Kiustendil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rot="18900000">
            <a:off x="3423240" y="539604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ovech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rot="18900000">
            <a:off x="3552120" y="555156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18900000">
            <a:off x="3771000" y="562284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zardjik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rot="18900000">
            <a:off x="4267440" y="548784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ernik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rot="18900000">
            <a:off x="4557240" y="548460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leve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rot="18900000">
            <a:off x="4878000" y="541008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lovdiv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18900000">
            <a:off x="5182560" y="541008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azgrad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18900000">
            <a:off x="5582880" y="53575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usse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rot="18900000">
            <a:off x="5791680" y="54100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ilisrt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rot="18900000">
            <a:off x="6041160" y="550692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live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rot="18900000">
            <a:off x="6298560" y="547056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molia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rot="18900000">
            <a:off x="6402960" y="563868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ofia regio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rot="18900000">
            <a:off x="6536520" y="571932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tara Zagor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rot="18900000">
            <a:off x="6969240" y="5587920"/>
            <a:ext cx="979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Targovishte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rot="18900000">
            <a:off x="7454880" y="547992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Haskovo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8900000">
            <a:off x="7818120" y="541620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hume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18900000">
            <a:off x="8145000" y="544320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Iambol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838840" y="1190520"/>
            <a:ext cx="3022560" cy="67968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431040" y="1471680"/>
            <a:ext cx="104760" cy="1317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578640" y="1415880"/>
            <a:ext cx="165564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% of all projects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804960" y="4537080"/>
            <a:ext cx="1515960" cy="54000"/>
          </a:xfrm>
          <a:prstGeom prst="rect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395440" y="4297320"/>
            <a:ext cx="1516320" cy="2937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987720" y="3656160"/>
            <a:ext cx="1517760" cy="93492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580000" y="1509840"/>
            <a:ext cx="1515960" cy="3081240"/>
          </a:xfrm>
          <a:prstGeom prst="rect">
            <a:avLst/>
          </a:prstGeom>
          <a:solidFill>
            <a:srgbClr val="00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172280" y="4578480"/>
            <a:ext cx="1515960" cy="1260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66800" y="1062000"/>
            <a:ext cx="1440" cy="352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28640" y="45910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28640" y="4002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28640" y="34146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28640" y="28274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28640" y="22384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28640" y="1650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28640" y="10620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66800" y="4591080"/>
            <a:ext cx="795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66800" y="459072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2359080" y="459072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3951360" y="459072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543640" y="459072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135920" y="459072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8726400" y="459072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92960" y="380880"/>
            <a:ext cx="894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umber of approved projects Measure ”Investments in  Agricultural Holdings 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116520" y="674640"/>
            <a:ext cx="2856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y sectors by 01.06.2004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894040" y="4233960"/>
            <a:ext cx="515880" cy="422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944800" y="4370400"/>
            <a:ext cx="128520" cy="155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192120" y="42991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22800" y="2838600"/>
            <a:ext cx="630360" cy="422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073920" y="2975040"/>
            <a:ext cx="128520" cy="156960"/>
          </a:xfrm>
          <a:prstGeom prst="rect">
            <a:avLst/>
          </a:prstGeom>
          <a:solidFill>
            <a:srgbClr val="00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323760" y="29034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24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704000" y="4213080"/>
            <a:ext cx="403200" cy="422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754760" y="4351320"/>
            <a:ext cx="128880" cy="15552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999200" y="42800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400040" y="4257720"/>
            <a:ext cx="403200" cy="422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450800" y="4395960"/>
            <a:ext cx="128880" cy="155520"/>
          </a:xfrm>
          <a:prstGeom prst="rect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695240" y="4324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502160" y="3911760"/>
            <a:ext cx="630360" cy="422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552920" y="4049640"/>
            <a:ext cx="128520" cy="15552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804560" y="397836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35760" y="4502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94640" y="39132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94640" y="3324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94640" y="2738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94640" y="2149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94640" y="1560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94640" y="9716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166040" y="4732200"/>
            <a:ext cx="979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1 – milk and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940680" y="493560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793960" y="47322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2 – meat and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568960" y="4935600"/>
            <a:ext cx="1180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at productio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976920" y="4732200"/>
            <a:ext cx="1125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3 – perennial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976200" y="4935600"/>
            <a:ext cx="152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chards,vineyard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343040" y="514044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rrie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624280" y="4732200"/>
            <a:ext cx="172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4 – vegetables,flower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734440" y="4935600"/>
            <a:ext cx="988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ssential oils,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885280" y="514044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ennial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617440" y="534348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al perennials,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618160" y="554832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eals, oil crop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837400" y="57513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bacco- quality 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774760" y="5956200"/>
            <a:ext cx="1180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arieties, cotto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369200" y="4732200"/>
            <a:ext cx="1089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5 – eggs and 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649640" y="49356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ggs product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210200" y="5721480"/>
            <a:ext cx="93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or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rot="16200000">
            <a:off x="-742320" y="2412000"/>
            <a:ext cx="209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project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727200" y="1300320"/>
            <a:ext cx="8299440" cy="3943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27200" y="475128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27200" y="425916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27200" y="376380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27200" y="327168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27200" y="277956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27200" y="228744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727200" y="179388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727200" y="130032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727200" y="1300320"/>
            <a:ext cx="8299440" cy="39430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776160" y="3171960"/>
            <a:ext cx="196920" cy="20714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073160" y="4313160"/>
            <a:ext cx="196920" cy="9302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368360" y="3276720"/>
            <a:ext cx="198360" cy="19666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665360" y="4313160"/>
            <a:ext cx="198360" cy="9302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62000" y="4105440"/>
            <a:ext cx="196920" cy="11379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257560" y="5037120"/>
            <a:ext cx="198360" cy="206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554200" y="4932360"/>
            <a:ext cx="198360" cy="3110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851200" y="5037120"/>
            <a:ext cx="196920" cy="206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146400" y="4621320"/>
            <a:ext cx="198360" cy="6220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443400" y="4932360"/>
            <a:ext cx="196560" cy="3110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037040" y="5037120"/>
            <a:ext cx="196920" cy="206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334040" y="4002120"/>
            <a:ext cx="195120" cy="1241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629240" y="4002120"/>
            <a:ext cx="196920" cy="1241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925880" y="5037120"/>
            <a:ext cx="196920" cy="206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222880" y="4416480"/>
            <a:ext cx="196920" cy="8269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518080" y="1827360"/>
            <a:ext cx="198360" cy="34160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815080" y="4416480"/>
            <a:ext cx="198360" cy="8269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111720" y="4932360"/>
            <a:ext cx="196920" cy="3110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407280" y="4416480"/>
            <a:ext cx="198360" cy="8269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703920" y="4621320"/>
            <a:ext cx="198360" cy="6220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000920" y="4932360"/>
            <a:ext cx="196920" cy="3110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7296120" y="4002120"/>
            <a:ext cx="198360" cy="1241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593120" y="3379680"/>
            <a:ext cx="196920" cy="18637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7888320" y="4829040"/>
            <a:ext cx="198360" cy="4143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8185320" y="4518000"/>
            <a:ext cx="198360" cy="7254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8481960" y="4208400"/>
            <a:ext cx="196920" cy="10350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8778960" y="4621320"/>
            <a:ext cx="196920" cy="6220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27200" y="1300320"/>
            <a:ext cx="1440" cy="394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74640" y="524340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74640" y="475128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74640" y="425916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74640" y="376380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74640" y="327168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74640" y="277956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4640" y="228744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74640" y="179388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4640" y="130032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27200" y="524340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72720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102384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131904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161604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191304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20824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250524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280188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309888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339552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69108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98772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428472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457992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487692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17356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546876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76576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606276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635796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665496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5160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724860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754524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784080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8137440" y="524340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43444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72964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9026640" y="524340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914400" y="457200"/>
            <a:ext cx="779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stribution of the approved projects by regions Measure ” Improvement of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679760" y="773280"/>
            <a:ext cx="81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and marketing of agricultural and fishery product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”                               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907440" y="1042920"/>
            <a:ext cx="1722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y 01.06.2004г.  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0" y="60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211720" y="1430280"/>
            <a:ext cx="82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lovdiv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60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191360" y="2982960"/>
            <a:ext cx="138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ara Zagora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0" y="60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94280" y="2820960"/>
            <a:ext cx="960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fia city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60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590840" y="3043080"/>
            <a:ext cx="93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urgas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0" y="60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792960" y="3681360"/>
            <a:ext cx="95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60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601160" y="3692520"/>
            <a:ext cx="100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zardjik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0" y="60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205320" y="3747960"/>
            <a:ext cx="1250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fia region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60480"/>
            <a:ext cx="103320" cy="4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583280" y="3763800"/>
            <a:ext cx="1059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.Tarnovo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08240" y="511668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08240" y="462276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08240" y="413064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08240" y="363708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08240" y="314496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15000" y="265284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15000" y="215892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15000" y="16653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15000" y="117324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rot="18900000">
            <a:off x="114840" y="582444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odia city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rot="18900000">
            <a:off x="304560" y="581796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lagoevgrad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rot="18900000">
            <a:off x="927360" y="557496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ourga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rot="18900000">
            <a:off x="1298520" y="559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arn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rot="18900000">
            <a:off x="1327680" y="5749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.Tarnovo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rot="18900000">
            <a:off x="1888560" y="562572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idi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rot="18900000">
            <a:off x="2177280" y="558288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rats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rot="18900000">
            <a:off x="2341800" y="565632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Gabrovo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rot="18900000">
            <a:off x="2689560" y="56214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obrich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rot="18900000">
            <a:off x="2864880" y="578592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Kardjali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rot="18900000">
            <a:off x="3052440" y="582408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Kiustendil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rot="18900000">
            <a:off x="3652920" y="55501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ovech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rot="18900000">
            <a:off x="3780720" y="571176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rot="18900000">
            <a:off x="4001400" y="578484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zardjik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rot="18900000">
            <a:off x="4498200" y="56448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ernik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rot="18900000">
            <a:off x="4791960" y="565920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leve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rot="18900000">
            <a:off x="5006880" y="57099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lovdiv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rot="18900000">
            <a:off x="5325840" y="564480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azgrad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rot="18900000">
            <a:off x="5804640" y="549576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usse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rot="18900000">
            <a:off x="6020280" y="5638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ilistr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rot="18900000">
            <a:off x="6270120" y="566424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live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rot="18900000">
            <a:off x="6528600" y="56278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molia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rot="18900000">
            <a:off x="6631920" y="571464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ofia regio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rot="18900000">
            <a:off x="6860520" y="571464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tara Zagor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rot="18900000">
            <a:off x="7199280" y="5753160"/>
            <a:ext cx="979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Targovishte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rot="18900000">
            <a:off x="7685280" y="56404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Haskovo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rot="18900000">
            <a:off x="8048520" y="557496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hume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rot="18900000">
            <a:off x="8375400" y="560052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Iambol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067440" y="1627200"/>
            <a:ext cx="3022560" cy="6937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659640" y="1913040"/>
            <a:ext cx="104760" cy="1350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6807240" y="1855800"/>
            <a:ext cx="165564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% of all projects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814320" y="3441600"/>
            <a:ext cx="1325520" cy="13780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206800" y="2629080"/>
            <a:ext cx="1322280" cy="2190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595680" y="3724200"/>
            <a:ext cx="1325520" cy="10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987800" y="1604880"/>
            <a:ext cx="1324080" cy="321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6378480" y="4324320"/>
            <a:ext cx="1325520" cy="495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769160" y="4782960"/>
            <a:ext cx="1322280" cy="3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7769160" y="4784760"/>
            <a:ext cx="1324080" cy="3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781200" y="1109520"/>
            <a:ext cx="1440" cy="3710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743040" y="48196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43040" y="4289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43040" y="37591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43040" y="322884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43040" y="27003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43040" y="21700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43040" y="16398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43040" y="110952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81200" y="4819680"/>
            <a:ext cx="834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81200" y="48193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2173320" y="48193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3562200" y="48193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4954680" y="48193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6345360" y="48193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7736040" y="48193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9126360" y="48193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1033200" y="449280"/>
            <a:ext cx="786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pproved projects measure ”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mproving processing and marketing of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862640" y="708120"/>
            <a:ext cx="621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gricultural and fishery produc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 -  by sectors - by 01.06.2004г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246320" y="3946680"/>
            <a:ext cx="458640" cy="368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290600" y="4065480"/>
            <a:ext cx="115920" cy="1350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504080" y="40035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37000" y="3540240"/>
            <a:ext cx="460080" cy="368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82720" y="3659040"/>
            <a:ext cx="115920" cy="135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894760" y="35971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419800" y="3027240"/>
            <a:ext cx="458640" cy="368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464080" y="3146400"/>
            <a:ext cx="115920" cy="1350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677560" y="30844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08680" y="4387680"/>
            <a:ext cx="460440" cy="368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854760" y="4506840"/>
            <a:ext cx="115920" cy="1364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066440" y="44449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459640" y="4565520"/>
            <a:ext cx="227160" cy="236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8488440" y="4640400"/>
            <a:ext cx="69840" cy="8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8488440" y="4641840"/>
            <a:ext cx="71280" cy="8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8619120" y="460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102200" y="4087800"/>
            <a:ext cx="460440" cy="368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148280" y="4206960"/>
            <a:ext cx="115920" cy="135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361400" y="41450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55200" y="4735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88600" y="42051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88600" y="3675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88600" y="31431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88600" y="26161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88600" y="20844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88600" y="15541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23440" y="102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5</a:t>
            </a:r>
            <a:endParaRPr b="0" lang="en-US" sz="1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040760" y="500364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01 – Win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274840" y="5003640"/>
            <a:ext cx="101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02 – Fruit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313000" y="525924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 vegetable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691440" y="5003640"/>
            <a:ext cx="126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03 – Milk and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917520" y="52592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l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803760" y="5516640"/>
            <a:ext cx="105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212800" y="5003640"/>
            <a:ext cx="91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04 – Meat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1120" y="5003640"/>
            <a:ext cx="128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05 – Fish and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757200" y="52592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shery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585840" y="5516640"/>
            <a:ext cx="86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907760" y="5003640"/>
            <a:ext cx="100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olesal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976160" y="5259240"/>
            <a:ext cx="77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rot="16200000">
            <a:off x="-789480" y="2519280"/>
            <a:ext cx="22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umber of projects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3"/>
          <a:stretch/>
        </p:blipFill>
        <p:spPr>
          <a:xfrm>
            <a:off x="7769160" y="4641840"/>
            <a:ext cx="1324080" cy="1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727200" y="1368360"/>
            <a:ext cx="8299440" cy="361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27200" y="457992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7200" y="417672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7200" y="377676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27200" y="337500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27200" y="297324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27200" y="257184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727200" y="217188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27200" y="1770120"/>
            <a:ext cx="829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27200" y="136836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727200" y="1368360"/>
            <a:ext cx="8299440" cy="36115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76160" y="4889520"/>
            <a:ext cx="196920" cy="903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073160" y="2190600"/>
            <a:ext cx="196920" cy="2789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368360" y="1741320"/>
            <a:ext cx="198360" cy="32385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665360" y="4529160"/>
            <a:ext cx="198360" cy="4507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962000" y="4349880"/>
            <a:ext cx="196920" cy="6300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554200" y="4621320"/>
            <a:ext cx="198360" cy="3585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851200" y="4529160"/>
            <a:ext cx="196920" cy="4507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46400" y="4349880"/>
            <a:ext cx="198360" cy="6300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443400" y="4889520"/>
            <a:ext cx="196560" cy="903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740040" y="4621320"/>
            <a:ext cx="196920" cy="3585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037040" y="3809880"/>
            <a:ext cx="196920" cy="11700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334040" y="4710240"/>
            <a:ext cx="195120" cy="2696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629240" y="3000240"/>
            <a:ext cx="196920" cy="19796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925880" y="4710240"/>
            <a:ext cx="196920" cy="2696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222880" y="4529160"/>
            <a:ext cx="196920" cy="4507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518080" y="3990960"/>
            <a:ext cx="198360" cy="9889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815080" y="4889520"/>
            <a:ext cx="198360" cy="903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11720" y="4710240"/>
            <a:ext cx="196920" cy="2696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407280" y="4621320"/>
            <a:ext cx="198360" cy="3585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703920" y="4710240"/>
            <a:ext cx="198360" cy="2696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000920" y="2909880"/>
            <a:ext cx="196920" cy="20700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296120" y="3630600"/>
            <a:ext cx="198360" cy="1349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593120" y="4621320"/>
            <a:ext cx="196920" cy="3585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888320" y="4621320"/>
            <a:ext cx="198360" cy="3585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8185320" y="4529160"/>
            <a:ext cx="198360" cy="4507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8481960" y="4889520"/>
            <a:ext cx="196920" cy="903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8778960" y="4800600"/>
            <a:ext cx="196920" cy="179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27200" y="1368360"/>
            <a:ext cx="1440" cy="36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74640" y="497988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74640" y="457992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74640" y="417672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674640" y="377676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74640" y="337500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74640" y="297324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74640" y="257184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74640" y="217188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74640" y="1770120"/>
            <a:ext cx="52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74640" y="1368360"/>
            <a:ext cx="52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27200" y="4979880"/>
            <a:ext cx="829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72720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102384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131904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61604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191304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220824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250524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280188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309888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339552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369108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398772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428472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457992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487692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17356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46876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6576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606276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635796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665496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695160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724860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754524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784080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8137440" y="49795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843444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872964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9026640" y="49795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526040" y="558720"/>
            <a:ext cx="736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tribution of the approved projects by regions Measure ”Development and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248840" y="811080"/>
            <a:ext cx="72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fication of economic activities, providing for multiple activities and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672280" y="1066680"/>
            <a:ext cx="367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nco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" by 01.06.2004г.  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0" y="147600"/>
            <a:ext cx="968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222160" y="3673440"/>
            <a:ext cx="77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ovdiv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0" y="147600"/>
            <a:ext cx="968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856320" y="3492360"/>
            <a:ext cx="76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vech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147600"/>
            <a:ext cx="968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326360" y="3313080"/>
            <a:ext cx="117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ia region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147600"/>
            <a:ext cx="968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749640" y="2592360"/>
            <a:ext cx="84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lian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0" y="147600"/>
            <a:ext cx="968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251240" y="2682720"/>
            <a:ext cx="94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zardjik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0" y="147600"/>
            <a:ext cx="968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86480" y="1800360"/>
            <a:ext cx="128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agoevgrad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147600"/>
            <a:ext cx="968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160640" y="1424160"/>
            <a:ext cx="87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urga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07160" y="4861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07160" y="44607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407160" y="40575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07160" y="365760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07160" y="325584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14280" y="28544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14280" y="24526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14280" y="205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14280" y="16509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14280" y="12492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rot="18900000">
            <a:off x="119160" y="55166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ofia city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rot="18900000">
            <a:off x="302760" y="548748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lagoevgrad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rot="18900000">
            <a:off x="933480" y="528624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Bourgas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rot="18900000">
            <a:off x="1295640" y="52909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arn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rot="18900000">
            <a:off x="1327320" y="5425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.Tarnovo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rot="18900000">
            <a:off x="1886760" y="5324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idi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rot="18900000">
            <a:off x="2175480" y="52797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Vrats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rot="18900000">
            <a:off x="2341800" y="5346720"/>
            <a:ext cx="72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Gabrovo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rot="18900000">
            <a:off x="2689560" y="53118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obrich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rot="18900000">
            <a:off x="3049200" y="525780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Kardjali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rot="18900000">
            <a:off x="3052440" y="5495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Kiustendil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rot="18900000">
            <a:off x="3651840" y="524988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Lovech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rot="18900000">
            <a:off x="3888720" y="5333760"/>
            <a:ext cx="677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rot="18900000">
            <a:off x="4039200" y="533412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zardjik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rot="18900000">
            <a:off x="4497840" y="53370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ernik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rot="18900000">
            <a:off x="4784400" y="533520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leve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rot="18900000">
            <a:off x="5006880" y="539568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lovdiv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rot="18900000">
            <a:off x="5325840" y="533376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azgrad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rot="18900000">
            <a:off x="5811120" y="521640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Russe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rot="18900000">
            <a:off x="6020280" y="53341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ilistr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rot="18900000">
            <a:off x="6401880" y="525780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live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rot="18900000">
            <a:off x="6526800" y="532152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molia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rot="18900000">
            <a:off x="6631560" y="541008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ofia regio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rot="18900000">
            <a:off x="6765120" y="55512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tara Zagora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rot="18900000">
            <a:off x="7199280" y="5429160"/>
            <a:ext cx="979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Targovishte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rot="18900000">
            <a:off x="7683840" y="53308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Haskovo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rot="18900000">
            <a:off x="8048520" y="526860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humen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rot="18900000">
            <a:off x="8375400" y="529560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Iambol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6067440" y="1531800"/>
            <a:ext cx="3022560" cy="6462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659640" y="1798560"/>
            <a:ext cx="104760" cy="1256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09760" y="1744560"/>
            <a:ext cx="1553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of all project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/>
          <p:nvPr/>
        </p:nvSpPr>
        <p:spPr>
          <a:xfrm>
            <a:off x="1039680" y="1720800"/>
            <a:ext cx="933480" cy="2033640"/>
          </a:xfrm>
          <a:prstGeom prst="rect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021040" y="3654360"/>
            <a:ext cx="934920" cy="10008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003480" y="2736720"/>
            <a:ext cx="933480" cy="101772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967280" y="2936880"/>
            <a:ext cx="933480" cy="81756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946840" y="3733920"/>
            <a:ext cx="933480" cy="1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948280" y="3733920"/>
            <a:ext cx="933480" cy="20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6929280" y="3614760"/>
            <a:ext cx="935280" cy="13968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7912080" y="3654360"/>
            <a:ext cx="933480" cy="100080"/>
          </a:xfrm>
          <a:prstGeom prst="rect">
            <a:avLst/>
          </a:prstGeom>
          <a:solidFill>
            <a:srgbClr val="0033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017720" y="1360440"/>
            <a:ext cx="1440" cy="239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971640" y="3754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71640" y="33559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971640" y="29559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971640" y="2557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971640" y="21589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971640" y="17589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971640" y="13604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017720" y="3754440"/>
            <a:ext cx="7851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1017720" y="3754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1998720" y="3754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2981160" y="375444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3962520" y="3754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4943520" y="3754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5924520" y="3754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6905520" y="375444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7888320" y="375444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8869320" y="375444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902880" y="533520"/>
            <a:ext cx="787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approved projects -Measure ” </a:t>
            </a:r>
            <a:r>
              <a:rPr b="1" lang="en-US" sz="1500" spc="-1" strike="noStrike">
                <a:solidFill>
                  <a:srgbClr val="006699"/>
                </a:solidFill>
                <a:latin typeface="Arial"/>
              </a:rPr>
              <a:t>Development and diversification of economic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289160" y="825480"/>
            <a:ext cx="764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ctivities, providing for multiple activities and alternative income” by sector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189080" y="2523960"/>
            <a:ext cx="633240" cy="42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239840" y="2664000"/>
            <a:ext cx="130320" cy="158400"/>
          </a:xfrm>
          <a:prstGeom prst="rect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481040" y="25909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5173560" y="3132000"/>
            <a:ext cx="519120" cy="42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224320" y="3271680"/>
            <a:ext cx="130320" cy="158760"/>
          </a:xfrm>
          <a:prstGeom prst="rect">
            <a:avLst/>
          </a:prstGeom>
          <a:solidFill>
            <a:srgbClr val="ff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465880" y="31989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194600" y="3470400"/>
            <a:ext cx="404640" cy="428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245360" y="3610080"/>
            <a:ext cx="130320" cy="15876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486920" y="35370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8175600" y="3489480"/>
            <a:ext cx="405000" cy="428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8226360" y="3629160"/>
            <a:ext cx="130320" cy="160200"/>
          </a:xfrm>
          <a:prstGeom prst="rect">
            <a:avLst/>
          </a:prstGeom>
          <a:solidFill>
            <a:srgbClr val="0033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8467920" y="3556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0" y="3430440"/>
            <a:ext cx="404640" cy="428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336760" y="3570120"/>
            <a:ext cx="130320" cy="1587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2579760" y="3497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227480" y="3419640"/>
            <a:ext cx="403200" cy="428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276800" y="3559320"/>
            <a:ext cx="131760" cy="160200"/>
          </a:xfrm>
          <a:prstGeom prst="rect">
            <a:avLst/>
          </a:prstGeom>
          <a:solidFill>
            <a:srgbClr val="00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519800" y="3486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288120" y="3456000"/>
            <a:ext cx="330120" cy="351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329520" y="3568680"/>
            <a:ext cx="104760" cy="12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6329520" y="3570120"/>
            <a:ext cx="104760" cy="127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530400" y="3511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279600" y="3032280"/>
            <a:ext cx="519120" cy="428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330720" y="3171960"/>
            <a:ext cx="129960" cy="158760"/>
          </a:xfrm>
          <a:prstGeom prst="rect">
            <a:avLst/>
          </a:prstGeom>
          <a:solidFill>
            <a:srgbClr val="00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573360" y="30988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868320" y="364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786240" y="3251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786240" y="2851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86240" y="2452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786240" y="2054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704880" y="1654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704880" y="12556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rot="19560000">
            <a:off x="383040" y="4365000"/>
            <a:ext cx="116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ral tourism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rot="19560000">
            <a:off x="-160200" y="4895280"/>
            <a:ext cx="323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Local craftsmanship and agroindustry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rot="19560000">
            <a:off x="232920" y="5225760"/>
            <a:ext cx="366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Timber processing, carpentry and bio-fuel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rot="19560000">
            <a:off x="2967480" y="4571640"/>
            <a:ext cx="159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kworm breeding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rot="19560000">
            <a:off x="4578840" y="4201920"/>
            <a:ext cx="99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ekeeping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rot="19560000">
            <a:off x="5453280" y="4184280"/>
            <a:ext cx="130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se breeding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rot="19560000">
            <a:off x="6499800" y="422388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quacultur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rot="19560000">
            <a:off x="6652440" y="4582800"/>
            <a:ext cx="188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Mushroom productio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481640" y="6107040"/>
            <a:ext cx="93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or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rot="16200000">
            <a:off x="-821520" y="2146680"/>
            <a:ext cx="209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project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85" name="" descr=""/>
          <p:cNvPicPr/>
          <p:nvPr/>
        </p:nvPicPr>
        <p:blipFill>
          <a:blip r:embed="rId3"/>
          <a:stretch/>
        </p:blipFill>
        <p:spPr>
          <a:xfrm>
            <a:off x="5948280" y="3570120"/>
            <a:ext cx="933480" cy="1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6666"/>
                </a:solidFill>
                <a:latin typeface="Verdana"/>
              </a:rPr>
              <a:t>Distribution of the approved projects by regions </a:t>
            </a:r>
            <a:endParaRPr b="1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250560" y="1483920"/>
            <a:ext cx="867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99"/>
                </a:solidFill>
                <a:uFillTx/>
                <a:latin typeface="Verdana"/>
              </a:rPr>
              <a:t>Measure "</a:t>
            </a:r>
            <a:r>
              <a:rPr b="1" i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Renovation and development of villages</a:t>
            </a:r>
            <a:r>
              <a:rPr b="1" i="1" lang="ru-RU" sz="2400" spc="-1" strike="noStrike" u="sng">
                <a:solidFill>
                  <a:srgbClr val="006699"/>
                </a:solidFill>
                <a:uFillTx/>
                <a:latin typeface="Verdana"/>
              </a:rPr>
              <a:t>, </a:t>
            </a:r>
            <a:r>
              <a:rPr b="1" i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protection and conservation of the rural heritage and cultural traditions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 project for V.Tarnovo, Silistra, Smolian and Haskovo;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99"/>
                </a:solidFill>
                <a:uFillTx/>
                <a:latin typeface="Verdana"/>
              </a:rPr>
              <a:t>Measure "</a:t>
            </a:r>
            <a:r>
              <a:rPr b="1" i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Development and improvement of rural infrastructure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 3 projects for Plovdiv region and 1 for Haskovo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99"/>
                </a:solidFill>
                <a:uFillTx/>
                <a:latin typeface="Verdana"/>
              </a:rPr>
              <a:t>Measure "</a:t>
            </a:r>
            <a:r>
              <a:rPr b="1" i="1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Forestry, afforestation of agricultural areas, investment in forest holdings, processing and marketing of forestry products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 1 project for Smolian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988920" y="835200"/>
            <a:ext cx="7666200" cy="3848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988920" y="4297320"/>
            <a:ext cx="7666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988920" y="3914640"/>
            <a:ext cx="7666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988920" y="3529080"/>
            <a:ext cx="766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988920" y="3143160"/>
            <a:ext cx="7666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988920" y="2760840"/>
            <a:ext cx="766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88920" y="2374920"/>
            <a:ext cx="766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88920" y="1989000"/>
            <a:ext cx="7666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88920" y="1603440"/>
            <a:ext cx="766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988920" y="1220760"/>
            <a:ext cx="766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988920" y="835200"/>
            <a:ext cx="766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988920" y="835200"/>
            <a:ext cx="7666200" cy="38480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201680" y="1303200"/>
            <a:ext cx="2129040" cy="338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757680" y="3959280"/>
            <a:ext cx="2128680" cy="723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313320" y="4267080"/>
            <a:ext cx="2129040" cy="416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988920" y="835200"/>
            <a:ext cx="1800" cy="384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932040" y="4683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932040" y="42973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932040" y="391464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932040" y="3529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932040" y="31431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932040" y="27608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932040" y="237492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932040" y="19890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932040" y="16034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932040" y="122076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932040" y="8352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988920" y="4683240"/>
            <a:ext cx="7666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988920" y="4683240"/>
            <a:ext cx="180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3543480" y="4683240"/>
            <a:ext cx="14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6099120" y="4683240"/>
            <a:ext cx="180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8655120" y="4683240"/>
            <a:ext cx="14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370160" y="304920"/>
            <a:ext cx="7364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 of completed projects by measured by 25.06.2004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2075040" y="2795760"/>
            <a:ext cx="380880" cy="3967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-285840" y="-23760"/>
            <a:ext cx="115920" cy="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2173680" y="2857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4684680" y="4124160"/>
            <a:ext cx="271440" cy="39708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-285840" y="-23760"/>
            <a:ext cx="115920" cy="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477900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7238880" y="4257720"/>
            <a:ext cx="273240" cy="3967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-285840" y="-23760"/>
            <a:ext cx="115920" cy="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335000" y="4319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1360" y="4559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01280" y="41734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04080" y="37893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604080" y="34034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04080" y="3019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04080" y="2635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604080" y="22496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04080" y="1863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04080" y="14796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04080" y="1095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04080" y="7095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243800" y="4840200"/>
            <a:ext cx="22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vestments in agricultura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771200" y="5064120"/>
            <a:ext cx="74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lding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957120" y="4800600"/>
            <a:ext cx="186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roving processing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587040" y="5064120"/>
            <a:ext cx="253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d marketing of agricultural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033440" y="5257800"/>
            <a:ext cx="179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d fishery product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6145560" y="4840200"/>
            <a:ext cx="274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velopment and diversificatio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251400" y="5064120"/>
            <a:ext cx="194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economic activities,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196320" y="5286240"/>
            <a:ext cx="266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viding for multiple activitie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331320" y="5508720"/>
            <a:ext cx="196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d alternative incom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520520" y="60483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-670680" y="2354760"/>
            <a:ext cx="209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project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936720" y="1631880"/>
            <a:ext cx="2314440" cy="322128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714840" y="1965240"/>
            <a:ext cx="2316240" cy="2887920"/>
          </a:xfrm>
          <a:prstGeom prst="rect">
            <a:avLst/>
          </a:prstGeom>
          <a:solidFill>
            <a:srgbClr val="ff00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494400" y="4651200"/>
            <a:ext cx="2314800" cy="201960"/>
          </a:xfrm>
          <a:prstGeom prst="rect">
            <a:avLst/>
          </a:prstGeom>
          <a:solidFill>
            <a:srgbClr val="00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706320" y="1147680"/>
            <a:ext cx="1800" cy="3705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660240" y="4853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60240" y="44402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660240" y="40305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60240" y="36180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60240" y="32068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60240" y="27939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60240" y="23842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0240" y="1971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60240" y="15606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60240" y="11476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06320" y="4853160"/>
            <a:ext cx="8336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06320" y="4852800"/>
            <a:ext cx="180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3484440" y="4852800"/>
            <a:ext cx="180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6264360" y="4852800"/>
            <a:ext cx="144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9042480" y="4852800"/>
            <a:ext cx="1440" cy="5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623600" y="563400"/>
            <a:ext cx="719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y( EU + National government) of the aproved projects        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398760" y="839880"/>
            <a:ext cx="31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measures by 25.06.2004г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793880" y="3022560"/>
            <a:ext cx="598320" cy="439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903320" y="30924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,25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572000" y="3189240"/>
            <a:ext cx="598320" cy="439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681440" y="32590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,1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7412040" y="4340160"/>
            <a:ext cx="479520" cy="439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7518600" y="440856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,94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55480" y="474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75200" y="433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75200" y="3927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75200" y="3514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75200" y="3103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75200" y="2690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475200" y="2281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75200" y="1868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75200" y="1457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75200" y="1044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22360" y="5029200"/>
            <a:ext cx="313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asure ”Investments in agricultura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544400" y="5218200"/>
            <a:ext cx="92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ldings" 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995640" y="5002200"/>
            <a:ext cx="172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asure ”Improving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588120" y="5218200"/>
            <a:ext cx="222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essing and marketing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909240" y="5432400"/>
            <a:ext cx="222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agricultural and fishery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464720" y="564660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ducts”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6471000" y="4952880"/>
            <a:ext cx="234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asure ”Development and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511320" y="5218200"/>
            <a:ext cx="237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versification of economic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773760" y="5410080"/>
            <a:ext cx="199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ivities, providing for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644880" y="5646600"/>
            <a:ext cx="185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ultiple activities and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6766560" y="5862600"/>
            <a:ext cx="168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ternative income”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-340200" y="1277280"/>
            <a:ext cx="1222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 leva.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"/>
          <p:cNvSpPr/>
          <p:nvPr/>
        </p:nvSpPr>
        <p:spPr>
          <a:xfrm>
            <a:off x="665280" y="4994280"/>
            <a:ext cx="7918200" cy="150840"/>
          </a:xfrm>
          <a:custGeom>
            <a:avLst/>
            <a:gdLst/>
            <a:ahLst/>
            <a:rect l="l" t="t" r="r" b="b"/>
            <a:pathLst>
              <a:path w="9976" h="95">
                <a:moveTo>
                  <a:pt x="0" y="95"/>
                </a:moveTo>
                <a:lnTo>
                  <a:pt x="1083" y="0"/>
                </a:lnTo>
                <a:lnTo>
                  <a:pt x="9976" y="0"/>
                </a:lnTo>
                <a:lnTo>
                  <a:pt x="8894" y="95"/>
                </a:lnTo>
                <a:lnTo>
                  <a:pt x="0" y="9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665280" y="1405080"/>
            <a:ext cx="858600" cy="3740040"/>
          </a:xfrm>
          <a:custGeom>
            <a:avLst/>
            <a:gdLst/>
            <a:ahLst/>
            <a:rect l="l" t="t" r="r" b="b"/>
            <a:pathLst>
              <a:path w="1083" h="2356">
                <a:moveTo>
                  <a:pt x="0" y="2356"/>
                </a:moveTo>
                <a:lnTo>
                  <a:pt x="0" y="96"/>
                </a:lnTo>
                <a:lnTo>
                  <a:pt x="1083" y="0"/>
                </a:lnTo>
                <a:lnTo>
                  <a:pt x="1083" y="2261"/>
                </a:lnTo>
                <a:lnTo>
                  <a:pt x="0" y="235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1523880" y="1405080"/>
            <a:ext cx="7059600" cy="358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65280" y="4994280"/>
            <a:ext cx="7918200" cy="150840"/>
          </a:xfrm>
          <a:custGeom>
            <a:avLst/>
            <a:gdLst/>
            <a:ahLst/>
            <a:rect l="l" t="t" r="r" b="b"/>
            <a:pathLst>
              <a:path w="9976" h="95">
                <a:moveTo>
                  <a:pt x="9976" y="0"/>
                </a:moveTo>
                <a:lnTo>
                  <a:pt x="8894" y="95"/>
                </a:lnTo>
                <a:lnTo>
                  <a:pt x="0" y="95"/>
                </a:lnTo>
                <a:lnTo>
                  <a:pt x="1083" y="0"/>
                </a:lnTo>
                <a:lnTo>
                  <a:pt x="997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65280" y="1405080"/>
            <a:ext cx="858600" cy="3740040"/>
          </a:xfrm>
          <a:custGeom>
            <a:avLst/>
            <a:gdLst/>
            <a:ahLst/>
            <a:rect l="l" t="t" r="r" b="b"/>
            <a:pathLst>
              <a:path w="1083" h="2356">
                <a:moveTo>
                  <a:pt x="0" y="2356"/>
                </a:moveTo>
                <a:lnTo>
                  <a:pt x="0" y="96"/>
                </a:lnTo>
                <a:lnTo>
                  <a:pt x="1083" y="0"/>
                </a:lnTo>
                <a:lnTo>
                  <a:pt x="1083" y="2261"/>
                </a:lnTo>
                <a:lnTo>
                  <a:pt x="0" y="2356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523880" y="1405080"/>
            <a:ext cx="7059600" cy="3589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295360" y="1450800"/>
            <a:ext cx="344520" cy="3649680"/>
          </a:xfrm>
          <a:custGeom>
            <a:avLst/>
            <a:gdLst/>
            <a:ahLst/>
            <a:rect l="l" t="t" r="r" b="b"/>
            <a:pathLst>
              <a:path w="434" h="2299">
                <a:moveTo>
                  <a:pt x="0" y="2299"/>
                </a:moveTo>
                <a:lnTo>
                  <a:pt x="0" y="38"/>
                </a:lnTo>
                <a:lnTo>
                  <a:pt x="434" y="0"/>
                </a:lnTo>
                <a:lnTo>
                  <a:pt x="434" y="2260"/>
                </a:lnTo>
                <a:lnTo>
                  <a:pt x="0" y="2299"/>
                </a:lnTo>
                <a:close/>
              </a:path>
            </a:pathLst>
          </a:custGeom>
          <a:solidFill>
            <a:srgbClr val="1a1a4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512720" y="1511280"/>
            <a:ext cx="782640" cy="35892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512720" y="1450800"/>
            <a:ext cx="1127160" cy="60480"/>
          </a:xfrm>
          <a:custGeom>
            <a:avLst/>
            <a:gdLst/>
            <a:ahLst/>
            <a:rect l="l" t="t" r="r" b="b"/>
            <a:pathLst>
              <a:path w="1420" h="38">
                <a:moveTo>
                  <a:pt x="986" y="38"/>
                </a:moveTo>
                <a:lnTo>
                  <a:pt x="1420" y="0"/>
                </a:lnTo>
                <a:lnTo>
                  <a:pt x="432" y="0"/>
                </a:lnTo>
                <a:lnTo>
                  <a:pt x="0" y="38"/>
                </a:lnTo>
                <a:lnTo>
                  <a:pt x="986" y="38"/>
                </a:lnTo>
                <a:close/>
              </a:path>
            </a:pathLst>
          </a:custGeom>
          <a:solidFill>
            <a:srgbClr val="26267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081240" y="2222640"/>
            <a:ext cx="343080" cy="2877840"/>
          </a:xfrm>
          <a:custGeom>
            <a:avLst/>
            <a:gdLst/>
            <a:ahLst/>
            <a:rect l="l" t="t" r="r" b="b"/>
            <a:pathLst>
              <a:path w="432" h="1813">
                <a:moveTo>
                  <a:pt x="0" y="1813"/>
                </a:moveTo>
                <a:lnTo>
                  <a:pt x="0" y="37"/>
                </a:lnTo>
                <a:lnTo>
                  <a:pt x="432" y="0"/>
                </a:lnTo>
                <a:lnTo>
                  <a:pt x="432" y="1774"/>
                </a:lnTo>
                <a:lnTo>
                  <a:pt x="0" y="1813"/>
                </a:lnTo>
                <a:close/>
              </a:path>
            </a:pathLst>
          </a:custGeom>
          <a:solidFill>
            <a:srgbClr val="80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2295360" y="2281320"/>
            <a:ext cx="785880" cy="2819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295360" y="2222640"/>
            <a:ext cx="1128960" cy="58680"/>
          </a:xfrm>
          <a:custGeom>
            <a:avLst/>
            <a:gdLst/>
            <a:ahLst/>
            <a:rect l="l" t="t" r="r" b="b"/>
            <a:pathLst>
              <a:path w="1421" h="37">
                <a:moveTo>
                  <a:pt x="989" y="37"/>
                </a:moveTo>
                <a:lnTo>
                  <a:pt x="1421" y="0"/>
                </a:lnTo>
                <a:lnTo>
                  <a:pt x="434" y="0"/>
                </a:lnTo>
                <a:lnTo>
                  <a:pt x="0" y="37"/>
                </a:lnTo>
                <a:lnTo>
                  <a:pt x="989" y="37"/>
                </a:lnTo>
                <a:close/>
              </a:path>
            </a:pathLst>
          </a:custGeom>
          <a:solidFill>
            <a:srgbClr val="b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863880" y="3305160"/>
            <a:ext cx="344520" cy="1795320"/>
          </a:xfrm>
          <a:custGeom>
            <a:avLst/>
            <a:gdLst/>
            <a:ahLst/>
            <a:rect l="l" t="t" r="r" b="b"/>
            <a:pathLst>
              <a:path w="434" h="1131">
                <a:moveTo>
                  <a:pt x="0" y="1131"/>
                </a:moveTo>
                <a:lnTo>
                  <a:pt x="0" y="38"/>
                </a:lnTo>
                <a:lnTo>
                  <a:pt x="434" y="0"/>
                </a:lnTo>
                <a:lnTo>
                  <a:pt x="434" y="1092"/>
                </a:lnTo>
                <a:lnTo>
                  <a:pt x="0" y="1131"/>
                </a:lnTo>
                <a:close/>
              </a:path>
            </a:pathLst>
          </a:custGeom>
          <a:solidFill>
            <a:srgbClr val="8080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081240" y="3365640"/>
            <a:ext cx="782640" cy="1734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081240" y="3305160"/>
            <a:ext cx="1127160" cy="60480"/>
          </a:xfrm>
          <a:custGeom>
            <a:avLst/>
            <a:gdLst/>
            <a:ahLst/>
            <a:rect l="l" t="t" r="r" b="b"/>
            <a:pathLst>
              <a:path w="1421" h="38">
                <a:moveTo>
                  <a:pt x="987" y="38"/>
                </a:moveTo>
                <a:lnTo>
                  <a:pt x="1421" y="0"/>
                </a:lnTo>
                <a:lnTo>
                  <a:pt x="432" y="0"/>
                </a:lnTo>
                <a:lnTo>
                  <a:pt x="0" y="38"/>
                </a:lnTo>
                <a:lnTo>
                  <a:pt x="987" y="38"/>
                </a:lnTo>
                <a:close/>
              </a:path>
            </a:pathLst>
          </a:custGeom>
          <a:solidFill>
            <a:srgbClr val="bfb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625760" y="2077920"/>
            <a:ext cx="64440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-285840" y="169920"/>
            <a:ext cx="1224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715040" y="21430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2371680" y="2576520"/>
            <a:ext cx="519120" cy="43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-285840" y="169920"/>
            <a:ext cx="1224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461320" y="264168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9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209760" y="3467160"/>
            <a:ext cx="519120" cy="43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-285840" y="169920"/>
            <a:ext cx="1224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299400" y="35337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826240" y="1887480"/>
            <a:ext cx="342720" cy="3213000"/>
          </a:xfrm>
          <a:custGeom>
            <a:avLst/>
            <a:gdLst/>
            <a:ahLst/>
            <a:rect l="l" t="t" r="r" b="b"/>
            <a:pathLst>
              <a:path w="432" h="2024">
                <a:moveTo>
                  <a:pt x="0" y="2024"/>
                </a:moveTo>
                <a:lnTo>
                  <a:pt x="0" y="38"/>
                </a:lnTo>
                <a:lnTo>
                  <a:pt x="432" y="0"/>
                </a:lnTo>
                <a:lnTo>
                  <a:pt x="432" y="1985"/>
                </a:lnTo>
                <a:lnTo>
                  <a:pt x="0" y="2024"/>
                </a:lnTo>
                <a:close/>
              </a:path>
            </a:pathLst>
          </a:custGeom>
          <a:solidFill>
            <a:srgbClr val="1a1a4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040360" y="1947960"/>
            <a:ext cx="785880" cy="315252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040360" y="1887480"/>
            <a:ext cx="1128600" cy="60480"/>
          </a:xfrm>
          <a:custGeom>
            <a:avLst/>
            <a:gdLst/>
            <a:ahLst/>
            <a:rect l="l" t="t" r="r" b="b"/>
            <a:pathLst>
              <a:path w="1421" h="38">
                <a:moveTo>
                  <a:pt x="989" y="38"/>
                </a:moveTo>
                <a:lnTo>
                  <a:pt x="1421" y="0"/>
                </a:lnTo>
                <a:lnTo>
                  <a:pt x="434" y="0"/>
                </a:lnTo>
                <a:lnTo>
                  <a:pt x="0" y="38"/>
                </a:lnTo>
                <a:lnTo>
                  <a:pt x="989" y="38"/>
                </a:lnTo>
                <a:close/>
              </a:path>
            </a:pathLst>
          </a:custGeom>
          <a:solidFill>
            <a:srgbClr val="26267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608880" y="3422520"/>
            <a:ext cx="344520" cy="1677960"/>
          </a:xfrm>
          <a:custGeom>
            <a:avLst/>
            <a:gdLst/>
            <a:ahLst/>
            <a:rect l="l" t="t" r="r" b="b"/>
            <a:pathLst>
              <a:path w="434" h="1057">
                <a:moveTo>
                  <a:pt x="0" y="1057"/>
                </a:moveTo>
                <a:lnTo>
                  <a:pt x="0" y="38"/>
                </a:lnTo>
                <a:lnTo>
                  <a:pt x="434" y="0"/>
                </a:lnTo>
                <a:lnTo>
                  <a:pt x="434" y="1018"/>
                </a:lnTo>
                <a:lnTo>
                  <a:pt x="0" y="1057"/>
                </a:lnTo>
                <a:close/>
              </a:path>
            </a:pathLst>
          </a:custGeom>
          <a:solidFill>
            <a:srgbClr val="8066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5826240" y="3483000"/>
            <a:ext cx="782640" cy="1617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826240" y="3422520"/>
            <a:ext cx="1127160" cy="60480"/>
          </a:xfrm>
          <a:custGeom>
            <a:avLst/>
            <a:gdLst/>
            <a:ahLst/>
            <a:rect l="l" t="t" r="r" b="b"/>
            <a:pathLst>
              <a:path w="1421" h="38">
                <a:moveTo>
                  <a:pt x="987" y="38"/>
                </a:moveTo>
                <a:lnTo>
                  <a:pt x="1421" y="0"/>
                </a:lnTo>
                <a:lnTo>
                  <a:pt x="432" y="0"/>
                </a:lnTo>
                <a:lnTo>
                  <a:pt x="0" y="38"/>
                </a:lnTo>
                <a:lnTo>
                  <a:pt x="987" y="38"/>
                </a:lnTo>
                <a:close/>
              </a:path>
            </a:pathLst>
          </a:custGeom>
          <a:solidFill>
            <a:srgbClr val="bf99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7392960" y="4503600"/>
            <a:ext cx="343080" cy="596880"/>
          </a:xfrm>
          <a:custGeom>
            <a:avLst/>
            <a:gdLst/>
            <a:ahLst/>
            <a:rect l="l" t="t" r="r" b="b"/>
            <a:pathLst>
              <a:path w="432" h="376">
                <a:moveTo>
                  <a:pt x="0" y="376"/>
                </a:moveTo>
                <a:lnTo>
                  <a:pt x="0" y="38"/>
                </a:lnTo>
                <a:lnTo>
                  <a:pt x="432" y="0"/>
                </a:lnTo>
                <a:lnTo>
                  <a:pt x="432" y="337"/>
                </a:lnTo>
                <a:lnTo>
                  <a:pt x="0" y="376"/>
                </a:lnTo>
                <a:close/>
              </a:path>
            </a:pathLst>
          </a:custGeom>
          <a:solidFill>
            <a:srgbClr val="8080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6608880" y="4564080"/>
            <a:ext cx="784080" cy="536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6608880" y="4503600"/>
            <a:ext cx="1127160" cy="60480"/>
          </a:xfrm>
          <a:custGeom>
            <a:avLst/>
            <a:gdLst/>
            <a:ahLst/>
            <a:rect l="l" t="t" r="r" b="b"/>
            <a:pathLst>
              <a:path w="1421" h="38">
                <a:moveTo>
                  <a:pt x="989" y="38"/>
                </a:moveTo>
                <a:lnTo>
                  <a:pt x="1421" y="0"/>
                </a:lnTo>
                <a:lnTo>
                  <a:pt x="434" y="0"/>
                </a:lnTo>
                <a:lnTo>
                  <a:pt x="0" y="38"/>
                </a:lnTo>
                <a:lnTo>
                  <a:pt x="989" y="38"/>
                </a:lnTo>
                <a:close/>
              </a:path>
            </a:pathLst>
          </a:custGeom>
          <a:solidFill>
            <a:srgbClr val="bfbf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254560" y="2259000"/>
            <a:ext cx="517680" cy="43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-285840" y="169920"/>
            <a:ext cx="1224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344200" y="23256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5964120" y="3673440"/>
            <a:ext cx="517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-285840" y="169920"/>
            <a:ext cx="1224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053760" y="37386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6804000" y="4624560"/>
            <a:ext cx="517680" cy="43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-285840" y="169920"/>
            <a:ext cx="1224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6893640" y="46911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665280" y="1557360"/>
            <a:ext cx="1440" cy="358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606240" y="51451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606240" y="47862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606240" y="44276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606240" y="40687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606240" y="37101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606240" y="33512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606240" y="29923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606240" y="26337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606240" y="227484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606240" y="19162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606240" y="15573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362880" y="502776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62800" y="4668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62800" y="4309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62800" y="39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262800" y="35924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62800" y="3233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62800" y="28749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62800" y="25160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262800" y="21574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62800" y="1798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60560" y="14400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65280" y="5145120"/>
            <a:ext cx="705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65280" y="51451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194000" y="514512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7724880" y="51451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037160" y="5262480"/>
            <a:ext cx="325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% of the budget for each measur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051200" y="5505480"/>
            <a:ext cx="295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cording to the financial plan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133640" y="5749920"/>
            <a:ext cx="315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 Programme SAPARD for 2000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567680" y="5262480"/>
            <a:ext cx="325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% of the budget for each measur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578480" y="5505480"/>
            <a:ext cx="295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ccording to the financial plan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4386240" y="5749920"/>
            <a:ext cx="378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 Programme SAPARD for 2000-2001 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751480" y="609480"/>
            <a:ext cx="488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imilation of the budget of Programme SAPARD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2960640" y="871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697800" y="1676520"/>
            <a:ext cx="1760400" cy="1176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888240" y="1820880"/>
            <a:ext cx="125280" cy="14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7064640" y="1760400"/>
            <a:ext cx="137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1.1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888240" y="2209680"/>
            <a:ext cx="125280" cy="1396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7064640" y="2147760"/>
            <a:ext cx="137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1.2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6888240" y="2597040"/>
            <a:ext cx="125280" cy="139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7064640" y="2535120"/>
            <a:ext cx="137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2.1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158840" y="3319560"/>
            <a:ext cx="36432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3319560"/>
            <a:ext cx="36432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0920" y="439560"/>
            <a:ext cx="13500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0920" y="439560"/>
            <a:ext cx="13500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150920" y="932040"/>
            <a:ext cx="7810560" cy="4622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150920" y="4976640"/>
            <a:ext cx="7810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50920" y="4398840"/>
            <a:ext cx="7810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150920" y="3821040"/>
            <a:ext cx="7810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150920" y="3244680"/>
            <a:ext cx="7810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50920" y="2666880"/>
            <a:ext cx="7810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150920" y="2089080"/>
            <a:ext cx="7810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150920" y="1511280"/>
            <a:ext cx="7810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50920" y="932040"/>
            <a:ext cx="7810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50920" y="932040"/>
            <a:ext cx="7810560" cy="46227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58920" y="1255680"/>
            <a:ext cx="1084320" cy="4299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60680" y="4179960"/>
            <a:ext cx="1084320" cy="13748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62440" y="5549760"/>
            <a:ext cx="1085760" cy="5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164200" y="4267080"/>
            <a:ext cx="1085760" cy="12877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65960" y="5532480"/>
            <a:ext cx="1085760" cy="22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767720" y="5532480"/>
            <a:ext cx="1085760" cy="22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150920" y="932040"/>
            <a:ext cx="1440" cy="4622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09520" y="55548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109520" y="49766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09520" y="43988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09520" y="38210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09520" y="32446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109520" y="26668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109520" y="20890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109520" y="15112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109520" y="9320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150920" y="5554800"/>
            <a:ext cx="7810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150920" y="5554800"/>
            <a:ext cx="144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452680" y="5554800"/>
            <a:ext cx="144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753000" y="5554800"/>
            <a:ext cx="144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056200" y="5554800"/>
            <a:ext cx="144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6357960" y="5554800"/>
            <a:ext cx="144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659720" y="5554800"/>
            <a:ext cx="144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8961480" y="5554800"/>
            <a:ext cx="144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363320" y="304920"/>
            <a:ext cx="6887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approved projects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by 01.06.2004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13400" y="4714920"/>
            <a:ext cx="385920" cy="390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120600"/>
            <a:ext cx="10944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598720" y="47750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24600" y="5135400"/>
            <a:ext cx="166680" cy="3924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120600"/>
            <a:ext cx="10944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08120" y="5195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226360" y="5135400"/>
            <a:ext cx="166680" cy="3924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120600"/>
            <a:ext cx="10944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309880" y="5195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08120" y="3211560"/>
            <a:ext cx="385920" cy="390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120600"/>
            <a:ext cx="10944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91640" y="3271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909880" y="4673520"/>
            <a:ext cx="385920" cy="390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120600"/>
            <a:ext cx="10944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993400" y="47340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321080" y="5135400"/>
            <a:ext cx="165240" cy="3924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120600"/>
            <a:ext cx="10944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04600" y="5195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012680" y="5462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70120" y="48848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70120" y="43070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70120" y="3728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70120" y="3152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70120" y="2575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870120" y="1996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70120" y="1419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70120" y="8413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992520" y="5791320"/>
            <a:ext cx="1448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Measure 1.1.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76160" y="5761080"/>
            <a:ext cx="107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Meas 1.2.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77920" y="5761080"/>
            <a:ext cx="107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Meas 1.4.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181480" y="5761080"/>
            <a:ext cx="107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Meas 2.1.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83240" y="5761080"/>
            <a:ext cx="107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Meas 2.2.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785000" y="5761080"/>
            <a:ext cx="107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Meas 2.3.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rot="16200000">
            <a:off x="-397800" y="2832480"/>
            <a:ext cx="209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project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620640" y="1347840"/>
            <a:ext cx="8475840" cy="336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20640" y="4235400"/>
            <a:ext cx="847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0640" y="3754440"/>
            <a:ext cx="847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620640" y="3273480"/>
            <a:ext cx="847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620640" y="2792520"/>
            <a:ext cx="847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20640" y="2309760"/>
            <a:ext cx="847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20640" y="1828800"/>
            <a:ext cx="847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20640" y="1347840"/>
            <a:ext cx="847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620640" y="1347840"/>
            <a:ext cx="8475840" cy="33685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855720" y="1876320"/>
            <a:ext cx="2355840" cy="2840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681360" y="2814480"/>
            <a:ext cx="2354400" cy="19018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6505560" y="3551400"/>
            <a:ext cx="2355840" cy="116496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620640" y="1347840"/>
            <a:ext cx="1800" cy="336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68440" y="471636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68440" y="42354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568440" y="375444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68440" y="327348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68440" y="27925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68440" y="230976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68440" y="18288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68440" y="134784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20640" y="4716360"/>
            <a:ext cx="847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620640" y="471600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3446640" y="471600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6270480" y="471600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9096480" y="471600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686520" y="228600"/>
            <a:ext cx="8178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centage of the completed projects compared to the approved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jects by measures by 25.06.2004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7454880" y="3921120"/>
            <a:ext cx="458640" cy="42876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0" y="27000"/>
            <a:ext cx="1224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7542720" y="398772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629240" y="3551400"/>
            <a:ext cx="458640" cy="4284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0" y="27000"/>
            <a:ext cx="1224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717080" y="36180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1805040" y="3083040"/>
            <a:ext cx="458640" cy="4284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0" y="27000"/>
            <a:ext cx="12240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1892880" y="31496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9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302040" y="459252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208800" y="41115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08800" y="36291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08800" y="314784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08800" y="266688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08800" y="218592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208800" y="17049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08800" y="12222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22360" y="4876920"/>
            <a:ext cx="30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stments in agricultural holding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647880" y="4876920"/>
            <a:ext cx="255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Improving processing and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marketing of agricultural and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fishery product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026400" y="4876920"/>
            <a:ext cx="31478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Development and diversificatio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of economic activities, providing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for multiple activities and alternative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incom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571280" y="61117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/>
          <p:nvPr/>
        </p:nvSpPr>
        <p:spPr>
          <a:xfrm>
            <a:off x="785880" y="4792680"/>
            <a:ext cx="82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785880" y="4394160"/>
            <a:ext cx="82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785880" y="3994200"/>
            <a:ext cx="82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85880" y="3595680"/>
            <a:ext cx="82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785880" y="3197160"/>
            <a:ext cx="82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785880" y="2797200"/>
            <a:ext cx="82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785880" y="2398680"/>
            <a:ext cx="82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785880" y="2001960"/>
            <a:ext cx="82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785880" y="1601640"/>
            <a:ext cx="8217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785880" y="1203480"/>
            <a:ext cx="821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1606680" y="1662120"/>
            <a:ext cx="1093680" cy="31305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4344840" y="3416400"/>
            <a:ext cx="1095480" cy="137628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7083360" y="3357720"/>
            <a:ext cx="1095480" cy="143496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785880" y="1203480"/>
            <a:ext cx="1440" cy="3589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738360" y="47926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738360" y="439416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738360" y="39942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738360" y="35956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738360" y="319716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738360" y="27972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738360" y="239868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738360" y="200196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738360" y="160164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738360" y="12034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486440" y="782640"/>
            <a:ext cx="64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led projects - distribution by projects by 01.06.2004г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7478640" y="3857760"/>
            <a:ext cx="303120" cy="434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79440" y="39258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4740120" y="3887640"/>
            <a:ext cx="303480" cy="435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4842720" y="39560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941480" y="3011400"/>
            <a:ext cx="423720" cy="435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046960" y="30798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7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29640" y="4687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46480" y="428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546480" y="388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46480" y="3490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46480" y="3092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62240" y="26924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462240" y="22939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462240" y="1897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462240" y="14954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62240" y="10987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212840" y="4876920"/>
            <a:ext cx="2105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asure "Investments i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gricultural holding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496680" y="4952880"/>
            <a:ext cx="2774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asure ” Improving processing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d marketing of agricultura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d fishery product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6395040" y="4876920"/>
            <a:ext cx="2750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asure ” Development and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versification of economic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ivities,providing for multiple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d alternative incom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rot="16200000">
            <a:off x="-244080" y="2686320"/>
            <a:ext cx="96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/>
          <p:nvPr/>
        </p:nvSpPr>
        <p:spPr>
          <a:xfrm>
            <a:off x="603360" y="1434960"/>
            <a:ext cx="8226360" cy="3157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603360" y="4067280"/>
            <a:ext cx="822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03360" y="3541680"/>
            <a:ext cx="822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603360" y="3014640"/>
            <a:ext cx="822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03360" y="2487600"/>
            <a:ext cx="822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603360" y="1962000"/>
            <a:ext cx="822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03360" y="1434960"/>
            <a:ext cx="822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603360" y="1434960"/>
            <a:ext cx="8226360" cy="3157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833400" y="2759040"/>
            <a:ext cx="2282760" cy="1833480"/>
          </a:xfrm>
          <a:prstGeom prst="rect">
            <a:avLst/>
          </a:prstGeom>
          <a:solidFill>
            <a:srgbClr val="00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573360" y="2227320"/>
            <a:ext cx="2286000" cy="2365200"/>
          </a:xfrm>
          <a:prstGeom prst="rect">
            <a:avLst/>
          </a:prstGeom>
          <a:solidFill>
            <a:srgbClr val="00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6316560" y="2023920"/>
            <a:ext cx="2282760" cy="2568600"/>
          </a:xfrm>
          <a:prstGeom prst="rect">
            <a:avLst/>
          </a:prstGeom>
          <a:solidFill>
            <a:srgbClr val="00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603360" y="1434960"/>
            <a:ext cx="1440" cy="3157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52600" y="45925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52600" y="40672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52600" y="354168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552600" y="301464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52600" y="24876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52600" y="196200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52600" y="143496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603360" y="4592520"/>
            <a:ext cx="822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603360" y="45921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3344760" y="45921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6087960" y="45921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8829720" y="45921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081080" y="525600"/>
            <a:ext cx="7601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centage of the cancelled projects the examined projects 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139560" y="857160"/>
            <a:ext cx="345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y measures by 31.05.2006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755720" y="3463920"/>
            <a:ext cx="436680" cy="42228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31680"/>
            <a:ext cx="1224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858320" y="353052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498920" y="3198960"/>
            <a:ext cx="434880" cy="42228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0" y="31680"/>
            <a:ext cx="1224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599720" y="326556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7240680" y="3097080"/>
            <a:ext cx="434880" cy="42228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0" y="31680"/>
            <a:ext cx="1224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7341480" y="316404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94120" y="446868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94120" y="394344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204120" y="341784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04120" y="28926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04120" y="23637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204120" y="183816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04120" y="131292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39640" y="4800600"/>
            <a:ext cx="2634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Investments in agricultural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holding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130920" y="4800600"/>
            <a:ext cx="2904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Improving processing and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marketing of agricultural and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fishery product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964120" y="4800600"/>
            <a:ext cx="31737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Development and diversification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of economic activities, providing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for multiple activities and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alternative income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454280" y="6081840"/>
            <a:ext cx="99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"/>
          <p:cNvSpPr/>
          <p:nvPr/>
        </p:nvSpPr>
        <p:spPr>
          <a:xfrm>
            <a:off x="420840" y="4851360"/>
            <a:ext cx="885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420840" y="4344840"/>
            <a:ext cx="885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420840" y="3840120"/>
            <a:ext cx="885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20840" y="3332160"/>
            <a:ext cx="885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420840" y="2827440"/>
            <a:ext cx="885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420840" y="2320920"/>
            <a:ext cx="885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420840" y="1816200"/>
            <a:ext cx="885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20840" y="1308240"/>
            <a:ext cx="885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1306440" y="1612800"/>
            <a:ext cx="1181160" cy="3238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259160" y="3840120"/>
            <a:ext cx="1181160" cy="10112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7211880" y="3433680"/>
            <a:ext cx="1181160" cy="1417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20840" y="1308240"/>
            <a:ext cx="1440" cy="354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372960" y="4851360"/>
            <a:ext cx="47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372960" y="4344840"/>
            <a:ext cx="47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372960" y="3840120"/>
            <a:ext cx="47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72960" y="333216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72960" y="282744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2960" y="232092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72960" y="181620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72960" y="1308240"/>
            <a:ext cx="47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1371240" y="249120"/>
            <a:ext cx="7044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pproved, but incomplete projects and sanctioned projects - 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562840" y="552600"/>
            <a:ext cx="4170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tribution by measures 31.05.2004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662960" y="3938760"/>
            <a:ext cx="27612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7751520" y="40021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710240" y="4141800"/>
            <a:ext cx="27612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4797000" y="4205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757520" y="3029040"/>
            <a:ext cx="276120" cy="406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845720" y="3090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62080" y="4741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262080" y="4233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76040" y="3728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176040" y="32227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76040" y="2717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76040" y="2209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76040" y="1704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76040" y="1198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33200" y="5011560"/>
            <a:ext cx="3134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”Investments in agricultural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ldings”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421800" y="5029200"/>
            <a:ext cx="284004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Measure ”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ing processing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marketing of agricultural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fishery product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357240" y="5029200"/>
            <a:ext cx="279900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Measure ”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ment and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ersification of economic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ies, providing for multipl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ies and alternative incom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rot="16200000">
            <a:off x="-210240" y="287784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"/>
          <p:cNvSpPr/>
          <p:nvPr/>
        </p:nvSpPr>
        <p:spPr>
          <a:xfrm>
            <a:off x="1025640" y="5305320"/>
            <a:ext cx="7626240" cy="920880"/>
          </a:xfrm>
          <a:custGeom>
            <a:avLst/>
            <a:gdLst/>
            <a:ahLst/>
            <a:rect l="l" t="t" r="r" b="b"/>
            <a:pathLst>
              <a:path w="9607" h="580">
                <a:moveTo>
                  <a:pt x="0" y="580"/>
                </a:moveTo>
                <a:lnTo>
                  <a:pt x="1292" y="0"/>
                </a:lnTo>
                <a:lnTo>
                  <a:pt x="9607" y="0"/>
                </a:lnTo>
                <a:lnTo>
                  <a:pt x="8315" y="580"/>
                </a:lnTo>
                <a:lnTo>
                  <a:pt x="0" y="58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025640" y="1311120"/>
            <a:ext cx="1025280" cy="4915080"/>
          </a:xfrm>
          <a:custGeom>
            <a:avLst/>
            <a:gdLst/>
            <a:ahLst/>
            <a:rect l="l" t="t" r="r" b="b"/>
            <a:pathLst>
              <a:path w="1292" h="3096">
                <a:moveTo>
                  <a:pt x="0" y="3096"/>
                </a:moveTo>
                <a:lnTo>
                  <a:pt x="0" y="580"/>
                </a:lnTo>
                <a:lnTo>
                  <a:pt x="1292" y="0"/>
                </a:lnTo>
                <a:lnTo>
                  <a:pt x="1292" y="2516"/>
                </a:lnTo>
                <a:lnTo>
                  <a:pt x="0" y="309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2050920" y="1311120"/>
            <a:ext cx="6600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025640" y="5305320"/>
            <a:ext cx="7626240" cy="920880"/>
          </a:xfrm>
          <a:custGeom>
            <a:avLst/>
            <a:gdLst/>
            <a:ahLst/>
            <a:rect l="l" t="t" r="r" b="b"/>
            <a:pathLst>
              <a:path w="5058" h="515">
                <a:moveTo>
                  <a:pt x="0" y="515"/>
                </a:moveTo>
                <a:lnTo>
                  <a:pt x="680" y="0"/>
                </a:lnTo>
                <a:lnTo>
                  <a:pt x="50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025640" y="4734000"/>
            <a:ext cx="7626240" cy="922320"/>
          </a:xfrm>
          <a:custGeom>
            <a:avLst/>
            <a:gdLst/>
            <a:ahLst/>
            <a:rect l="l" t="t" r="r" b="b"/>
            <a:pathLst>
              <a:path w="5058" h="515">
                <a:moveTo>
                  <a:pt x="0" y="515"/>
                </a:moveTo>
                <a:lnTo>
                  <a:pt x="680" y="0"/>
                </a:lnTo>
                <a:lnTo>
                  <a:pt x="50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025640" y="4164120"/>
            <a:ext cx="7626240" cy="920520"/>
          </a:xfrm>
          <a:custGeom>
            <a:avLst/>
            <a:gdLst/>
            <a:ahLst/>
            <a:rect l="l" t="t" r="r" b="b"/>
            <a:pathLst>
              <a:path w="5058" h="515">
                <a:moveTo>
                  <a:pt x="0" y="515"/>
                </a:moveTo>
                <a:lnTo>
                  <a:pt x="680" y="0"/>
                </a:lnTo>
                <a:lnTo>
                  <a:pt x="50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1025640" y="3594240"/>
            <a:ext cx="7626240" cy="920520"/>
          </a:xfrm>
          <a:custGeom>
            <a:avLst/>
            <a:gdLst/>
            <a:ahLst/>
            <a:rect l="l" t="t" r="r" b="b"/>
            <a:pathLst>
              <a:path w="5058" h="515">
                <a:moveTo>
                  <a:pt x="0" y="515"/>
                </a:moveTo>
                <a:lnTo>
                  <a:pt x="680" y="0"/>
                </a:lnTo>
                <a:lnTo>
                  <a:pt x="50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1025640" y="3022560"/>
            <a:ext cx="7626240" cy="920880"/>
          </a:xfrm>
          <a:custGeom>
            <a:avLst/>
            <a:gdLst/>
            <a:ahLst/>
            <a:rect l="l" t="t" r="r" b="b"/>
            <a:pathLst>
              <a:path w="5058" h="515">
                <a:moveTo>
                  <a:pt x="0" y="515"/>
                </a:moveTo>
                <a:lnTo>
                  <a:pt x="680" y="0"/>
                </a:lnTo>
                <a:lnTo>
                  <a:pt x="50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025640" y="2452680"/>
            <a:ext cx="7626240" cy="920880"/>
          </a:xfrm>
          <a:custGeom>
            <a:avLst/>
            <a:gdLst/>
            <a:ahLst/>
            <a:rect l="l" t="t" r="r" b="b"/>
            <a:pathLst>
              <a:path w="5058" h="515">
                <a:moveTo>
                  <a:pt x="0" y="515"/>
                </a:moveTo>
                <a:lnTo>
                  <a:pt x="680" y="0"/>
                </a:lnTo>
                <a:lnTo>
                  <a:pt x="50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1025640" y="1882800"/>
            <a:ext cx="7626240" cy="920880"/>
          </a:xfrm>
          <a:custGeom>
            <a:avLst/>
            <a:gdLst/>
            <a:ahLst/>
            <a:rect l="l" t="t" r="r" b="b"/>
            <a:pathLst>
              <a:path w="5058" h="515">
                <a:moveTo>
                  <a:pt x="0" y="515"/>
                </a:moveTo>
                <a:lnTo>
                  <a:pt x="680" y="0"/>
                </a:lnTo>
                <a:lnTo>
                  <a:pt x="50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025640" y="1311120"/>
            <a:ext cx="7626240" cy="920880"/>
          </a:xfrm>
          <a:custGeom>
            <a:avLst/>
            <a:gdLst/>
            <a:ahLst/>
            <a:rect l="l" t="t" r="r" b="b"/>
            <a:pathLst>
              <a:path w="5058" h="515">
                <a:moveTo>
                  <a:pt x="0" y="515"/>
                </a:moveTo>
                <a:lnTo>
                  <a:pt x="680" y="0"/>
                </a:lnTo>
                <a:lnTo>
                  <a:pt x="50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025640" y="5305320"/>
            <a:ext cx="7626240" cy="920880"/>
          </a:xfrm>
          <a:custGeom>
            <a:avLst/>
            <a:gdLst/>
            <a:ahLst/>
            <a:rect l="l" t="t" r="r" b="b"/>
            <a:pathLst>
              <a:path w="9607" h="580">
                <a:moveTo>
                  <a:pt x="9607" y="0"/>
                </a:moveTo>
                <a:lnTo>
                  <a:pt x="8315" y="580"/>
                </a:lnTo>
                <a:lnTo>
                  <a:pt x="0" y="580"/>
                </a:lnTo>
                <a:lnTo>
                  <a:pt x="1292" y="0"/>
                </a:lnTo>
                <a:lnTo>
                  <a:pt x="960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1025640" y="1311120"/>
            <a:ext cx="1025280" cy="4915080"/>
          </a:xfrm>
          <a:custGeom>
            <a:avLst/>
            <a:gdLst/>
            <a:ahLst/>
            <a:rect l="l" t="t" r="r" b="b"/>
            <a:pathLst>
              <a:path w="1292" h="3096">
                <a:moveTo>
                  <a:pt x="0" y="3096"/>
                </a:moveTo>
                <a:lnTo>
                  <a:pt x="0" y="580"/>
                </a:lnTo>
                <a:lnTo>
                  <a:pt x="1292" y="0"/>
                </a:lnTo>
                <a:lnTo>
                  <a:pt x="1292" y="2516"/>
                </a:lnTo>
                <a:lnTo>
                  <a:pt x="0" y="309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050920" y="1311120"/>
            <a:ext cx="6600960" cy="399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433680" y="5295960"/>
            <a:ext cx="409680" cy="652320"/>
          </a:xfrm>
          <a:custGeom>
            <a:avLst/>
            <a:gdLst/>
            <a:ahLst/>
            <a:rect l="l" t="t" r="r" b="b"/>
            <a:pathLst>
              <a:path w="516" h="411">
                <a:moveTo>
                  <a:pt x="0" y="411"/>
                </a:moveTo>
                <a:lnTo>
                  <a:pt x="0" y="232"/>
                </a:lnTo>
                <a:lnTo>
                  <a:pt x="516" y="0"/>
                </a:lnTo>
                <a:lnTo>
                  <a:pt x="516" y="179"/>
                </a:lnTo>
                <a:lnTo>
                  <a:pt x="0" y="411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233440" y="5664240"/>
            <a:ext cx="1200240" cy="284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233440" y="5295960"/>
            <a:ext cx="1609920" cy="368280"/>
          </a:xfrm>
          <a:custGeom>
            <a:avLst/>
            <a:gdLst/>
            <a:ahLst/>
            <a:rect l="l" t="t" r="r" b="b"/>
            <a:pathLst>
              <a:path w="2028" h="232">
                <a:moveTo>
                  <a:pt x="1512" y="232"/>
                </a:moveTo>
                <a:lnTo>
                  <a:pt x="2028" y="0"/>
                </a:lnTo>
                <a:lnTo>
                  <a:pt x="516" y="0"/>
                </a:lnTo>
                <a:lnTo>
                  <a:pt x="0" y="232"/>
                </a:lnTo>
                <a:lnTo>
                  <a:pt x="1512" y="232"/>
                </a:lnTo>
                <a:close/>
              </a:path>
            </a:pathLst>
          </a:custGeom>
          <a:solidFill>
            <a:srgbClr val="bfb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4633920" y="4165560"/>
            <a:ext cx="409680" cy="1782720"/>
          </a:xfrm>
          <a:custGeom>
            <a:avLst/>
            <a:gdLst/>
            <a:ahLst/>
            <a:rect l="l" t="t" r="r" b="b"/>
            <a:pathLst>
              <a:path w="517" h="1123">
                <a:moveTo>
                  <a:pt x="0" y="1123"/>
                </a:moveTo>
                <a:lnTo>
                  <a:pt x="0" y="232"/>
                </a:lnTo>
                <a:lnTo>
                  <a:pt x="517" y="0"/>
                </a:lnTo>
                <a:lnTo>
                  <a:pt x="517" y="891"/>
                </a:lnTo>
                <a:lnTo>
                  <a:pt x="0" y="1123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3433680" y="4533840"/>
            <a:ext cx="1200240" cy="1414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433680" y="4165560"/>
            <a:ext cx="1609920" cy="368280"/>
          </a:xfrm>
          <a:custGeom>
            <a:avLst/>
            <a:gdLst/>
            <a:ahLst/>
            <a:rect l="l" t="t" r="r" b="b"/>
            <a:pathLst>
              <a:path w="2028" h="232">
                <a:moveTo>
                  <a:pt x="1511" y="232"/>
                </a:moveTo>
                <a:lnTo>
                  <a:pt x="2028" y="0"/>
                </a:lnTo>
                <a:lnTo>
                  <a:pt x="516" y="0"/>
                </a:lnTo>
                <a:lnTo>
                  <a:pt x="0" y="232"/>
                </a:lnTo>
                <a:lnTo>
                  <a:pt x="1511" y="232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834160" y="1695600"/>
            <a:ext cx="409320" cy="4252680"/>
          </a:xfrm>
          <a:custGeom>
            <a:avLst/>
            <a:gdLst/>
            <a:ahLst/>
            <a:rect l="l" t="t" r="r" b="b"/>
            <a:pathLst>
              <a:path w="517" h="2679">
                <a:moveTo>
                  <a:pt x="0" y="2679"/>
                </a:moveTo>
                <a:lnTo>
                  <a:pt x="0" y="232"/>
                </a:lnTo>
                <a:lnTo>
                  <a:pt x="517" y="0"/>
                </a:lnTo>
                <a:lnTo>
                  <a:pt x="517" y="2447"/>
                </a:lnTo>
                <a:lnTo>
                  <a:pt x="0" y="2679"/>
                </a:lnTo>
                <a:close/>
              </a:path>
            </a:pathLst>
          </a:custGeom>
          <a:solidFill>
            <a:srgbClr val="4d1a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4633920" y="2063880"/>
            <a:ext cx="1200240" cy="38844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4633920" y="1695600"/>
            <a:ext cx="1609560" cy="368280"/>
          </a:xfrm>
          <a:custGeom>
            <a:avLst/>
            <a:gdLst/>
            <a:ahLst/>
            <a:rect l="l" t="t" r="r" b="b"/>
            <a:pathLst>
              <a:path w="2029" h="232">
                <a:moveTo>
                  <a:pt x="1512" y="232"/>
                </a:moveTo>
                <a:lnTo>
                  <a:pt x="2029" y="0"/>
                </a:lnTo>
                <a:lnTo>
                  <a:pt x="517" y="0"/>
                </a:lnTo>
                <a:lnTo>
                  <a:pt x="0" y="232"/>
                </a:lnTo>
                <a:lnTo>
                  <a:pt x="1512" y="232"/>
                </a:lnTo>
                <a:close/>
              </a:path>
            </a:pathLst>
          </a:custGeom>
          <a:solidFill>
            <a:srgbClr val="73264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7034040" y="2540160"/>
            <a:ext cx="409680" cy="3408120"/>
          </a:xfrm>
          <a:custGeom>
            <a:avLst/>
            <a:gdLst/>
            <a:ahLst/>
            <a:rect l="l" t="t" r="r" b="b"/>
            <a:pathLst>
              <a:path w="517" h="2147">
                <a:moveTo>
                  <a:pt x="0" y="2147"/>
                </a:moveTo>
                <a:lnTo>
                  <a:pt x="0" y="232"/>
                </a:lnTo>
                <a:lnTo>
                  <a:pt x="517" y="0"/>
                </a:lnTo>
                <a:lnTo>
                  <a:pt x="517" y="1915"/>
                </a:lnTo>
                <a:lnTo>
                  <a:pt x="0" y="2147"/>
                </a:lnTo>
                <a:close/>
              </a:path>
            </a:pathLst>
          </a:cu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5834160" y="2908440"/>
            <a:ext cx="1199880" cy="3039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5834160" y="2540160"/>
            <a:ext cx="1609560" cy="368280"/>
          </a:xfrm>
          <a:custGeom>
            <a:avLst/>
            <a:gdLst/>
            <a:ahLst/>
            <a:rect l="l" t="t" r="r" b="b"/>
            <a:pathLst>
              <a:path w="2029" h="232">
                <a:moveTo>
                  <a:pt x="1512" y="232"/>
                </a:moveTo>
                <a:lnTo>
                  <a:pt x="2029" y="0"/>
                </a:lnTo>
                <a:lnTo>
                  <a:pt x="517" y="0"/>
                </a:lnTo>
                <a:lnTo>
                  <a:pt x="0" y="232"/>
                </a:lnTo>
                <a:lnTo>
                  <a:pt x="1512" y="232"/>
                </a:lnTo>
                <a:close/>
              </a:path>
            </a:pathLst>
          </a:custGeom>
          <a:solidFill>
            <a:srgbClr val="00b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2860560" y="5051520"/>
            <a:ext cx="352440" cy="493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-285840" y="58680"/>
            <a:ext cx="1429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967120" y="5124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770280" y="5037120"/>
            <a:ext cx="492120" cy="49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-285840" y="58680"/>
            <a:ext cx="1429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3874680" y="511020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062680" y="2430360"/>
            <a:ext cx="49356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168520" y="250524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168960" y="3990960"/>
            <a:ext cx="493920" cy="49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-285840" y="58680"/>
            <a:ext cx="1429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275160" y="406404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3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1025640" y="2231640"/>
            <a:ext cx="1440" cy="3994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963720" y="62262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963720" y="5656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963720" y="50846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963720" y="451476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H="1">
            <a:off x="963720" y="394344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H="1">
            <a:off x="963720" y="337356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963720" y="2803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963720" y="22320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891360" y="61023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695160" y="553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695160" y="4960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695160" y="4390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695160" y="3821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95160" y="324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95160" y="26798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95160" y="2109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rot="16200000">
            <a:off x="-538920" y="3808440"/>
            <a:ext cx="199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umber of Projects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146320" y="576360"/>
            <a:ext cx="6387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gress in the implementation of Programme SAPARD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772080" y="876240"/>
            <a:ext cx="234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number of projects)</a:t>
            </a:r>
            <a:endParaRPr b="0" lang="en-US" sz="1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2017800" y="1574640"/>
            <a:ext cx="2313000" cy="1467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084400" y="1689120"/>
            <a:ext cx="139680" cy="1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276280" y="1619280"/>
            <a:ext cx="1689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y 31.12.2001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084400" y="2055960"/>
            <a:ext cx="139680" cy="1666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2393280" y="1986120"/>
            <a:ext cx="208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1.01-31.12.2002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2084400" y="2422440"/>
            <a:ext cx="139680" cy="1666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2394720" y="2352600"/>
            <a:ext cx="2161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1.01- 31.12.2003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2084400" y="2789280"/>
            <a:ext cx="139680" cy="164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2397960" y="2719440"/>
            <a:ext cx="2311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1.01. - 01.06.2004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419120" y="3390840"/>
            <a:ext cx="1077840" cy="176544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712960" y="2124000"/>
            <a:ext cx="1076400" cy="303228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297400" y="4678200"/>
            <a:ext cx="1076400" cy="47808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89800" y="5127480"/>
            <a:ext cx="1076400" cy="2880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881840" y="5126040"/>
            <a:ext cx="1076400" cy="3024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312920" y="1468440"/>
            <a:ext cx="1440" cy="368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243080" y="51562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243080" y="46292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243080" y="410364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243080" y="357516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3080" y="304956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43080" y="252252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43080" y="199692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243080" y="14684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312920" y="5156280"/>
            <a:ext cx="7753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312920" y="51559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604960" y="51559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3897360" y="51559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189400" y="51559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6481800" y="51559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773840" y="515592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9066240" y="515592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260720" y="598320"/>
            <a:ext cx="77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d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s expenditure  (EU + National government+Private Sector)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513960" y="853920"/>
            <a:ext cx="266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measures by  01.06.2004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45000" y="1109520"/>
            <a:ext cx="1033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49440" y="4083120"/>
            <a:ext cx="815760" cy="382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93720" y="4206960"/>
            <a:ext cx="114480" cy="13968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809360" y="4141800"/>
            <a:ext cx="6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5,2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841480" y="3449520"/>
            <a:ext cx="816120" cy="382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86120" y="3573360"/>
            <a:ext cx="114120" cy="13968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101760" y="3510000"/>
            <a:ext cx="6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5,7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478480" y="4727520"/>
            <a:ext cx="714240" cy="382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522760" y="4851360"/>
            <a:ext cx="114480" cy="13968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37680" y="478620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,7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128080" y="4699080"/>
            <a:ext cx="612720" cy="382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172360" y="4822920"/>
            <a:ext cx="115920" cy="13968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389080" y="47577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0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773760" y="4695840"/>
            <a:ext cx="612720" cy="382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18400" y="4819680"/>
            <a:ext cx="115920" cy="13968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035120" y="47545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59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189320" y="4797360"/>
            <a:ext cx="612720" cy="382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233960" y="4921200"/>
            <a:ext cx="115920" cy="13968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448880" y="48560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5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088640" y="50036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851040" y="447516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51040" y="394956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51040" y="342252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51040" y="289548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51040" y="23684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51040" y="184320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51040" y="131436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296360" y="533412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ure 1.1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29960" y="533880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 1.2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122000" y="533880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 1.4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414400" y="533880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 2.1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706440" y="533880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 2.2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98840" y="533880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s 2.3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6200000">
            <a:off x="-150840" y="2849400"/>
            <a:ext cx="162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llion lev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158840" y="3319560"/>
            <a:ext cx="36432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158840" y="3319560"/>
            <a:ext cx="36432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81160" y="1671480"/>
            <a:ext cx="1779840" cy="4588200"/>
          </a:xfrm>
          <a:custGeom>
            <a:avLst/>
            <a:gdLst/>
            <a:ahLst/>
            <a:rect l="l" t="t" r="r" b="b"/>
            <a:pathLst>
              <a:path w="2243" h="2890">
                <a:moveTo>
                  <a:pt x="0" y="2890"/>
                </a:moveTo>
                <a:lnTo>
                  <a:pt x="0" y="1038"/>
                </a:lnTo>
                <a:lnTo>
                  <a:pt x="2243" y="0"/>
                </a:lnTo>
                <a:lnTo>
                  <a:pt x="2243" y="1852"/>
                </a:lnTo>
                <a:lnTo>
                  <a:pt x="0" y="2890"/>
                </a:lnTo>
                <a:close/>
              </a:path>
            </a:pathLst>
          </a:custGeom>
          <a:solidFill>
            <a:srgbClr val="4d4d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940040" y="3319560"/>
            <a:ext cx="1041120" cy="2940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940040" y="1671480"/>
            <a:ext cx="2820960" cy="1648080"/>
          </a:xfrm>
          <a:custGeom>
            <a:avLst/>
            <a:gdLst/>
            <a:ahLst/>
            <a:rect l="l" t="t" r="r" b="b"/>
            <a:pathLst>
              <a:path w="3555" h="1038">
                <a:moveTo>
                  <a:pt x="1312" y="1038"/>
                </a:moveTo>
                <a:lnTo>
                  <a:pt x="3555" y="0"/>
                </a:lnTo>
                <a:lnTo>
                  <a:pt x="2244" y="0"/>
                </a:lnTo>
                <a:lnTo>
                  <a:pt x="0" y="1038"/>
                </a:lnTo>
                <a:lnTo>
                  <a:pt x="1312" y="1038"/>
                </a:lnTo>
                <a:close/>
              </a:path>
            </a:pathLst>
          </a:custGeom>
          <a:solidFill>
            <a:srgbClr val="7373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021200" y="2124000"/>
            <a:ext cx="1781280" cy="4135680"/>
          </a:xfrm>
          <a:custGeom>
            <a:avLst/>
            <a:gdLst/>
            <a:ahLst/>
            <a:rect l="l" t="t" r="r" b="b"/>
            <a:pathLst>
              <a:path w="2244" h="2605">
                <a:moveTo>
                  <a:pt x="0" y="2605"/>
                </a:moveTo>
                <a:lnTo>
                  <a:pt x="0" y="1038"/>
                </a:lnTo>
                <a:lnTo>
                  <a:pt x="2244" y="0"/>
                </a:lnTo>
                <a:lnTo>
                  <a:pt x="2244" y="1567"/>
                </a:lnTo>
                <a:lnTo>
                  <a:pt x="0" y="2605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981160" y="3772080"/>
            <a:ext cx="1040040" cy="2487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981160" y="2124000"/>
            <a:ext cx="2821320" cy="1648080"/>
          </a:xfrm>
          <a:custGeom>
            <a:avLst/>
            <a:gdLst/>
            <a:ahLst/>
            <a:rect l="l" t="t" r="r" b="b"/>
            <a:pathLst>
              <a:path w="3555" h="1038">
                <a:moveTo>
                  <a:pt x="1311" y="1038"/>
                </a:moveTo>
                <a:lnTo>
                  <a:pt x="3555" y="0"/>
                </a:lnTo>
                <a:lnTo>
                  <a:pt x="2243" y="0"/>
                </a:lnTo>
                <a:lnTo>
                  <a:pt x="0" y="1038"/>
                </a:lnTo>
                <a:lnTo>
                  <a:pt x="1311" y="1038"/>
                </a:lnTo>
                <a:close/>
              </a:path>
            </a:pathLst>
          </a:custGeom>
          <a:solidFill>
            <a:srgbClr val="00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081160" y="3468600"/>
            <a:ext cx="884160" cy="452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33720" y="3614760"/>
            <a:ext cx="142920" cy="173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50920" y="439560"/>
            <a:ext cx="13500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91840" y="353520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92320" y="4237200"/>
            <a:ext cx="946440" cy="45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044880" y="4383000"/>
            <a:ext cx="142920" cy="174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50920" y="439560"/>
            <a:ext cx="13500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303000" y="4303800"/>
            <a:ext cx="793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4,6%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1440" y="880920"/>
            <a:ext cx="69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otiating the aid of Programme SAPARD (EU + National government)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2320" y="1143000"/>
            <a:ext cx="619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01.06.2004 according to the financial plan for 2000-2003(in %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64120" y="4983120"/>
            <a:ext cx="283392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867280" y="3048120"/>
            <a:ext cx="2832120" cy="1930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119640" y="3159000"/>
            <a:ext cx="100080" cy="122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252120" y="3103560"/>
            <a:ext cx="24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ubsidies stipulated (EU +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938920" y="3352680"/>
            <a:ext cx="286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tional government) for 2000 -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37120" y="3581280"/>
            <a:ext cx="279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3 according to the financial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096240" y="3809880"/>
            <a:ext cx="259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n of Programme SAPARD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119640" y="4124160"/>
            <a:ext cx="100080" cy="120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253560" y="4067280"/>
            <a:ext cx="235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ubsidies approved (EU +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253560" y="4286160"/>
            <a:ext cx="201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tional government) 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757080" y="2400480"/>
            <a:ext cx="65995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57080" y="2400480"/>
            <a:ext cx="65995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81200" y="1636560"/>
            <a:ext cx="903240" cy="3938760"/>
          </a:xfrm>
          <a:custGeom>
            <a:avLst/>
            <a:gdLst/>
            <a:ahLst/>
            <a:rect l="l" t="t" r="r" b="b"/>
            <a:pathLst>
              <a:path w="1137" h="2481">
                <a:moveTo>
                  <a:pt x="0" y="2481"/>
                </a:moveTo>
                <a:lnTo>
                  <a:pt x="0" y="481"/>
                </a:lnTo>
                <a:lnTo>
                  <a:pt x="1137" y="0"/>
                </a:lnTo>
                <a:lnTo>
                  <a:pt x="1137" y="2000"/>
                </a:lnTo>
                <a:lnTo>
                  <a:pt x="0" y="2481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154160" y="2400480"/>
            <a:ext cx="527040" cy="3174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154160" y="1636560"/>
            <a:ext cx="1430280" cy="763920"/>
          </a:xfrm>
          <a:custGeom>
            <a:avLst/>
            <a:gdLst/>
            <a:ahLst/>
            <a:rect l="l" t="t" r="r" b="b"/>
            <a:pathLst>
              <a:path w="1801" h="481">
                <a:moveTo>
                  <a:pt x="664" y="481"/>
                </a:moveTo>
                <a:lnTo>
                  <a:pt x="1801" y="0"/>
                </a:lnTo>
                <a:lnTo>
                  <a:pt x="1137" y="0"/>
                </a:lnTo>
                <a:lnTo>
                  <a:pt x="0" y="481"/>
                </a:lnTo>
                <a:lnTo>
                  <a:pt x="664" y="481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046160" y="3924360"/>
            <a:ext cx="719280" cy="4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-252360" y="71280"/>
            <a:ext cx="13788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62080" y="399420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002040" y="1636560"/>
            <a:ext cx="901800" cy="3938760"/>
          </a:xfrm>
          <a:custGeom>
            <a:avLst/>
            <a:gdLst/>
            <a:ahLst/>
            <a:rect l="l" t="t" r="r" b="b"/>
            <a:pathLst>
              <a:path w="1137" h="2481">
                <a:moveTo>
                  <a:pt x="0" y="2481"/>
                </a:moveTo>
                <a:lnTo>
                  <a:pt x="0" y="481"/>
                </a:lnTo>
                <a:lnTo>
                  <a:pt x="1137" y="0"/>
                </a:lnTo>
                <a:lnTo>
                  <a:pt x="1137" y="2000"/>
                </a:lnTo>
                <a:lnTo>
                  <a:pt x="0" y="2481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473200" y="2400480"/>
            <a:ext cx="528840" cy="3174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73200" y="1636560"/>
            <a:ext cx="1430640" cy="763920"/>
          </a:xfrm>
          <a:custGeom>
            <a:avLst/>
            <a:gdLst/>
            <a:ahLst/>
            <a:rect l="l" t="t" r="r" b="b"/>
            <a:pathLst>
              <a:path w="1801" h="481">
                <a:moveTo>
                  <a:pt x="664" y="481"/>
                </a:moveTo>
                <a:lnTo>
                  <a:pt x="1801" y="0"/>
                </a:lnTo>
                <a:lnTo>
                  <a:pt x="1137" y="0"/>
                </a:lnTo>
                <a:lnTo>
                  <a:pt x="0" y="481"/>
                </a:lnTo>
                <a:lnTo>
                  <a:pt x="664" y="481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94000" y="3936960"/>
            <a:ext cx="718920" cy="46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-252360" y="71280"/>
            <a:ext cx="13788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509920" y="400680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321080" y="1636560"/>
            <a:ext cx="901800" cy="3938760"/>
          </a:xfrm>
          <a:custGeom>
            <a:avLst/>
            <a:gdLst/>
            <a:ahLst/>
            <a:rect l="l" t="t" r="r" b="b"/>
            <a:pathLst>
              <a:path w="1137" h="2481">
                <a:moveTo>
                  <a:pt x="0" y="2481"/>
                </a:moveTo>
                <a:lnTo>
                  <a:pt x="0" y="481"/>
                </a:lnTo>
                <a:lnTo>
                  <a:pt x="1137" y="0"/>
                </a:lnTo>
                <a:lnTo>
                  <a:pt x="1137" y="2000"/>
                </a:lnTo>
                <a:lnTo>
                  <a:pt x="0" y="2481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94040" y="2400480"/>
            <a:ext cx="527040" cy="3174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794040" y="1636560"/>
            <a:ext cx="1428840" cy="763920"/>
          </a:xfrm>
          <a:custGeom>
            <a:avLst/>
            <a:gdLst/>
            <a:ahLst/>
            <a:rect l="l" t="t" r="r" b="b"/>
            <a:pathLst>
              <a:path w="1801" h="481">
                <a:moveTo>
                  <a:pt x="664" y="481"/>
                </a:moveTo>
                <a:lnTo>
                  <a:pt x="1801" y="0"/>
                </a:lnTo>
                <a:lnTo>
                  <a:pt x="1136" y="0"/>
                </a:lnTo>
                <a:lnTo>
                  <a:pt x="0" y="481"/>
                </a:lnTo>
                <a:lnTo>
                  <a:pt x="664" y="481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49680" y="4016520"/>
            <a:ext cx="719280" cy="47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-252360" y="71280"/>
            <a:ext cx="13788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765600" y="4086360"/>
            <a:ext cx="71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640480" y="1714680"/>
            <a:ext cx="903240" cy="3860640"/>
          </a:xfrm>
          <a:custGeom>
            <a:avLst/>
            <a:gdLst/>
            <a:ahLst/>
            <a:rect l="l" t="t" r="r" b="b"/>
            <a:pathLst>
              <a:path w="1136" h="2432">
                <a:moveTo>
                  <a:pt x="0" y="2432"/>
                </a:moveTo>
                <a:lnTo>
                  <a:pt x="0" y="482"/>
                </a:lnTo>
                <a:lnTo>
                  <a:pt x="1136" y="0"/>
                </a:lnTo>
                <a:lnTo>
                  <a:pt x="1136" y="1951"/>
                </a:lnTo>
                <a:lnTo>
                  <a:pt x="0" y="2432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13440" y="2479680"/>
            <a:ext cx="527040" cy="3095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113440" y="1714680"/>
            <a:ext cx="1430280" cy="765000"/>
          </a:xfrm>
          <a:custGeom>
            <a:avLst/>
            <a:gdLst/>
            <a:ahLst/>
            <a:rect l="l" t="t" r="r" b="b"/>
            <a:pathLst>
              <a:path w="1801" h="482">
                <a:moveTo>
                  <a:pt x="665" y="482"/>
                </a:moveTo>
                <a:lnTo>
                  <a:pt x="1801" y="0"/>
                </a:lnTo>
                <a:lnTo>
                  <a:pt x="1137" y="0"/>
                </a:lnTo>
                <a:lnTo>
                  <a:pt x="0" y="482"/>
                </a:lnTo>
                <a:lnTo>
                  <a:pt x="665" y="482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113440" y="4025880"/>
            <a:ext cx="577800" cy="46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-252360" y="71280"/>
            <a:ext cx="13788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226120" y="40957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961320" y="3178080"/>
            <a:ext cx="901440" cy="2397240"/>
          </a:xfrm>
          <a:custGeom>
            <a:avLst/>
            <a:gdLst/>
            <a:ahLst/>
            <a:rect l="l" t="t" r="r" b="b"/>
            <a:pathLst>
              <a:path w="1137" h="1510">
                <a:moveTo>
                  <a:pt x="0" y="1510"/>
                </a:moveTo>
                <a:lnTo>
                  <a:pt x="0" y="481"/>
                </a:lnTo>
                <a:lnTo>
                  <a:pt x="1137" y="0"/>
                </a:lnTo>
                <a:lnTo>
                  <a:pt x="1137" y="1029"/>
                </a:lnTo>
                <a:lnTo>
                  <a:pt x="0" y="1510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434280" y="3941640"/>
            <a:ext cx="527040" cy="16336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34280" y="3178080"/>
            <a:ext cx="1428480" cy="763560"/>
          </a:xfrm>
          <a:custGeom>
            <a:avLst/>
            <a:gdLst/>
            <a:ahLst/>
            <a:rect l="l" t="t" r="r" b="b"/>
            <a:pathLst>
              <a:path w="1801" h="481">
                <a:moveTo>
                  <a:pt x="664" y="481"/>
                </a:moveTo>
                <a:lnTo>
                  <a:pt x="1801" y="0"/>
                </a:lnTo>
                <a:lnTo>
                  <a:pt x="1137" y="0"/>
                </a:lnTo>
                <a:lnTo>
                  <a:pt x="0" y="481"/>
                </a:lnTo>
                <a:lnTo>
                  <a:pt x="664" y="481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424560" y="4605480"/>
            <a:ext cx="577800" cy="46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-252360" y="71280"/>
            <a:ext cx="137880" cy="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537600" y="46753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84680" y="570564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404080" y="570564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724560" y="570564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43960" y="570564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240600" y="5705640"/>
            <a:ext cx="122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-2006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15960" y="533520"/>
            <a:ext cx="7616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sure 1.1. ”Investestments in AH " - projects approved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07320" y="838080"/>
            <a:ext cx="783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otiating the aid of Programme SAPARD (EU + National government)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140840" y="1143000"/>
            <a:ext cx="658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01.06.2004 (in %) according to the financial plan by year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814320" y="2916360"/>
            <a:ext cx="650232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14320" y="2916360"/>
            <a:ext cx="650232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724040" y="2143080"/>
            <a:ext cx="890640" cy="3606840"/>
          </a:xfrm>
          <a:custGeom>
            <a:avLst/>
            <a:gdLst/>
            <a:ahLst/>
            <a:rect l="l" t="t" r="r" b="b"/>
            <a:pathLst>
              <a:path w="1122" h="2272">
                <a:moveTo>
                  <a:pt x="0" y="2272"/>
                </a:moveTo>
                <a:lnTo>
                  <a:pt x="0" y="487"/>
                </a:lnTo>
                <a:lnTo>
                  <a:pt x="1122" y="0"/>
                </a:lnTo>
                <a:lnTo>
                  <a:pt x="1122" y="1786"/>
                </a:lnTo>
                <a:lnTo>
                  <a:pt x="0" y="2272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04920" y="2916360"/>
            <a:ext cx="519120" cy="2833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204920" y="2143080"/>
            <a:ext cx="1409760" cy="773280"/>
          </a:xfrm>
          <a:custGeom>
            <a:avLst/>
            <a:gdLst/>
            <a:ahLst/>
            <a:rect l="l" t="t" r="r" b="b"/>
            <a:pathLst>
              <a:path w="1776" h="487">
                <a:moveTo>
                  <a:pt x="654" y="487"/>
                </a:moveTo>
                <a:lnTo>
                  <a:pt x="1776" y="0"/>
                </a:lnTo>
                <a:lnTo>
                  <a:pt x="1119" y="0"/>
                </a:lnTo>
                <a:lnTo>
                  <a:pt x="0" y="487"/>
                </a:lnTo>
                <a:lnTo>
                  <a:pt x="654" y="487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019160" y="4176720"/>
            <a:ext cx="633600" cy="43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-285840" y="-52560"/>
            <a:ext cx="127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125720" y="424332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24360" y="2143080"/>
            <a:ext cx="890280" cy="3606840"/>
          </a:xfrm>
          <a:custGeom>
            <a:avLst/>
            <a:gdLst/>
            <a:ahLst/>
            <a:rect l="l" t="t" r="r" b="b"/>
            <a:pathLst>
              <a:path w="1122" h="2272">
                <a:moveTo>
                  <a:pt x="0" y="2272"/>
                </a:moveTo>
                <a:lnTo>
                  <a:pt x="0" y="487"/>
                </a:lnTo>
                <a:lnTo>
                  <a:pt x="1122" y="0"/>
                </a:lnTo>
                <a:lnTo>
                  <a:pt x="1122" y="1786"/>
                </a:lnTo>
                <a:lnTo>
                  <a:pt x="0" y="2272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505240" y="2916360"/>
            <a:ext cx="519120" cy="2833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505240" y="2143080"/>
            <a:ext cx="1409400" cy="773280"/>
          </a:xfrm>
          <a:custGeom>
            <a:avLst/>
            <a:gdLst/>
            <a:ahLst/>
            <a:rect l="l" t="t" r="r" b="b"/>
            <a:pathLst>
              <a:path w="1776" h="487">
                <a:moveTo>
                  <a:pt x="654" y="487"/>
                </a:moveTo>
                <a:lnTo>
                  <a:pt x="1776" y="0"/>
                </a:lnTo>
                <a:lnTo>
                  <a:pt x="1121" y="0"/>
                </a:lnTo>
                <a:lnTo>
                  <a:pt x="0" y="487"/>
                </a:lnTo>
                <a:lnTo>
                  <a:pt x="654" y="487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384280" y="4238640"/>
            <a:ext cx="633600" cy="43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-285840" y="-52560"/>
            <a:ext cx="127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91200" y="430524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325760" y="2143080"/>
            <a:ext cx="890640" cy="3606840"/>
          </a:xfrm>
          <a:custGeom>
            <a:avLst/>
            <a:gdLst/>
            <a:ahLst/>
            <a:rect l="l" t="t" r="r" b="b"/>
            <a:pathLst>
              <a:path w="1121" h="2272">
                <a:moveTo>
                  <a:pt x="0" y="2272"/>
                </a:moveTo>
                <a:lnTo>
                  <a:pt x="0" y="487"/>
                </a:lnTo>
                <a:lnTo>
                  <a:pt x="1121" y="0"/>
                </a:lnTo>
                <a:lnTo>
                  <a:pt x="1121" y="1786"/>
                </a:lnTo>
                <a:lnTo>
                  <a:pt x="0" y="2272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805200" y="2916360"/>
            <a:ext cx="520560" cy="2833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805200" y="2143080"/>
            <a:ext cx="1411200" cy="773280"/>
          </a:xfrm>
          <a:custGeom>
            <a:avLst/>
            <a:gdLst/>
            <a:ahLst/>
            <a:rect l="l" t="t" r="r" b="b"/>
            <a:pathLst>
              <a:path w="1778" h="487">
                <a:moveTo>
                  <a:pt x="657" y="487"/>
                </a:moveTo>
                <a:lnTo>
                  <a:pt x="1778" y="0"/>
                </a:lnTo>
                <a:lnTo>
                  <a:pt x="1122" y="0"/>
                </a:lnTo>
                <a:lnTo>
                  <a:pt x="0" y="487"/>
                </a:lnTo>
                <a:lnTo>
                  <a:pt x="657" y="487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621240" y="4286160"/>
            <a:ext cx="634680" cy="43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-285840" y="-52560"/>
            <a:ext cx="127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729240" y="435276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626080" y="2143080"/>
            <a:ext cx="889200" cy="3606840"/>
          </a:xfrm>
          <a:custGeom>
            <a:avLst/>
            <a:gdLst/>
            <a:ahLst/>
            <a:rect l="l" t="t" r="r" b="b"/>
            <a:pathLst>
              <a:path w="1121" h="2272">
                <a:moveTo>
                  <a:pt x="0" y="2272"/>
                </a:moveTo>
                <a:lnTo>
                  <a:pt x="0" y="487"/>
                </a:lnTo>
                <a:lnTo>
                  <a:pt x="1121" y="0"/>
                </a:lnTo>
                <a:lnTo>
                  <a:pt x="1121" y="1786"/>
                </a:lnTo>
                <a:lnTo>
                  <a:pt x="0" y="2272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105520" y="2916360"/>
            <a:ext cx="520560" cy="2833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05520" y="2143080"/>
            <a:ext cx="1409760" cy="773280"/>
          </a:xfrm>
          <a:custGeom>
            <a:avLst/>
            <a:gdLst/>
            <a:ahLst/>
            <a:rect l="l" t="t" r="r" b="b"/>
            <a:pathLst>
              <a:path w="1776" h="487">
                <a:moveTo>
                  <a:pt x="655" y="487"/>
                </a:moveTo>
                <a:lnTo>
                  <a:pt x="1776" y="0"/>
                </a:lnTo>
                <a:lnTo>
                  <a:pt x="1121" y="0"/>
                </a:lnTo>
                <a:lnTo>
                  <a:pt x="0" y="487"/>
                </a:lnTo>
                <a:lnTo>
                  <a:pt x="655" y="487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950000" y="4303800"/>
            <a:ext cx="633240" cy="43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-285840" y="-52560"/>
            <a:ext cx="127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056560" y="437040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927840" y="2143080"/>
            <a:ext cx="887400" cy="3606840"/>
          </a:xfrm>
          <a:custGeom>
            <a:avLst/>
            <a:gdLst/>
            <a:ahLst/>
            <a:rect l="l" t="t" r="r" b="b"/>
            <a:pathLst>
              <a:path w="1120" h="2272">
                <a:moveTo>
                  <a:pt x="0" y="2272"/>
                </a:moveTo>
                <a:lnTo>
                  <a:pt x="0" y="487"/>
                </a:lnTo>
                <a:lnTo>
                  <a:pt x="1120" y="0"/>
                </a:lnTo>
                <a:lnTo>
                  <a:pt x="1120" y="1786"/>
                </a:lnTo>
                <a:lnTo>
                  <a:pt x="0" y="2272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405480" y="2916360"/>
            <a:ext cx="522360" cy="2833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405480" y="2143080"/>
            <a:ext cx="1409760" cy="773280"/>
          </a:xfrm>
          <a:custGeom>
            <a:avLst/>
            <a:gdLst/>
            <a:ahLst/>
            <a:rect l="l" t="t" r="r" b="b"/>
            <a:pathLst>
              <a:path w="1776" h="487">
                <a:moveTo>
                  <a:pt x="656" y="487"/>
                </a:moveTo>
                <a:lnTo>
                  <a:pt x="1776" y="0"/>
                </a:lnTo>
                <a:lnTo>
                  <a:pt x="1121" y="0"/>
                </a:lnTo>
                <a:lnTo>
                  <a:pt x="0" y="487"/>
                </a:lnTo>
                <a:lnTo>
                  <a:pt x="656" y="487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405480" y="4349880"/>
            <a:ext cx="635040" cy="43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-285840" y="-52560"/>
            <a:ext cx="127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13840" y="4416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84400" y="586260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86160" y="586260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786120" y="586260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087880" y="586260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291000" y="5862600"/>
            <a:ext cx="103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-2006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44960" y="304920"/>
            <a:ext cx="7200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easure 1.2. ”Improving processing and marketing </a:t>
            </a:r>
            <a:endParaRPr b="0" lang="en-US" sz="2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9760" y="609480"/>
            <a:ext cx="7905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f agricultural and fishery products" - approved projects</a:t>
            </a:r>
            <a:endParaRPr b="0" lang="en-US" sz="2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78560" y="1025640"/>
            <a:ext cx="688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otiating the aid of Programme SAPARD (EU + National government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172520" y="1306440"/>
            <a:ext cx="658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01.06.2004 (in %) according to the financial plan by year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865080" y="2643120"/>
            <a:ext cx="641196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65080" y="2643120"/>
            <a:ext cx="641196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762200" y="1857240"/>
            <a:ext cx="877680" cy="3819600"/>
          </a:xfrm>
          <a:custGeom>
            <a:avLst/>
            <a:gdLst/>
            <a:ahLst/>
            <a:rect l="l" t="t" r="r" b="b"/>
            <a:pathLst>
              <a:path w="1106" h="2406">
                <a:moveTo>
                  <a:pt x="0" y="2406"/>
                </a:moveTo>
                <a:lnTo>
                  <a:pt x="0" y="495"/>
                </a:lnTo>
                <a:lnTo>
                  <a:pt x="1106" y="0"/>
                </a:lnTo>
                <a:lnTo>
                  <a:pt x="1106" y="1911"/>
                </a:lnTo>
                <a:lnTo>
                  <a:pt x="0" y="2406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249200" y="2643120"/>
            <a:ext cx="513000" cy="303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249200" y="1857240"/>
            <a:ext cx="1390680" cy="785880"/>
          </a:xfrm>
          <a:custGeom>
            <a:avLst/>
            <a:gdLst/>
            <a:ahLst/>
            <a:rect l="l" t="t" r="r" b="b"/>
            <a:pathLst>
              <a:path w="1753" h="495">
                <a:moveTo>
                  <a:pt x="647" y="495"/>
                </a:moveTo>
                <a:lnTo>
                  <a:pt x="1753" y="0"/>
                </a:lnTo>
                <a:lnTo>
                  <a:pt x="1106" y="0"/>
                </a:lnTo>
                <a:lnTo>
                  <a:pt x="0" y="495"/>
                </a:lnTo>
                <a:lnTo>
                  <a:pt x="647" y="495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146240" y="4059360"/>
            <a:ext cx="615960" cy="43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-285840" y="-241200"/>
            <a:ext cx="12708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2800" y="412596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046320" y="1857240"/>
            <a:ext cx="878040" cy="3819600"/>
          </a:xfrm>
          <a:custGeom>
            <a:avLst/>
            <a:gdLst/>
            <a:ahLst/>
            <a:rect l="l" t="t" r="r" b="b"/>
            <a:pathLst>
              <a:path w="1106" h="2406">
                <a:moveTo>
                  <a:pt x="0" y="2406"/>
                </a:moveTo>
                <a:lnTo>
                  <a:pt x="0" y="495"/>
                </a:lnTo>
                <a:lnTo>
                  <a:pt x="1106" y="0"/>
                </a:lnTo>
                <a:lnTo>
                  <a:pt x="1106" y="1911"/>
                </a:lnTo>
                <a:lnTo>
                  <a:pt x="0" y="2406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32240" y="2643120"/>
            <a:ext cx="514080" cy="303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532240" y="1857240"/>
            <a:ext cx="1392120" cy="785880"/>
          </a:xfrm>
          <a:custGeom>
            <a:avLst/>
            <a:gdLst/>
            <a:ahLst/>
            <a:rect l="l" t="t" r="r" b="b"/>
            <a:pathLst>
              <a:path w="1753" h="495">
                <a:moveTo>
                  <a:pt x="647" y="495"/>
                </a:moveTo>
                <a:lnTo>
                  <a:pt x="1753" y="0"/>
                </a:lnTo>
                <a:lnTo>
                  <a:pt x="1106" y="0"/>
                </a:lnTo>
                <a:lnTo>
                  <a:pt x="0" y="495"/>
                </a:lnTo>
                <a:lnTo>
                  <a:pt x="647" y="495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14600" y="4102200"/>
            <a:ext cx="614520" cy="43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-285840" y="-241200"/>
            <a:ext cx="12708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619720" y="416880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327560" y="1857240"/>
            <a:ext cx="877680" cy="3819600"/>
          </a:xfrm>
          <a:custGeom>
            <a:avLst/>
            <a:gdLst/>
            <a:ahLst/>
            <a:rect l="l" t="t" r="r" b="b"/>
            <a:pathLst>
              <a:path w="1106" h="2406">
                <a:moveTo>
                  <a:pt x="0" y="2406"/>
                </a:moveTo>
                <a:lnTo>
                  <a:pt x="0" y="495"/>
                </a:lnTo>
                <a:lnTo>
                  <a:pt x="1106" y="0"/>
                </a:lnTo>
                <a:lnTo>
                  <a:pt x="1106" y="1911"/>
                </a:lnTo>
                <a:lnTo>
                  <a:pt x="0" y="2406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814920" y="2643120"/>
            <a:ext cx="512640" cy="303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14920" y="1857240"/>
            <a:ext cx="1390320" cy="785880"/>
          </a:xfrm>
          <a:custGeom>
            <a:avLst/>
            <a:gdLst/>
            <a:ahLst/>
            <a:rect l="l" t="t" r="r" b="b"/>
            <a:pathLst>
              <a:path w="1751" h="495">
                <a:moveTo>
                  <a:pt x="645" y="495"/>
                </a:moveTo>
                <a:lnTo>
                  <a:pt x="1751" y="0"/>
                </a:lnTo>
                <a:lnTo>
                  <a:pt x="1106" y="0"/>
                </a:lnTo>
                <a:lnTo>
                  <a:pt x="0" y="495"/>
                </a:lnTo>
                <a:lnTo>
                  <a:pt x="645" y="495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47960" y="4041720"/>
            <a:ext cx="615960" cy="43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-285840" y="-241200"/>
            <a:ext cx="12708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853080" y="410832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610240" y="3614760"/>
            <a:ext cx="878040" cy="2062080"/>
          </a:xfrm>
          <a:custGeom>
            <a:avLst/>
            <a:gdLst/>
            <a:ahLst/>
            <a:rect l="l" t="t" r="r" b="b"/>
            <a:pathLst>
              <a:path w="1106" h="1299">
                <a:moveTo>
                  <a:pt x="0" y="1299"/>
                </a:moveTo>
                <a:lnTo>
                  <a:pt x="0" y="494"/>
                </a:lnTo>
                <a:lnTo>
                  <a:pt x="1106" y="0"/>
                </a:lnTo>
                <a:lnTo>
                  <a:pt x="1106" y="804"/>
                </a:lnTo>
                <a:lnTo>
                  <a:pt x="0" y="1299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097600" y="4398840"/>
            <a:ext cx="512640" cy="1278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097600" y="3614760"/>
            <a:ext cx="1390680" cy="784080"/>
          </a:xfrm>
          <a:custGeom>
            <a:avLst/>
            <a:gdLst/>
            <a:ahLst/>
            <a:rect l="l" t="t" r="r" b="b"/>
            <a:pathLst>
              <a:path w="1753" h="494">
                <a:moveTo>
                  <a:pt x="647" y="494"/>
                </a:moveTo>
                <a:lnTo>
                  <a:pt x="1753" y="0"/>
                </a:lnTo>
                <a:lnTo>
                  <a:pt x="1106" y="0"/>
                </a:lnTo>
                <a:lnTo>
                  <a:pt x="0" y="494"/>
                </a:lnTo>
                <a:lnTo>
                  <a:pt x="647" y="494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092560" y="4770360"/>
            <a:ext cx="493920" cy="4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-285840" y="-241200"/>
            <a:ext cx="12708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194800" y="48369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894360" y="3244680"/>
            <a:ext cx="878040" cy="2432160"/>
          </a:xfrm>
          <a:custGeom>
            <a:avLst/>
            <a:gdLst/>
            <a:ahLst/>
            <a:rect l="l" t="t" r="r" b="b"/>
            <a:pathLst>
              <a:path w="1106" h="1532">
                <a:moveTo>
                  <a:pt x="0" y="1532"/>
                </a:moveTo>
                <a:lnTo>
                  <a:pt x="0" y="494"/>
                </a:lnTo>
                <a:lnTo>
                  <a:pt x="1106" y="0"/>
                </a:lnTo>
                <a:lnTo>
                  <a:pt x="1106" y="1037"/>
                </a:lnTo>
                <a:lnTo>
                  <a:pt x="0" y="1532"/>
                </a:lnTo>
                <a:close/>
              </a:path>
            </a:pathLst>
          </a:custGeom>
          <a:solidFill>
            <a:srgbClr val="4d4d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380280" y="4029120"/>
            <a:ext cx="514080" cy="1647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380280" y="3244680"/>
            <a:ext cx="1392120" cy="784440"/>
          </a:xfrm>
          <a:custGeom>
            <a:avLst/>
            <a:gdLst/>
            <a:ahLst/>
            <a:rect l="l" t="t" r="r" b="b"/>
            <a:pathLst>
              <a:path w="1753" h="494">
                <a:moveTo>
                  <a:pt x="647" y="494"/>
                </a:moveTo>
                <a:lnTo>
                  <a:pt x="1753" y="0"/>
                </a:lnTo>
                <a:lnTo>
                  <a:pt x="1106" y="0"/>
                </a:lnTo>
                <a:lnTo>
                  <a:pt x="0" y="494"/>
                </a:lnTo>
                <a:lnTo>
                  <a:pt x="647" y="494"/>
                </a:lnTo>
                <a:close/>
              </a:path>
            </a:pathLst>
          </a:custGeom>
          <a:solidFill>
            <a:srgbClr val="737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13400" y="4699080"/>
            <a:ext cx="493920" cy="43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-285840" y="-241200"/>
            <a:ext cx="12708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515640" y="476568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184760" y="580536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467440" y="580536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750120" y="580536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032440" y="580536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3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199560" y="5805360"/>
            <a:ext cx="122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-2006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334520" y="138240"/>
            <a:ext cx="755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asure 2.1.” </a:t>
            </a:r>
            <a:r>
              <a:rPr b="1" lang="en-US" sz="2100" spc="-1" strike="noStrike">
                <a:solidFill>
                  <a:srgbClr val="006699"/>
                </a:solidFill>
                <a:latin typeface="Arial"/>
              </a:rPr>
              <a:t>Development and diversification of economic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397520" y="473040"/>
            <a:ext cx="7204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tivities, </a:t>
            </a:r>
            <a:r>
              <a:rPr b="1" lang="en-US" sz="2100" spc="-1" strike="noStrike">
                <a:solidFill>
                  <a:srgbClr val="006699"/>
                </a:solidFill>
                <a:latin typeface="Arial"/>
              </a:rPr>
              <a:t>providing for multiple activities and alternative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71800" y="838080"/>
            <a:ext cx="355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99"/>
                </a:solidFill>
                <a:latin typeface="Arial"/>
              </a:rPr>
              <a:t>income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- approved projects</a:t>
            </a:r>
            <a:endParaRPr b="0" lang="en-US" sz="2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307160" y="1143000"/>
            <a:ext cx="688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otiating the aid of Programme SAPARD (EU + National government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56240" y="1432080"/>
            <a:ext cx="159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01.06.2004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560520" y="868320"/>
            <a:ext cx="8462880" cy="4170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60520" y="4344840"/>
            <a:ext cx="8462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60520" y="3648240"/>
            <a:ext cx="846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60520" y="2954160"/>
            <a:ext cx="8462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60520" y="2259000"/>
            <a:ext cx="846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60520" y="1563840"/>
            <a:ext cx="846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60520" y="868320"/>
            <a:ext cx="8462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60520" y="868320"/>
            <a:ext cx="8462880" cy="4170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4438800"/>
            <a:ext cx="203400" cy="5997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912960" y="3637080"/>
            <a:ext cx="199800" cy="14014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214280" y="2604960"/>
            <a:ext cx="201600" cy="24336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517760" y="3551400"/>
            <a:ext cx="201600" cy="14871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819440" y="3092400"/>
            <a:ext cx="201600" cy="19461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120760" y="4867200"/>
            <a:ext cx="201600" cy="1713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424240" y="4294080"/>
            <a:ext cx="201600" cy="7444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27360" y="4724280"/>
            <a:ext cx="200160" cy="314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029040" y="2205000"/>
            <a:ext cx="201600" cy="28335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330720" y="4924440"/>
            <a:ext cx="201600" cy="1141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632040" y="4780080"/>
            <a:ext cx="201600" cy="2584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935520" y="4324320"/>
            <a:ext cx="201600" cy="7142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238640" y="4410000"/>
            <a:ext cx="200160" cy="6285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538520" y="3492360"/>
            <a:ext cx="203400" cy="15462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842000" y="4809960"/>
            <a:ext cx="201600" cy="2286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145120" y="3836880"/>
            <a:ext cx="200160" cy="12016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446800" y="1231920"/>
            <a:ext cx="201600" cy="38066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748480" y="3665520"/>
            <a:ext cx="203040" cy="13730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051600" y="3665520"/>
            <a:ext cx="199800" cy="13730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353280" y="2719440"/>
            <a:ext cx="201600" cy="231912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656400" y="4094280"/>
            <a:ext cx="201600" cy="944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958080" y="4094280"/>
            <a:ext cx="201600" cy="9442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259760" y="3894120"/>
            <a:ext cx="201600" cy="114444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562880" y="2892600"/>
            <a:ext cx="200160" cy="21459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864560" y="4065480"/>
            <a:ext cx="201600" cy="9730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166240" y="3979800"/>
            <a:ext cx="203040" cy="10587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469360" y="4065480"/>
            <a:ext cx="199800" cy="97308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771040" y="3979800"/>
            <a:ext cx="201600" cy="105876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60520" y="868320"/>
            <a:ext cx="1440" cy="417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06520" y="50385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06520" y="434484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06520" y="36482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06520" y="2954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06520" y="22590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06520" y="1563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06520" y="86832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60520" y="5038560"/>
            <a:ext cx="8462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6052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86364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16532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46700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177012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207180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237492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67660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297828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28140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58308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88620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18788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48956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79268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5095800" y="503856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39604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69916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6002280" y="503856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630396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660564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908760" y="503856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721044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513560" y="503856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781380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811692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8420040" y="503856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872172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9023400" y="503856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76240" y="244440"/>
            <a:ext cx="5578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stribution of the approved projects by 01.06.2004г.   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-181080" y="-201600"/>
            <a:ext cx="1098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150160" y="944640"/>
            <a:ext cx="102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vdiv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-181080" y="-201600"/>
            <a:ext cx="1098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076520" y="2548080"/>
            <a:ext cx="132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ara Zagora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-181080" y="-201600"/>
            <a:ext cx="1098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334880" y="320688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rna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-181080" y="-201600"/>
            <a:ext cx="1098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84600" y="1860480"/>
            <a:ext cx="81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obrich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-181080" y="-201600"/>
            <a:ext cx="1098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22440" y="2374920"/>
            <a:ext cx="720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listra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-181080" y="-201600"/>
            <a:ext cx="1098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00080" y="2260440"/>
            <a:ext cx="880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urgas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-181080" y="-201600"/>
            <a:ext cx="1098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137840" y="3198960"/>
            <a:ext cx="100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zardjik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-181080" y="-201600"/>
            <a:ext cx="10980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13960" y="2781360"/>
            <a:ext cx="1119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. Tarnovo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320" y="491004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47320" y="421488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47320" y="351936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47320" y="282420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47320" y="213048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5520" y="143352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55520" y="7398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rot="18900000">
            <a:off x="-25560" y="5559120"/>
            <a:ext cx="86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fia-city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rot="18900000">
            <a:off x="120960" y="5594040"/>
            <a:ext cx="112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agoevgrad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rot="18900000">
            <a:off x="758880" y="535752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ourgas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rot="18900000">
            <a:off x="1139760" y="5381640"/>
            <a:ext cx="54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arn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rot="18900000">
            <a:off x="1175760" y="5555880"/>
            <a:ext cx="851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.Tanovo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rot="18900000">
            <a:off x="1749960" y="5435280"/>
            <a:ext cx="43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idi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rot="18900000">
            <a:off x="2061720" y="5339880"/>
            <a:ext cx="60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ratsa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rot="18900000">
            <a:off x="2203200" y="5439600"/>
            <a:ext cx="78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abrovo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rot="18900000">
            <a:off x="2557080" y="540180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obrich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rot="18900000">
            <a:off x="2735640" y="5573520"/>
            <a:ext cx="70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ardjal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rot="18900000">
            <a:off x="2928240" y="56163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iustendi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rot="18900000">
            <a:off x="3539520" y="533520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vech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18900000">
            <a:off x="3679560" y="5513400"/>
            <a:ext cx="73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tan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900000">
            <a:off x="3899160" y="5587200"/>
            <a:ext cx="78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zardjik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rot="18900000">
            <a:off x="4403160" y="5433120"/>
            <a:ext cx="59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ernik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rot="18900000">
            <a:off x="4696920" y="5430600"/>
            <a:ext cx="62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eve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rot="18900000">
            <a:off x="4920120" y="549540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ovdiv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rot="18900000">
            <a:off x="5244480" y="5427360"/>
            <a:ext cx="75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azgrad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18900000">
            <a:off x="5752800" y="5322960"/>
            <a:ext cx="46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Русе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rot="18900000">
            <a:off x="5759280" y="5601600"/>
            <a:ext cx="64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ilistr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rot="18900000">
            <a:off x="6209280" y="5451120"/>
            <a:ext cx="57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live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rot="18900000">
            <a:off x="6471720" y="5412960"/>
            <a:ext cx="74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molia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rot="18900000">
            <a:off x="6550200" y="5562000"/>
            <a:ext cx="103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ofia regio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rot="18900000">
            <a:off x="6708240" y="5666760"/>
            <a:ext cx="114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ara Zagor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rot="18900000">
            <a:off x="7151400" y="5531760"/>
            <a:ext cx="105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rgovisht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rot="18900000">
            <a:off x="7650000" y="5423760"/>
            <a:ext cx="79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askovo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rot="18900000">
            <a:off x="8023680" y="53542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hume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rot="18900000">
            <a:off x="8355960" y="5385960"/>
            <a:ext cx="62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ambo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98560" y="765000"/>
            <a:ext cx="3081240" cy="7020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503360" y="1055520"/>
            <a:ext cx="106200" cy="136800"/>
          </a:xfrm>
          <a:prstGeom prst="rect">
            <a:avLst/>
          </a:prstGeom>
          <a:solidFill>
            <a:srgbClr val="ff99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4200" y="996840"/>
            <a:ext cx="165564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% of all projects</a:t>
            </a:r>
            <a:endParaRPr b="0" lang="en-US" sz="17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0:00:45Z</dcterms:created>
  <dc:creator>apis</dc:creator>
  <dc:description/>
  <dc:language>en-US</dc:language>
  <cp:lastModifiedBy>Victor Chirikov</cp:lastModifiedBy>
  <dcterms:modified xsi:type="dcterms:W3CDTF">2004-12-20T04:43:44Z</dcterms:modified>
  <cp:revision>48</cp:revision>
  <dc:subject/>
  <dc:title>Програма САПАРД към 01.12.2003г.</dc:title>
</cp:coreProperties>
</file>